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866B-A801-4B0C-9FBE-25BF40CA3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0F20-0DF0-4514-BA6C-A2C1DC7B1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DD88F-313B-4866-AF46-BB160423F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0B442-0512-4516-AA61-949674317C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1716-B4F1-4783-B703-C63229FFF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3761-4D39-4444-ABAC-85665C3BE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A711F-D80B-4C14-9D0D-744682561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E358A-B867-4604-AC50-936397E4E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AC954-37DF-49F7-8399-F3DFE4685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D301-1C3C-4E7A-86BD-EBB9A51F6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FD7A4-B575-4C65-98AD-3A29E0BB1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A9B1-CD02-4D60-A8D6-435F4FAEA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980720" y="6477120"/>
            <a:ext cx="4343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598D-7916-4915-9E2C-7A6748CC0D88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tage 2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Accessing Resources</a:t>
            </a:r>
            <a:endParaRPr b="1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6840" y="35053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 Success  @ Your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uide for Secondary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71840" y="463680"/>
            <a:ext cx="4502160" cy="5790960"/>
            <a:chOff x="4371840" y="463680"/>
            <a:chExt cx="4502160" cy="57909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71840" y="463680"/>
              <a:ext cx="450216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495680" y="609480"/>
              <a:ext cx="4267440" cy="5486400"/>
            </a:xfrm>
            <a:prstGeom prst="rect">
              <a:avLst/>
            </a:prstGeom>
            <a:solidFill>
              <a:srgbClr val="66ff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F79E4-61F9-4485-B64B-2395CF4667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95160" y="101520"/>
            <a:ext cx="782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Human Resources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Conducting an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371600"/>
            <a:ext cx="6172200" cy="45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Making Initial Contact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phone or write a letter to request an inter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your communication, demonstrate some knowledge of the person and/or institution/comp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 yourself and state the reason for the inter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 specific about how long the interview will 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ou wish, ask if you can tape- record the interview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33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43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768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24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5288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26240" y="1523880"/>
            <a:ext cx="21891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75560" y="1531800"/>
            <a:ext cx="2128680" cy="2190960"/>
          </a:xfrm>
          <a:custGeom>
            <a:avLst/>
            <a:gdLst/>
            <a:ahLst/>
            <a:rect l="l" t="t" r="r" b="b"/>
            <a:pathLst>
              <a:path w="1341" h="1380">
                <a:moveTo>
                  <a:pt x="0" y="1202"/>
                </a:moveTo>
                <a:lnTo>
                  <a:pt x="11" y="1149"/>
                </a:lnTo>
                <a:lnTo>
                  <a:pt x="21" y="1095"/>
                </a:lnTo>
                <a:lnTo>
                  <a:pt x="26" y="1040"/>
                </a:lnTo>
                <a:lnTo>
                  <a:pt x="30" y="986"/>
                </a:lnTo>
                <a:lnTo>
                  <a:pt x="30" y="933"/>
                </a:lnTo>
                <a:lnTo>
                  <a:pt x="30" y="879"/>
                </a:lnTo>
                <a:lnTo>
                  <a:pt x="28" y="824"/>
                </a:lnTo>
                <a:lnTo>
                  <a:pt x="26" y="770"/>
                </a:lnTo>
                <a:lnTo>
                  <a:pt x="37" y="726"/>
                </a:lnTo>
                <a:lnTo>
                  <a:pt x="39" y="681"/>
                </a:lnTo>
                <a:lnTo>
                  <a:pt x="34" y="636"/>
                </a:lnTo>
                <a:lnTo>
                  <a:pt x="28" y="592"/>
                </a:lnTo>
                <a:lnTo>
                  <a:pt x="23" y="549"/>
                </a:lnTo>
                <a:lnTo>
                  <a:pt x="23" y="507"/>
                </a:lnTo>
                <a:lnTo>
                  <a:pt x="30" y="467"/>
                </a:lnTo>
                <a:lnTo>
                  <a:pt x="50" y="431"/>
                </a:lnTo>
                <a:lnTo>
                  <a:pt x="63" y="391"/>
                </a:lnTo>
                <a:lnTo>
                  <a:pt x="69" y="351"/>
                </a:lnTo>
                <a:lnTo>
                  <a:pt x="67" y="311"/>
                </a:lnTo>
                <a:lnTo>
                  <a:pt x="59" y="271"/>
                </a:lnTo>
                <a:lnTo>
                  <a:pt x="50" y="229"/>
                </a:lnTo>
                <a:lnTo>
                  <a:pt x="41" y="189"/>
                </a:lnTo>
                <a:lnTo>
                  <a:pt x="35" y="149"/>
                </a:lnTo>
                <a:lnTo>
                  <a:pt x="35" y="111"/>
                </a:lnTo>
                <a:lnTo>
                  <a:pt x="35" y="102"/>
                </a:lnTo>
                <a:lnTo>
                  <a:pt x="37" y="91"/>
                </a:lnTo>
                <a:lnTo>
                  <a:pt x="37" y="82"/>
                </a:lnTo>
                <a:lnTo>
                  <a:pt x="39" y="73"/>
                </a:lnTo>
                <a:lnTo>
                  <a:pt x="39" y="64"/>
                </a:lnTo>
                <a:lnTo>
                  <a:pt x="37" y="57"/>
                </a:lnTo>
                <a:lnTo>
                  <a:pt x="35" y="48"/>
                </a:lnTo>
                <a:lnTo>
                  <a:pt x="34" y="40"/>
                </a:lnTo>
                <a:lnTo>
                  <a:pt x="35" y="11"/>
                </a:lnTo>
                <a:lnTo>
                  <a:pt x="65" y="2"/>
                </a:lnTo>
                <a:lnTo>
                  <a:pt x="93" y="0"/>
                </a:lnTo>
                <a:lnTo>
                  <a:pt x="120" y="6"/>
                </a:lnTo>
                <a:lnTo>
                  <a:pt x="150" y="13"/>
                </a:lnTo>
                <a:lnTo>
                  <a:pt x="178" y="24"/>
                </a:lnTo>
                <a:lnTo>
                  <a:pt x="205" y="31"/>
                </a:lnTo>
                <a:lnTo>
                  <a:pt x="233" y="37"/>
                </a:lnTo>
                <a:lnTo>
                  <a:pt x="263" y="35"/>
                </a:lnTo>
                <a:lnTo>
                  <a:pt x="311" y="20"/>
                </a:lnTo>
                <a:lnTo>
                  <a:pt x="359" y="15"/>
                </a:lnTo>
                <a:lnTo>
                  <a:pt x="405" y="15"/>
                </a:lnTo>
                <a:lnTo>
                  <a:pt x="453" y="17"/>
                </a:lnTo>
                <a:lnTo>
                  <a:pt x="501" y="20"/>
                </a:lnTo>
                <a:lnTo>
                  <a:pt x="547" y="22"/>
                </a:lnTo>
                <a:lnTo>
                  <a:pt x="595" y="22"/>
                </a:lnTo>
                <a:lnTo>
                  <a:pt x="643" y="17"/>
                </a:lnTo>
                <a:lnTo>
                  <a:pt x="683" y="33"/>
                </a:lnTo>
                <a:lnTo>
                  <a:pt x="724" y="40"/>
                </a:lnTo>
                <a:lnTo>
                  <a:pt x="766" y="42"/>
                </a:lnTo>
                <a:lnTo>
                  <a:pt x="807" y="37"/>
                </a:lnTo>
                <a:lnTo>
                  <a:pt x="850" y="29"/>
                </a:lnTo>
                <a:lnTo>
                  <a:pt x="892" y="22"/>
                </a:lnTo>
                <a:lnTo>
                  <a:pt x="934" y="15"/>
                </a:lnTo>
                <a:lnTo>
                  <a:pt x="975" y="11"/>
                </a:lnTo>
                <a:lnTo>
                  <a:pt x="999" y="11"/>
                </a:lnTo>
                <a:lnTo>
                  <a:pt x="1021" y="13"/>
                </a:lnTo>
                <a:lnTo>
                  <a:pt x="1043" y="15"/>
                </a:lnTo>
                <a:lnTo>
                  <a:pt x="1066" y="17"/>
                </a:lnTo>
                <a:lnTo>
                  <a:pt x="1088" y="19"/>
                </a:lnTo>
                <a:lnTo>
                  <a:pt x="1110" y="20"/>
                </a:lnTo>
                <a:lnTo>
                  <a:pt x="1130" y="22"/>
                </a:lnTo>
                <a:lnTo>
                  <a:pt x="1150" y="20"/>
                </a:lnTo>
                <a:lnTo>
                  <a:pt x="1174" y="28"/>
                </a:lnTo>
                <a:lnTo>
                  <a:pt x="1197" y="31"/>
                </a:lnTo>
                <a:lnTo>
                  <a:pt x="1219" y="29"/>
                </a:lnTo>
                <a:lnTo>
                  <a:pt x="1241" y="26"/>
                </a:lnTo>
                <a:lnTo>
                  <a:pt x="1265" y="20"/>
                </a:lnTo>
                <a:lnTo>
                  <a:pt x="1287" y="15"/>
                </a:lnTo>
                <a:lnTo>
                  <a:pt x="1309" y="8"/>
                </a:lnTo>
                <a:lnTo>
                  <a:pt x="1331" y="4"/>
                </a:lnTo>
                <a:lnTo>
                  <a:pt x="1333" y="17"/>
                </a:lnTo>
                <a:lnTo>
                  <a:pt x="1331" y="29"/>
                </a:lnTo>
                <a:lnTo>
                  <a:pt x="1328" y="44"/>
                </a:lnTo>
                <a:lnTo>
                  <a:pt x="1322" y="59"/>
                </a:lnTo>
                <a:lnTo>
                  <a:pt x="1317" y="75"/>
                </a:lnTo>
                <a:lnTo>
                  <a:pt x="1311" y="91"/>
                </a:lnTo>
                <a:lnTo>
                  <a:pt x="1309" y="106"/>
                </a:lnTo>
                <a:lnTo>
                  <a:pt x="1311" y="122"/>
                </a:lnTo>
                <a:lnTo>
                  <a:pt x="1311" y="151"/>
                </a:lnTo>
                <a:lnTo>
                  <a:pt x="1313" y="180"/>
                </a:lnTo>
                <a:lnTo>
                  <a:pt x="1313" y="207"/>
                </a:lnTo>
                <a:lnTo>
                  <a:pt x="1313" y="236"/>
                </a:lnTo>
                <a:lnTo>
                  <a:pt x="1311" y="264"/>
                </a:lnTo>
                <a:lnTo>
                  <a:pt x="1311" y="293"/>
                </a:lnTo>
                <a:lnTo>
                  <a:pt x="1313" y="320"/>
                </a:lnTo>
                <a:lnTo>
                  <a:pt x="1313" y="349"/>
                </a:lnTo>
                <a:lnTo>
                  <a:pt x="1317" y="371"/>
                </a:lnTo>
                <a:lnTo>
                  <a:pt x="1320" y="391"/>
                </a:lnTo>
                <a:lnTo>
                  <a:pt x="1326" y="412"/>
                </a:lnTo>
                <a:lnTo>
                  <a:pt x="1331" y="432"/>
                </a:lnTo>
                <a:lnTo>
                  <a:pt x="1337" y="452"/>
                </a:lnTo>
                <a:lnTo>
                  <a:pt x="1341" y="470"/>
                </a:lnTo>
                <a:lnTo>
                  <a:pt x="1341" y="490"/>
                </a:lnTo>
                <a:lnTo>
                  <a:pt x="1339" y="510"/>
                </a:lnTo>
                <a:lnTo>
                  <a:pt x="1322" y="556"/>
                </a:lnTo>
                <a:lnTo>
                  <a:pt x="1317" y="599"/>
                </a:lnTo>
                <a:lnTo>
                  <a:pt x="1318" y="645"/>
                </a:lnTo>
                <a:lnTo>
                  <a:pt x="1322" y="690"/>
                </a:lnTo>
                <a:lnTo>
                  <a:pt x="1326" y="735"/>
                </a:lnTo>
                <a:lnTo>
                  <a:pt x="1328" y="781"/>
                </a:lnTo>
                <a:lnTo>
                  <a:pt x="1322" y="824"/>
                </a:lnTo>
                <a:lnTo>
                  <a:pt x="1309" y="870"/>
                </a:lnTo>
                <a:lnTo>
                  <a:pt x="1309" y="886"/>
                </a:lnTo>
                <a:lnTo>
                  <a:pt x="1307" y="904"/>
                </a:lnTo>
                <a:lnTo>
                  <a:pt x="1306" y="921"/>
                </a:lnTo>
                <a:lnTo>
                  <a:pt x="1304" y="939"/>
                </a:lnTo>
                <a:lnTo>
                  <a:pt x="1300" y="955"/>
                </a:lnTo>
                <a:lnTo>
                  <a:pt x="1296" y="971"/>
                </a:lnTo>
                <a:lnTo>
                  <a:pt x="1294" y="990"/>
                </a:lnTo>
                <a:lnTo>
                  <a:pt x="1291" y="1006"/>
                </a:lnTo>
                <a:lnTo>
                  <a:pt x="1287" y="1031"/>
                </a:lnTo>
                <a:lnTo>
                  <a:pt x="1287" y="1057"/>
                </a:lnTo>
                <a:lnTo>
                  <a:pt x="1289" y="1082"/>
                </a:lnTo>
                <a:lnTo>
                  <a:pt x="1294" y="1108"/>
                </a:lnTo>
                <a:lnTo>
                  <a:pt x="1300" y="1133"/>
                </a:lnTo>
                <a:lnTo>
                  <a:pt x="1304" y="1158"/>
                </a:lnTo>
                <a:lnTo>
                  <a:pt x="1304" y="1186"/>
                </a:lnTo>
                <a:lnTo>
                  <a:pt x="1300" y="1211"/>
                </a:lnTo>
                <a:lnTo>
                  <a:pt x="1302" y="1229"/>
                </a:lnTo>
                <a:lnTo>
                  <a:pt x="1302" y="1247"/>
                </a:lnTo>
                <a:lnTo>
                  <a:pt x="1302" y="1265"/>
                </a:lnTo>
                <a:lnTo>
                  <a:pt x="1302" y="1284"/>
                </a:lnTo>
                <a:lnTo>
                  <a:pt x="1302" y="1302"/>
                </a:lnTo>
                <a:lnTo>
                  <a:pt x="1304" y="1318"/>
                </a:lnTo>
                <a:lnTo>
                  <a:pt x="1306" y="1336"/>
                </a:lnTo>
                <a:lnTo>
                  <a:pt x="1311" y="1353"/>
                </a:lnTo>
                <a:lnTo>
                  <a:pt x="1293" y="1358"/>
                </a:lnTo>
                <a:lnTo>
                  <a:pt x="1274" y="1362"/>
                </a:lnTo>
                <a:lnTo>
                  <a:pt x="1256" y="1363"/>
                </a:lnTo>
                <a:lnTo>
                  <a:pt x="1235" y="1363"/>
                </a:lnTo>
                <a:lnTo>
                  <a:pt x="1215" y="1363"/>
                </a:lnTo>
                <a:lnTo>
                  <a:pt x="1195" y="1363"/>
                </a:lnTo>
                <a:lnTo>
                  <a:pt x="1174" y="1365"/>
                </a:lnTo>
                <a:lnTo>
                  <a:pt x="1154" y="1367"/>
                </a:lnTo>
                <a:lnTo>
                  <a:pt x="1125" y="1362"/>
                </a:lnTo>
                <a:lnTo>
                  <a:pt x="1093" y="1356"/>
                </a:lnTo>
                <a:lnTo>
                  <a:pt x="1064" y="1354"/>
                </a:lnTo>
                <a:lnTo>
                  <a:pt x="1032" y="1351"/>
                </a:lnTo>
                <a:lnTo>
                  <a:pt x="1003" y="1351"/>
                </a:lnTo>
                <a:lnTo>
                  <a:pt x="971" y="1353"/>
                </a:lnTo>
                <a:lnTo>
                  <a:pt x="942" y="1358"/>
                </a:lnTo>
                <a:lnTo>
                  <a:pt x="914" y="1363"/>
                </a:lnTo>
                <a:lnTo>
                  <a:pt x="883" y="1369"/>
                </a:lnTo>
                <a:lnTo>
                  <a:pt x="851" y="1374"/>
                </a:lnTo>
                <a:lnTo>
                  <a:pt x="820" y="1378"/>
                </a:lnTo>
                <a:lnTo>
                  <a:pt x="789" y="1380"/>
                </a:lnTo>
                <a:lnTo>
                  <a:pt x="759" y="1380"/>
                </a:lnTo>
                <a:lnTo>
                  <a:pt x="728" y="1376"/>
                </a:lnTo>
                <a:lnTo>
                  <a:pt x="698" y="1372"/>
                </a:lnTo>
                <a:lnTo>
                  <a:pt x="669" y="1365"/>
                </a:lnTo>
                <a:lnTo>
                  <a:pt x="589" y="1356"/>
                </a:lnTo>
                <a:lnTo>
                  <a:pt x="512" y="1356"/>
                </a:lnTo>
                <a:lnTo>
                  <a:pt x="434" y="1362"/>
                </a:lnTo>
                <a:lnTo>
                  <a:pt x="357" y="1369"/>
                </a:lnTo>
                <a:lnTo>
                  <a:pt x="281" y="1376"/>
                </a:lnTo>
                <a:lnTo>
                  <a:pt x="203" y="1380"/>
                </a:lnTo>
                <a:lnTo>
                  <a:pt x="128" y="1374"/>
                </a:lnTo>
                <a:lnTo>
                  <a:pt x="50" y="1360"/>
                </a:lnTo>
                <a:lnTo>
                  <a:pt x="45" y="1358"/>
                </a:lnTo>
                <a:lnTo>
                  <a:pt x="39" y="1358"/>
                </a:lnTo>
                <a:lnTo>
                  <a:pt x="34" y="1358"/>
                </a:lnTo>
                <a:lnTo>
                  <a:pt x="30" y="1358"/>
                </a:lnTo>
                <a:lnTo>
                  <a:pt x="24" y="1360"/>
                </a:lnTo>
                <a:lnTo>
                  <a:pt x="21" y="1360"/>
                </a:lnTo>
                <a:lnTo>
                  <a:pt x="15" y="1360"/>
                </a:lnTo>
                <a:lnTo>
                  <a:pt x="11" y="1358"/>
                </a:lnTo>
                <a:lnTo>
                  <a:pt x="17" y="1340"/>
                </a:lnTo>
                <a:lnTo>
                  <a:pt x="21" y="1320"/>
                </a:lnTo>
                <a:lnTo>
                  <a:pt x="23" y="1300"/>
                </a:lnTo>
                <a:lnTo>
                  <a:pt x="21" y="1280"/>
                </a:lnTo>
                <a:lnTo>
                  <a:pt x="19" y="1260"/>
                </a:lnTo>
                <a:lnTo>
                  <a:pt x="15" y="1240"/>
                </a:lnTo>
                <a:lnTo>
                  <a:pt x="8" y="1222"/>
                </a:lnTo>
                <a:lnTo>
                  <a:pt x="0" y="1202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08680" y="1584360"/>
            <a:ext cx="2051280" cy="2111400"/>
          </a:xfrm>
          <a:custGeom>
            <a:avLst/>
            <a:gdLst/>
            <a:ahLst/>
            <a:rect l="l" t="t" r="r" b="b"/>
            <a:pathLst>
              <a:path w="1292" h="1330">
                <a:moveTo>
                  <a:pt x="3" y="1165"/>
                </a:moveTo>
                <a:lnTo>
                  <a:pt x="16" y="1098"/>
                </a:lnTo>
                <a:lnTo>
                  <a:pt x="24" y="1027"/>
                </a:lnTo>
                <a:lnTo>
                  <a:pt x="27" y="958"/>
                </a:lnTo>
                <a:lnTo>
                  <a:pt x="27" y="888"/>
                </a:lnTo>
                <a:lnTo>
                  <a:pt x="27" y="819"/>
                </a:lnTo>
                <a:lnTo>
                  <a:pt x="27" y="748"/>
                </a:lnTo>
                <a:lnTo>
                  <a:pt x="29" y="677"/>
                </a:lnTo>
                <a:lnTo>
                  <a:pt x="35" y="606"/>
                </a:lnTo>
                <a:lnTo>
                  <a:pt x="33" y="599"/>
                </a:lnTo>
                <a:lnTo>
                  <a:pt x="31" y="592"/>
                </a:lnTo>
                <a:lnTo>
                  <a:pt x="29" y="586"/>
                </a:lnTo>
                <a:lnTo>
                  <a:pt x="27" y="579"/>
                </a:lnTo>
                <a:lnTo>
                  <a:pt x="26" y="572"/>
                </a:lnTo>
                <a:lnTo>
                  <a:pt x="26" y="566"/>
                </a:lnTo>
                <a:lnTo>
                  <a:pt x="24" y="561"/>
                </a:lnTo>
                <a:lnTo>
                  <a:pt x="24" y="555"/>
                </a:lnTo>
                <a:lnTo>
                  <a:pt x="35" y="530"/>
                </a:lnTo>
                <a:lnTo>
                  <a:pt x="27" y="490"/>
                </a:lnTo>
                <a:lnTo>
                  <a:pt x="31" y="448"/>
                </a:lnTo>
                <a:lnTo>
                  <a:pt x="44" y="408"/>
                </a:lnTo>
                <a:lnTo>
                  <a:pt x="57" y="369"/>
                </a:lnTo>
                <a:lnTo>
                  <a:pt x="70" y="327"/>
                </a:lnTo>
                <a:lnTo>
                  <a:pt x="75" y="287"/>
                </a:lnTo>
                <a:lnTo>
                  <a:pt x="72" y="245"/>
                </a:lnTo>
                <a:lnTo>
                  <a:pt x="53" y="203"/>
                </a:lnTo>
                <a:lnTo>
                  <a:pt x="51" y="178"/>
                </a:lnTo>
                <a:lnTo>
                  <a:pt x="50" y="153"/>
                </a:lnTo>
                <a:lnTo>
                  <a:pt x="48" y="127"/>
                </a:lnTo>
                <a:lnTo>
                  <a:pt x="46" y="102"/>
                </a:lnTo>
                <a:lnTo>
                  <a:pt x="42" y="76"/>
                </a:lnTo>
                <a:lnTo>
                  <a:pt x="40" y="51"/>
                </a:lnTo>
                <a:lnTo>
                  <a:pt x="38" y="26"/>
                </a:lnTo>
                <a:lnTo>
                  <a:pt x="38" y="2"/>
                </a:lnTo>
                <a:lnTo>
                  <a:pt x="75" y="6"/>
                </a:lnTo>
                <a:lnTo>
                  <a:pt x="112" y="11"/>
                </a:lnTo>
                <a:lnTo>
                  <a:pt x="151" y="18"/>
                </a:lnTo>
                <a:lnTo>
                  <a:pt x="190" y="26"/>
                </a:lnTo>
                <a:lnTo>
                  <a:pt x="229" y="29"/>
                </a:lnTo>
                <a:lnTo>
                  <a:pt x="267" y="27"/>
                </a:lnTo>
                <a:lnTo>
                  <a:pt x="308" y="20"/>
                </a:lnTo>
                <a:lnTo>
                  <a:pt x="349" y="4"/>
                </a:lnTo>
                <a:lnTo>
                  <a:pt x="362" y="6"/>
                </a:lnTo>
                <a:lnTo>
                  <a:pt x="374" y="7"/>
                </a:lnTo>
                <a:lnTo>
                  <a:pt x="387" y="11"/>
                </a:lnTo>
                <a:lnTo>
                  <a:pt x="400" y="11"/>
                </a:lnTo>
                <a:lnTo>
                  <a:pt x="413" y="13"/>
                </a:lnTo>
                <a:lnTo>
                  <a:pt x="426" y="15"/>
                </a:lnTo>
                <a:lnTo>
                  <a:pt x="439" y="16"/>
                </a:lnTo>
                <a:lnTo>
                  <a:pt x="452" y="18"/>
                </a:lnTo>
                <a:lnTo>
                  <a:pt x="483" y="22"/>
                </a:lnTo>
                <a:lnTo>
                  <a:pt x="515" y="22"/>
                </a:lnTo>
                <a:lnTo>
                  <a:pt x="544" y="18"/>
                </a:lnTo>
                <a:lnTo>
                  <a:pt x="576" y="16"/>
                </a:lnTo>
                <a:lnTo>
                  <a:pt x="605" y="16"/>
                </a:lnTo>
                <a:lnTo>
                  <a:pt x="637" y="18"/>
                </a:lnTo>
                <a:lnTo>
                  <a:pt x="664" y="24"/>
                </a:lnTo>
                <a:lnTo>
                  <a:pt x="694" y="35"/>
                </a:lnTo>
                <a:lnTo>
                  <a:pt x="718" y="35"/>
                </a:lnTo>
                <a:lnTo>
                  <a:pt x="742" y="33"/>
                </a:lnTo>
                <a:lnTo>
                  <a:pt x="764" y="29"/>
                </a:lnTo>
                <a:lnTo>
                  <a:pt x="788" y="26"/>
                </a:lnTo>
                <a:lnTo>
                  <a:pt x="810" y="22"/>
                </a:lnTo>
                <a:lnTo>
                  <a:pt x="834" y="18"/>
                </a:lnTo>
                <a:lnTo>
                  <a:pt x="856" y="13"/>
                </a:lnTo>
                <a:lnTo>
                  <a:pt x="878" y="7"/>
                </a:lnTo>
                <a:lnTo>
                  <a:pt x="895" y="4"/>
                </a:lnTo>
                <a:lnTo>
                  <a:pt x="912" y="2"/>
                </a:lnTo>
                <a:lnTo>
                  <a:pt x="928" y="2"/>
                </a:lnTo>
                <a:lnTo>
                  <a:pt x="947" y="4"/>
                </a:lnTo>
                <a:lnTo>
                  <a:pt x="963" y="6"/>
                </a:lnTo>
                <a:lnTo>
                  <a:pt x="978" y="6"/>
                </a:lnTo>
                <a:lnTo>
                  <a:pt x="995" y="4"/>
                </a:lnTo>
                <a:lnTo>
                  <a:pt x="1011" y="0"/>
                </a:lnTo>
                <a:lnTo>
                  <a:pt x="1032" y="4"/>
                </a:lnTo>
                <a:lnTo>
                  <a:pt x="1052" y="7"/>
                </a:lnTo>
                <a:lnTo>
                  <a:pt x="1072" y="9"/>
                </a:lnTo>
                <a:lnTo>
                  <a:pt x="1091" y="11"/>
                </a:lnTo>
                <a:lnTo>
                  <a:pt x="1111" y="13"/>
                </a:lnTo>
                <a:lnTo>
                  <a:pt x="1131" y="15"/>
                </a:lnTo>
                <a:lnTo>
                  <a:pt x="1150" y="16"/>
                </a:lnTo>
                <a:lnTo>
                  <a:pt x="1170" y="22"/>
                </a:lnTo>
                <a:lnTo>
                  <a:pt x="1183" y="20"/>
                </a:lnTo>
                <a:lnTo>
                  <a:pt x="1196" y="18"/>
                </a:lnTo>
                <a:lnTo>
                  <a:pt x="1207" y="16"/>
                </a:lnTo>
                <a:lnTo>
                  <a:pt x="1220" y="15"/>
                </a:lnTo>
                <a:lnTo>
                  <a:pt x="1233" y="11"/>
                </a:lnTo>
                <a:lnTo>
                  <a:pt x="1244" y="9"/>
                </a:lnTo>
                <a:lnTo>
                  <a:pt x="1257" y="7"/>
                </a:lnTo>
                <a:lnTo>
                  <a:pt x="1270" y="4"/>
                </a:lnTo>
                <a:lnTo>
                  <a:pt x="1270" y="4"/>
                </a:lnTo>
                <a:lnTo>
                  <a:pt x="1272" y="4"/>
                </a:lnTo>
                <a:lnTo>
                  <a:pt x="1272" y="4"/>
                </a:lnTo>
                <a:lnTo>
                  <a:pt x="1273" y="2"/>
                </a:lnTo>
                <a:lnTo>
                  <a:pt x="1275" y="2"/>
                </a:lnTo>
                <a:lnTo>
                  <a:pt x="1277" y="2"/>
                </a:lnTo>
                <a:lnTo>
                  <a:pt x="1277" y="2"/>
                </a:lnTo>
                <a:lnTo>
                  <a:pt x="1279" y="2"/>
                </a:lnTo>
                <a:lnTo>
                  <a:pt x="1268" y="60"/>
                </a:lnTo>
                <a:lnTo>
                  <a:pt x="1262" y="118"/>
                </a:lnTo>
                <a:lnTo>
                  <a:pt x="1261" y="176"/>
                </a:lnTo>
                <a:lnTo>
                  <a:pt x="1262" y="234"/>
                </a:lnTo>
                <a:lnTo>
                  <a:pt x="1266" y="292"/>
                </a:lnTo>
                <a:lnTo>
                  <a:pt x="1273" y="350"/>
                </a:lnTo>
                <a:lnTo>
                  <a:pt x="1283" y="410"/>
                </a:lnTo>
                <a:lnTo>
                  <a:pt x="1292" y="468"/>
                </a:lnTo>
                <a:lnTo>
                  <a:pt x="1273" y="512"/>
                </a:lnTo>
                <a:lnTo>
                  <a:pt x="1266" y="557"/>
                </a:lnTo>
                <a:lnTo>
                  <a:pt x="1266" y="603"/>
                </a:lnTo>
                <a:lnTo>
                  <a:pt x="1272" y="650"/>
                </a:lnTo>
                <a:lnTo>
                  <a:pt x="1275" y="695"/>
                </a:lnTo>
                <a:lnTo>
                  <a:pt x="1279" y="741"/>
                </a:lnTo>
                <a:lnTo>
                  <a:pt x="1275" y="786"/>
                </a:lnTo>
                <a:lnTo>
                  <a:pt x="1261" y="830"/>
                </a:lnTo>
                <a:lnTo>
                  <a:pt x="1248" y="888"/>
                </a:lnTo>
                <a:lnTo>
                  <a:pt x="1242" y="947"/>
                </a:lnTo>
                <a:lnTo>
                  <a:pt x="1244" y="1006"/>
                </a:lnTo>
                <a:lnTo>
                  <a:pt x="1248" y="1064"/>
                </a:lnTo>
                <a:lnTo>
                  <a:pt x="1253" y="1122"/>
                </a:lnTo>
                <a:lnTo>
                  <a:pt x="1257" y="1180"/>
                </a:lnTo>
                <a:lnTo>
                  <a:pt x="1259" y="1238"/>
                </a:lnTo>
                <a:lnTo>
                  <a:pt x="1253" y="1296"/>
                </a:lnTo>
                <a:lnTo>
                  <a:pt x="1233" y="1298"/>
                </a:lnTo>
                <a:lnTo>
                  <a:pt x="1214" y="1301"/>
                </a:lnTo>
                <a:lnTo>
                  <a:pt x="1194" y="1305"/>
                </a:lnTo>
                <a:lnTo>
                  <a:pt x="1174" y="1307"/>
                </a:lnTo>
                <a:lnTo>
                  <a:pt x="1153" y="1309"/>
                </a:lnTo>
                <a:lnTo>
                  <a:pt x="1133" y="1309"/>
                </a:lnTo>
                <a:lnTo>
                  <a:pt x="1113" y="1305"/>
                </a:lnTo>
                <a:lnTo>
                  <a:pt x="1094" y="1300"/>
                </a:lnTo>
                <a:lnTo>
                  <a:pt x="1093" y="1298"/>
                </a:lnTo>
                <a:lnTo>
                  <a:pt x="1093" y="1296"/>
                </a:lnTo>
                <a:lnTo>
                  <a:pt x="1093" y="1296"/>
                </a:lnTo>
                <a:lnTo>
                  <a:pt x="1091" y="1294"/>
                </a:lnTo>
                <a:lnTo>
                  <a:pt x="1089" y="1292"/>
                </a:lnTo>
                <a:lnTo>
                  <a:pt x="1089" y="1290"/>
                </a:lnTo>
                <a:lnTo>
                  <a:pt x="1087" y="1289"/>
                </a:lnTo>
                <a:lnTo>
                  <a:pt x="1085" y="1287"/>
                </a:lnTo>
                <a:lnTo>
                  <a:pt x="1063" y="1285"/>
                </a:lnTo>
                <a:lnTo>
                  <a:pt x="1046" y="1296"/>
                </a:lnTo>
                <a:lnTo>
                  <a:pt x="1015" y="1292"/>
                </a:lnTo>
                <a:lnTo>
                  <a:pt x="985" y="1292"/>
                </a:lnTo>
                <a:lnTo>
                  <a:pt x="958" y="1296"/>
                </a:lnTo>
                <a:lnTo>
                  <a:pt x="928" y="1300"/>
                </a:lnTo>
                <a:lnTo>
                  <a:pt x="901" y="1305"/>
                </a:lnTo>
                <a:lnTo>
                  <a:pt x="871" y="1312"/>
                </a:lnTo>
                <a:lnTo>
                  <a:pt x="841" y="1318"/>
                </a:lnTo>
                <a:lnTo>
                  <a:pt x="812" y="1321"/>
                </a:lnTo>
                <a:lnTo>
                  <a:pt x="768" y="1321"/>
                </a:lnTo>
                <a:lnTo>
                  <a:pt x="723" y="1320"/>
                </a:lnTo>
                <a:lnTo>
                  <a:pt x="679" y="1316"/>
                </a:lnTo>
                <a:lnTo>
                  <a:pt x="637" y="1312"/>
                </a:lnTo>
                <a:lnTo>
                  <a:pt x="592" y="1309"/>
                </a:lnTo>
                <a:lnTo>
                  <a:pt x="550" y="1305"/>
                </a:lnTo>
                <a:lnTo>
                  <a:pt x="506" y="1303"/>
                </a:lnTo>
                <a:lnTo>
                  <a:pt x="463" y="1305"/>
                </a:lnTo>
                <a:lnTo>
                  <a:pt x="426" y="1300"/>
                </a:lnTo>
                <a:lnTo>
                  <a:pt x="389" y="1301"/>
                </a:lnTo>
                <a:lnTo>
                  <a:pt x="354" y="1307"/>
                </a:lnTo>
                <a:lnTo>
                  <a:pt x="319" y="1314"/>
                </a:lnTo>
                <a:lnTo>
                  <a:pt x="284" y="1321"/>
                </a:lnTo>
                <a:lnTo>
                  <a:pt x="249" y="1329"/>
                </a:lnTo>
                <a:lnTo>
                  <a:pt x="214" y="1330"/>
                </a:lnTo>
                <a:lnTo>
                  <a:pt x="177" y="1327"/>
                </a:lnTo>
                <a:lnTo>
                  <a:pt x="158" y="1329"/>
                </a:lnTo>
                <a:lnTo>
                  <a:pt x="138" y="1327"/>
                </a:lnTo>
                <a:lnTo>
                  <a:pt x="120" y="1323"/>
                </a:lnTo>
                <a:lnTo>
                  <a:pt x="103" y="1318"/>
                </a:lnTo>
                <a:lnTo>
                  <a:pt x="85" y="1312"/>
                </a:lnTo>
                <a:lnTo>
                  <a:pt x="66" y="1307"/>
                </a:lnTo>
                <a:lnTo>
                  <a:pt x="48" y="1303"/>
                </a:lnTo>
                <a:lnTo>
                  <a:pt x="27" y="1300"/>
                </a:lnTo>
                <a:lnTo>
                  <a:pt x="26" y="1283"/>
                </a:lnTo>
                <a:lnTo>
                  <a:pt x="26" y="1265"/>
                </a:lnTo>
                <a:lnTo>
                  <a:pt x="24" y="1249"/>
                </a:lnTo>
                <a:lnTo>
                  <a:pt x="22" y="1232"/>
                </a:lnTo>
                <a:lnTo>
                  <a:pt x="20" y="1216"/>
                </a:lnTo>
                <a:lnTo>
                  <a:pt x="14" y="1200"/>
                </a:lnTo>
                <a:lnTo>
                  <a:pt x="9" y="1185"/>
                </a:lnTo>
                <a:lnTo>
                  <a:pt x="0" y="1169"/>
                </a:lnTo>
                <a:lnTo>
                  <a:pt x="0" y="1169"/>
                </a:lnTo>
                <a:lnTo>
                  <a:pt x="2" y="1169"/>
                </a:lnTo>
                <a:lnTo>
                  <a:pt x="2" y="1169"/>
                </a:lnTo>
                <a:lnTo>
                  <a:pt x="2" y="1167"/>
                </a:lnTo>
                <a:lnTo>
                  <a:pt x="2" y="1167"/>
                </a:lnTo>
                <a:lnTo>
                  <a:pt x="2" y="1167"/>
                </a:lnTo>
                <a:lnTo>
                  <a:pt x="2" y="1165"/>
                </a:lnTo>
                <a:lnTo>
                  <a:pt x="3" y="1165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40640" y="1884240"/>
            <a:ext cx="1658880" cy="1359000"/>
          </a:xfrm>
          <a:custGeom>
            <a:avLst/>
            <a:gdLst/>
            <a:ahLst/>
            <a:rect l="l" t="t" r="r" b="b"/>
            <a:pathLst>
              <a:path w="1045" h="856">
                <a:moveTo>
                  <a:pt x="26" y="0"/>
                </a:moveTo>
                <a:lnTo>
                  <a:pt x="218" y="131"/>
                </a:lnTo>
                <a:lnTo>
                  <a:pt x="336" y="229"/>
                </a:lnTo>
                <a:lnTo>
                  <a:pt x="430" y="296"/>
                </a:lnTo>
                <a:lnTo>
                  <a:pt x="499" y="305"/>
                </a:lnTo>
                <a:lnTo>
                  <a:pt x="556" y="296"/>
                </a:lnTo>
                <a:lnTo>
                  <a:pt x="606" y="321"/>
                </a:lnTo>
                <a:lnTo>
                  <a:pt x="543" y="383"/>
                </a:lnTo>
                <a:lnTo>
                  <a:pt x="475" y="444"/>
                </a:lnTo>
                <a:lnTo>
                  <a:pt x="473" y="477"/>
                </a:lnTo>
                <a:lnTo>
                  <a:pt x="526" y="484"/>
                </a:lnTo>
                <a:lnTo>
                  <a:pt x="597" y="457"/>
                </a:lnTo>
                <a:lnTo>
                  <a:pt x="650" y="401"/>
                </a:lnTo>
                <a:lnTo>
                  <a:pt x="726" y="446"/>
                </a:lnTo>
                <a:lnTo>
                  <a:pt x="859" y="532"/>
                </a:lnTo>
                <a:lnTo>
                  <a:pt x="921" y="586"/>
                </a:lnTo>
                <a:lnTo>
                  <a:pt x="973" y="602"/>
                </a:lnTo>
                <a:lnTo>
                  <a:pt x="1045" y="677"/>
                </a:lnTo>
                <a:lnTo>
                  <a:pt x="1036" y="711"/>
                </a:lnTo>
                <a:lnTo>
                  <a:pt x="1017" y="731"/>
                </a:lnTo>
                <a:lnTo>
                  <a:pt x="958" y="713"/>
                </a:lnTo>
                <a:lnTo>
                  <a:pt x="973" y="746"/>
                </a:lnTo>
                <a:lnTo>
                  <a:pt x="932" y="784"/>
                </a:lnTo>
                <a:lnTo>
                  <a:pt x="772" y="835"/>
                </a:lnTo>
                <a:lnTo>
                  <a:pt x="624" y="856"/>
                </a:lnTo>
                <a:lnTo>
                  <a:pt x="338" y="715"/>
                </a:lnTo>
                <a:lnTo>
                  <a:pt x="353" y="655"/>
                </a:lnTo>
                <a:lnTo>
                  <a:pt x="301" y="646"/>
                </a:lnTo>
                <a:lnTo>
                  <a:pt x="157" y="486"/>
                </a:lnTo>
                <a:lnTo>
                  <a:pt x="0" y="330"/>
                </a:lnTo>
                <a:lnTo>
                  <a:pt x="2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0200" y="1951200"/>
            <a:ext cx="1222200" cy="880920"/>
          </a:xfrm>
          <a:custGeom>
            <a:avLst/>
            <a:gdLst/>
            <a:ahLst/>
            <a:rect l="l" t="t" r="r" b="b"/>
            <a:pathLst>
              <a:path w="770" h="555">
                <a:moveTo>
                  <a:pt x="749" y="0"/>
                </a:moveTo>
                <a:lnTo>
                  <a:pt x="749" y="0"/>
                </a:lnTo>
                <a:lnTo>
                  <a:pt x="748" y="0"/>
                </a:lnTo>
                <a:lnTo>
                  <a:pt x="748" y="0"/>
                </a:lnTo>
                <a:lnTo>
                  <a:pt x="746" y="0"/>
                </a:lnTo>
                <a:lnTo>
                  <a:pt x="746" y="0"/>
                </a:lnTo>
                <a:lnTo>
                  <a:pt x="744" y="0"/>
                </a:lnTo>
                <a:lnTo>
                  <a:pt x="744" y="0"/>
                </a:lnTo>
                <a:lnTo>
                  <a:pt x="744" y="0"/>
                </a:lnTo>
                <a:lnTo>
                  <a:pt x="722" y="25"/>
                </a:lnTo>
                <a:lnTo>
                  <a:pt x="698" y="49"/>
                </a:lnTo>
                <a:lnTo>
                  <a:pt x="674" y="74"/>
                </a:lnTo>
                <a:lnTo>
                  <a:pt x="646" y="98"/>
                </a:lnTo>
                <a:lnTo>
                  <a:pt x="620" y="121"/>
                </a:lnTo>
                <a:lnTo>
                  <a:pt x="593" y="143"/>
                </a:lnTo>
                <a:lnTo>
                  <a:pt x="567" y="163"/>
                </a:lnTo>
                <a:lnTo>
                  <a:pt x="541" y="181"/>
                </a:lnTo>
                <a:lnTo>
                  <a:pt x="526" y="194"/>
                </a:lnTo>
                <a:lnTo>
                  <a:pt x="508" y="203"/>
                </a:lnTo>
                <a:lnTo>
                  <a:pt x="489" y="206"/>
                </a:lnTo>
                <a:lnTo>
                  <a:pt x="471" y="210"/>
                </a:lnTo>
                <a:lnTo>
                  <a:pt x="450" y="212"/>
                </a:lnTo>
                <a:lnTo>
                  <a:pt x="430" y="214"/>
                </a:lnTo>
                <a:lnTo>
                  <a:pt x="410" y="216"/>
                </a:lnTo>
                <a:lnTo>
                  <a:pt x="391" y="219"/>
                </a:lnTo>
                <a:lnTo>
                  <a:pt x="369" y="225"/>
                </a:lnTo>
                <a:lnTo>
                  <a:pt x="345" y="228"/>
                </a:lnTo>
                <a:lnTo>
                  <a:pt x="323" y="230"/>
                </a:lnTo>
                <a:lnTo>
                  <a:pt x="301" y="234"/>
                </a:lnTo>
                <a:lnTo>
                  <a:pt x="279" y="236"/>
                </a:lnTo>
                <a:lnTo>
                  <a:pt x="257" y="237"/>
                </a:lnTo>
                <a:lnTo>
                  <a:pt x="233" y="239"/>
                </a:lnTo>
                <a:lnTo>
                  <a:pt x="210" y="243"/>
                </a:lnTo>
                <a:lnTo>
                  <a:pt x="183" y="252"/>
                </a:lnTo>
                <a:lnTo>
                  <a:pt x="159" y="266"/>
                </a:lnTo>
                <a:lnTo>
                  <a:pt x="138" y="285"/>
                </a:lnTo>
                <a:lnTo>
                  <a:pt x="118" y="306"/>
                </a:lnTo>
                <a:lnTo>
                  <a:pt x="100" y="328"/>
                </a:lnTo>
                <a:lnTo>
                  <a:pt x="81" y="348"/>
                </a:lnTo>
                <a:lnTo>
                  <a:pt x="59" y="364"/>
                </a:lnTo>
                <a:lnTo>
                  <a:pt x="33" y="377"/>
                </a:lnTo>
                <a:lnTo>
                  <a:pt x="26" y="384"/>
                </a:lnTo>
                <a:lnTo>
                  <a:pt x="20" y="392"/>
                </a:lnTo>
                <a:lnTo>
                  <a:pt x="15" y="397"/>
                </a:lnTo>
                <a:lnTo>
                  <a:pt x="9" y="404"/>
                </a:lnTo>
                <a:lnTo>
                  <a:pt x="6" y="412"/>
                </a:lnTo>
                <a:lnTo>
                  <a:pt x="2" y="419"/>
                </a:lnTo>
                <a:lnTo>
                  <a:pt x="0" y="428"/>
                </a:lnTo>
                <a:lnTo>
                  <a:pt x="0" y="437"/>
                </a:lnTo>
                <a:lnTo>
                  <a:pt x="22" y="455"/>
                </a:lnTo>
                <a:lnTo>
                  <a:pt x="41" y="457"/>
                </a:lnTo>
                <a:lnTo>
                  <a:pt x="59" y="457"/>
                </a:lnTo>
                <a:lnTo>
                  <a:pt x="79" y="455"/>
                </a:lnTo>
                <a:lnTo>
                  <a:pt x="98" y="450"/>
                </a:lnTo>
                <a:lnTo>
                  <a:pt x="114" y="444"/>
                </a:lnTo>
                <a:lnTo>
                  <a:pt x="133" y="437"/>
                </a:lnTo>
                <a:lnTo>
                  <a:pt x="148" y="426"/>
                </a:lnTo>
                <a:lnTo>
                  <a:pt x="162" y="415"/>
                </a:lnTo>
                <a:lnTo>
                  <a:pt x="166" y="410"/>
                </a:lnTo>
                <a:lnTo>
                  <a:pt x="170" y="404"/>
                </a:lnTo>
                <a:lnTo>
                  <a:pt x="174" y="399"/>
                </a:lnTo>
                <a:lnTo>
                  <a:pt x="177" y="393"/>
                </a:lnTo>
                <a:lnTo>
                  <a:pt x="181" y="388"/>
                </a:lnTo>
                <a:lnTo>
                  <a:pt x="185" y="383"/>
                </a:lnTo>
                <a:lnTo>
                  <a:pt x="188" y="379"/>
                </a:lnTo>
                <a:lnTo>
                  <a:pt x="192" y="373"/>
                </a:lnTo>
                <a:lnTo>
                  <a:pt x="277" y="426"/>
                </a:lnTo>
                <a:lnTo>
                  <a:pt x="286" y="426"/>
                </a:lnTo>
                <a:lnTo>
                  <a:pt x="293" y="428"/>
                </a:lnTo>
                <a:lnTo>
                  <a:pt x="301" y="432"/>
                </a:lnTo>
                <a:lnTo>
                  <a:pt x="310" y="435"/>
                </a:lnTo>
                <a:lnTo>
                  <a:pt x="317" y="439"/>
                </a:lnTo>
                <a:lnTo>
                  <a:pt x="325" y="442"/>
                </a:lnTo>
                <a:lnTo>
                  <a:pt x="332" y="446"/>
                </a:lnTo>
                <a:lnTo>
                  <a:pt x="340" y="450"/>
                </a:lnTo>
                <a:lnTo>
                  <a:pt x="353" y="459"/>
                </a:lnTo>
                <a:lnTo>
                  <a:pt x="367" y="468"/>
                </a:lnTo>
                <a:lnTo>
                  <a:pt x="380" y="477"/>
                </a:lnTo>
                <a:lnTo>
                  <a:pt x="395" y="488"/>
                </a:lnTo>
                <a:lnTo>
                  <a:pt x="410" y="497"/>
                </a:lnTo>
                <a:lnTo>
                  <a:pt x="423" y="508"/>
                </a:lnTo>
                <a:lnTo>
                  <a:pt x="436" y="519"/>
                </a:lnTo>
                <a:lnTo>
                  <a:pt x="447" y="530"/>
                </a:lnTo>
                <a:lnTo>
                  <a:pt x="450" y="531"/>
                </a:lnTo>
                <a:lnTo>
                  <a:pt x="452" y="533"/>
                </a:lnTo>
                <a:lnTo>
                  <a:pt x="456" y="537"/>
                </a:lnTo>
                <a:lnTo>
                  <a:pt x="460" y="539"/>
                </a:lnTo>
                <a:lnTo>
                  <a:pt x="463" y="540"/>
                </a:lnTo>
                <a:lnTo>
                  <a:pt x="465" y="544"/>
                </a:lnTo>
                <a:lnTo>
                  <a:pt x="467" y="548"/>
                </a:lnTo>
                <a:lnTo>
                  <a:pt x="469" y="553"/>
                </a:lnTo>
                <a:lnTo>
                  <a:pt x="471" y="555"/>
                </a:lnTo>
                <a:lnTo>
                  <a:pt x="473" y="555"/>
                </a:lnTo>
                <a:lnTo>
                  <a:pt x="474" y="555"/>
                </a:lnTo>
                <a:lnTo>
                  <a:pt x="476" y="555"/>
                </a:lnTo>
                <a:lnTo>
                  <a:pt x="478" y="553"/>
                </a:lnTo>
                <a:lnTo>
                  <a:pt x="480" y="553"/>
                </a:lnTo>
                <a:lnTo>
                  <a:pt x="482" y="551"/>
                </a:lnTo>
                <a:lnTo>
                  <a:pt x="484" y="551"/>
                </a:lnTo>
                <a:lnTo>
                  <a:pt x="485" y="551"/>
                </a:lnTo>
                <a:lnTo>
                  <a:pt x="485" y="550"/>
                </a:lnTo>
                <a:lnTo>
                  <a:pt x="485" y="550"/>
                </a:lnTo>
                <a:lnTo>
                  <a:pt x="485" y="550"/>
                </a:lnTo>
                <a:lnTo>
                  <a:pt x="487" y="550"/>
                </a:lnTo>
                <a:lnTo>
                  <a:pt x="487" y="550"/>
                </a:lnTo>
                <a:lnTo>
                  <a:pt x="487" y="548"/>
                </a:lnTo>
                <a:lnTo>
                  <a:pt x="485" y="548"/>
                </a:lnTo>
                <a:lnTo>
                  <a:pt x="478" y="537"/>
                </a:lnTo>
                <a:lnTo>
                  <a:pt x="471" y="526"/>
                </a:lnTo>
                <a:lnTo>
                  <a:pt x="463" y="517"/>
                </a:lnTo>
                <a:lnTo>
                  <a:pt x="456" y="506"/>
                </a:lnTo>
                <a:lnTo>
                  <a:pt x="447" y="495"/>
                </a:lnTo>
                <a:lnTo>
                  <a:pt x="437" y="486"/>
                </a:lnTo>
                <a:lnTo>
                  <a:pt x="428" y="477"/>
                </a:lnTo>
                <a:lnTo>
                  <a:pt x="417" y="468"/>
                </a:lnTo>
                <a:lnTo>
                  <a:pt x="469" y="446"/>
                </a:lnTo>
                <a:lnTo>
                  <a:pt x="469" y="446"/>
                </a:lnTo>
                <a:lnTo>
                  <a:pt x="471" y="444"/>
                </a:lnTo>
                <a:lnTo>
                  <a:pt x="471" y="444"/>
                </a:lnTo>
                <a:lnTo>
                  <a:pt x="471" y="444"/>
                </a:lnTo>
                <a:lnTo>
                  <a:pt x="473" y="442"/>
                </a:lnTo>
                <a:lnTo>
                  <a:pt x="473" y="442"/>
                </a:lnTo>
                <a:lnTo>
                  <a:pt x="473" y="441"/>
                </a:lnTo>
                <a:lnTo>
                  <a:pt x="474" y="441"/>
                </a:lnTo>
                <a:lnTo>
                  <a:pt x="500" y="432"/>
                </a:lnTo>
                <a:lnTo>
                  <a:pt x="500" y="430"/>
                </a:lnTo>
                <a:lnTo>
                  <a:pt x="502" y="430"/>
                </a:lnTo>
                <a:lnTo>
                  <a:pt x="502" y="428"/>
                </a:lnTo>
                <a:lnTo>
                  <a:pt x="502" y="426"/>
                </a:lnTo>
                <a:lnTo>
                  <a:pt x="504" y="424"/>
                </a:lnTo>
                <a:lnTo>
                  <a:pt x="504" y="424"/>
                </a:lnTo>
                <a:lnTo>
                  <a:pt x="504" y="422"/>
                </a:lnTo>
                <a:lnTo>
                  <a:pt x="504" y="421"/>
                </a:lnTo>
                <a:lnTo>
                  <a:pt x="504" y="421"/>
                </a:lnTo>
                <a:lnTo>
                  <a:pt x="504" y="421"/>
                </a:lnTo>
                <a:lnTo>
                  <a:pt x="504" y="419"/>
                </a:lnTo>
                <a:lnTo>
                  <a:pt x="504" y="419"/>
                </a:lnTo>
                <a:lnTo>
                  <a:pt x="502" y="419"/>
                </a:lnTo>
                <a:lnTo>
                  <a:pt x="502" y="419"/>
                </a:lnTo>
                <a:lnTo>
                  <a:pt x="500" y="419"/>
                </a:lnTo>
                <a:lnTo>
                  <a:pt x="500" y="417"/>
                </a:lnTo>
                <a:lnTo>
                  <a:pt x="495" y="421"/>
                </a:lnTo>
                <a:lnTo>
                  <a:pt x="491" y="424"/>
                </a:lnTo>
                <a:lnTo>
                  <a:pt x="485" y="428"/>
                </a:lnTo>
                <a:lnTo>
                  <a:pt x="480" y="430"/>
                </a:lnTo>
                <a:lnTo>
                  <a:pt x="474" y="433"/>
                </a:lnTo>
                <a:lnTo>
                  <a:pt x="469" y="435"/>
                </a:lnTo>
                <a:lnTo>
                  <a:pt x="463" y="435"/>
                </a:lnTo>
                <a:lnTo>
                  <a:pt x="456" y="435"/>
                </a:lnTo>
                <a:lnTo>
                  <a:pt x="456" y="435"/>
                </a:lnTo>
                <a:lnTo>
                  <a:pt x="456" y="433"/>
                </a:lnTo>
                <a:lnTo>
                  <a:pt x="454" y="433"/>
                </a:lnTo>
                <a:lnTo>
                  <a:pt x="454" y="433"/>
                </a:lnTo>
                <a:lnTo>
                  <a:pt x="452" y="433"/>
                </a:lnTo>
                <a:lnTo>
                  <a:pt x="450" y="432"/>
                </a:lnTo>
                <a:lnTo>
                  <a:pt x="450" y="432"/>
                </a:lnTo>
                <a:lnTo>
                  <a:pt x="449" y="432"/>
                </a:lnTo>
                <a:lnTo>
                  <a:pt x="391" y="439"/>
                </a:lnTo>
                <a:lnTo>
                  <a:pt x="378" y="435"/>
                </a:lnTo>
                <a:lnTo>
                  <a:pt x="378" y="435"/>
                </a:lnTo>
                <a:lnTo>
                  <a:pt x="378" y="435"/>
                </a:lnTo>
                <a:lnTo>
                  <a:pt x="377" y="437"/>
                </a:lnTo>
                <a:lnTo>
                  <a:pt x="377" y="437"/>
                </a:lnTo>
                <a:lnTo>
                  <a:pt x="377" y="437"/>
                </a:lnTo>
                <a:lnTo>
                  <a:pt x="375" y="437"/>
                </a:lnTo>
                <a:lnTo>
                  <a:pt x="375" y="437"/>
                </a:lnTo>
                <a:lnTo>
                  <a:pt x="375" y="439"/>
                </a:lnTo>
                <a:lnTo>
                  <a:pt x="373" y="439"/>
                </a:lnTo>
                <a:lnTo>
                  <a:pt x="373" y="437"/>
                </a:lnTo>
                <a:lnTo>
                  <a:pt x="371" y="437"/>
                </a:lnTo>
                <a:lnTo>
                  <a:pt x="371" y="437"/>
                </a:lnTo>
                <a:lnTo>
                  <a:pt x="371" y="435"/>
                </a:lnTo>
                <a:lnTo>
                  <a:pt x="371" y="435"/>
                </a:lnTo>
                <a:lnTo>
                  <a:pt x="369" y="433"/>
                </a:lnTo>
                <a:lnTo>
                  <a:pt x="369" y="433"/>
                </a:lnTo>
                <a:lnTo>
                  <a:pt x="354" y="430"/>
                </a:lnTo>
                <a:lnTo>
                  <a:pt x="340" y="424"/>
                </a:lnTo>
                <a:lnTo>
                  <a:pt x="325" y="419"/>
                </a:lnTo>
                <a:lnTo>
                  <a:pt x="312" y="412"/>
                </a:lnTo>
                <a:lnTo>
                  <a:pt x="299" y="404"/>
                </a:lnTo>
                <a:lnTo>
                  <a:pt x="286" y="395"/>
                </a:lnTo>
                <a:lnTo>
                  <a:pt x="275" y="388"/>
                </a:lnTo>
                <a:lnTo>
                  <a:pt x="264" y="377"/>
                </a:lnTo>
                <a:lnTo>
                  <a:pt x="260" y="375"/>
                </a:lnTo>
                <a:lnTo>
                  <a:pt x="257" y="373"/>
                </a:lnTo>
                <a:lnTo>
                  <a:pt x="253" y="370"/>
                </a:lnTo>
                <a:lnTo>
                  <a:pt x="249" y="368"/>
                </a:lnTo>
                <a:lnTo>
                  <a:pt x="245" y="364"/>
                </a:lnTo>
                <a:lnTo>
                  <a:pt x="240" y="361"/>
                </a:lnTo>
                <a:lnTo>
                  <a:pt x="236" y="357"/>
                </a:lnTo>
                <a:lnTo>
                  <a:pt x="231" y="355"/>
                </a:lnTo>
                <a:lnTo>
                  <a:pt x="229" y="353"/>
                </a:lnTo>
                <a:lnTo>
                  <a:pt x="229" y="352"/>
                </a:lnTo>
                <a:lnTo>
                  <a:pt x="227" y="350"/>
                </a:lnTo>
                <a:lnTo>
                  <a:pt x="227" y="348"/>
                </a:lnTo>
                <a:lnTo>
                  <a:pt x="225" y="346"/>
                </a:lnTo>
                <a:lnTo>
                  <a:pt x="225" y="344"/>
                </a:lnTo>
                <a:lnTo>
                  <a:pt x="223" y="343"/>
                </a:lnTo>
                <a:lnTo>
                  <a:pt x="222" y="339"/>
                </a:lnTo>
                <a:lnTo>
                  <a:pt x="179" y="370"/>
                </a:lnTo>
                <a:lnTo>
                  <a:pt x="177" y="379"/>
                </a:lnTo>
                <a:lnTo>
                  <a:pt x="174" y="386"/>
                </a:lnTo>
                <a:lnTo>
                  <a:pt x="168" y="392"/>
                </a:lnTo>
                <a:lnTo>
                  <a:pt x="161" y="397"/>
                </a:lnTo>
                <a:lnTo>
                  <a:pt x="155" y="402"/>
                </a:lnTo>
                <a:lnTo>
                  <a:pt x="148" y="406"/>
                </a:lnTo>
                <a:lnTo>
                  <a:pt x="140" y="412"/>
                </a:lnTo>
                <a:lnTo>
                  <a:pt x="133" y="415"/>
                </a:lnTo>
                <a:lnTo>
                  <a:pt x="124" y="421"/>
                </a:lnTo>
                <a:lnTo>
                  <a:pt x="113" y="424"/>
                </a:lnTo>
                <a:lnTo>
                  <a:pt x="102" y="428"/>
                </a:lnTo>
                <a:lnTo>
                  <a:pt x="90" y="432"/>
                </a:lnTo>
                <a:lnTo>
                  <a:pt x="79" y="433"/>
                </a:lnTo>
                <a:lnTo>
                  <a:pt x="68" y="435"/>
                </a:lnTo>
                <a:lnTo>
                  <a:pt x="59" y="435"/>
                </a:lnTo>
                <a:lnTo>
                  <a:pt x="48" y="435"/>
                </a:lnTo>
                <a:lnTo>
                  <a:pt x="46" y="435"/>
                </a:lnTo>
                <a:lnTo>
                  <a:pt x="44" y="433"/>
                </a:lnTo>
                <a:lnTo>
                  <a:pt x="42" y="432"/>
                </a:lnTo>
                <a:lnTo>
                  <a:pt x="42" y="430"/>
                </a:lnTo>
                <a:lnTo>
                  <a:pt x="42" y="428"/>
                </a:lnTo>
                <a:lnTo>
                  <a:pt x="41" y="424"/>
                </a:lnTo>
                <a:lnTo>
                  <a:pt x="41" y="422"/>
                </a:lnTo>
                <a:lnTo>
                  <a:pt x="39" y="421"/>
                </a:lnTo>
                <a:lnTo>
                  <a:pt x="48" y="408"/>
                </a:lnTo>
                <a:lnTo>
                  <a:pt x="57" y="397"/>
                </a:lnTo>
                <a:lnTo>
                  <a:pt x="68" y="388"/>
                </a:lnTo>
                <a:lnTo>
                  <a:pt x="79" y="379"/>
                </a:lnTo>
                <a:lnTo>
                  <a:pt x="90" y="368"/>
                </a:lnTo>
                <a:lnTo>
                  <a:pt x="102" y="359"/>
                </a:lnTo>
                <a:lnTo>
                  <a:pt x="111" y="348"/>
                </a:lnTo>
                <a:lnTo>
                  <a:pt x="120" y="337"/>
                </a:lnTo>
                <a:lnTo>
                  <a:pt x="138" y="304"/>
                </a:lnTo>
                <a:lnTo>
                  <a:pt x="164" y="283"/>
                </a:lnTo>
                <a:lnTo>
                  <a:pt x="196" y="270"/>
                </a:lnTo>
                <a:lnTo>
                  <a:pt x="229" y="263"/>
                </a:lnTo>
                <a:lnTo>
                  <a:pt x="266" y="259"/>
                </a:lnTo>
                <a:lnTo>
                  <a:pt x="303" y="254"/>
                </a:lnTo>
                <a:lnTo>
                  <a:pt x="340" y="248"/>
                </a:lnTo>
                <a:lnTo>
                  <a:pt x="375" y="239"/>
                </a:lnTo>
                <a:lnTo>
                  <a:pt x="386" y="237"/>
                </a:lnTo>
                <a:lnTo>
                  <a:pt x="399" y="237"/>
                </a:lnTo>
                <a:lnTo>
                  <a:pt x="412" y="239"/>
                </a:lnTo>
                <a:lnTo>
                  <a:pt x="423" y="241"/>
                </a:lnTo>
                <a:lnTo>
                  <a:pt x="436" y="243"/>
                </a:lnTo>
                <a:lnTo>
                  <a:pt x="447" y="245"/>
                </a:lnTo>
                <a:lnTo>
                  <a:pt x="460" y="245"/>
                </a:lnTo>
                <a:lnTo>
                  <a:pt x="471" y="243"/>
                </a:lnTo>
                <a:lnTo>
                  <a:pt x="509" y="234"/>
                </a:lnTo>
                <a:lnTo>
                  <a:pt x="545" y="217"/>
                </a:lnTo>
                <a:lnTo>
                  <a:pt x="576" y="196"/>
                </a:lnTo>
                <a:lnTo>
                  <a:pt x="605" y="170"/>
                </a:lnTo>
                <a:lnTo>
                  <a:pt x="633" y="143"/>
                </a:lnTo>
                <a:lnTo>
                  <a:pt x="661" y="116"/>
                </a:lnTo>
                <a:lnTo>
                  <a:pt x="690" y="89"/>
                </a:lnTo>
                <a:lnTo>
                  <a:pt x="720" y="65"/>
                </a:lnTo>
                <a:lnTo>
                  <a:pt x="727" y="59"/>
                </a:lnTo>
                <a:lnTo>
                  <a:pt x="733" y="52"/>
                </a:lnTo>
                <a:lnTo>
                  <a:pt x="738" y="45"/>
                </a:lnTo>
                <a:lnTo>
                  <a:pt x="746" y="38"/>
                </a:lnTo>
                <a:lnTo>
                  <a:pt x="751" y="32"/>
                </a:lnTo>
                <a:lnTo>
                  <a:pt x="757" y="25"/>
                </a:lnTo>
                <a:lnTo>
                  <a:pt x="764" y="18"/>
                </a:lnTo>
                <a:lnTo>
                  <a:pt x="770" y="10"/>
                </a:lnTo>
                <a:lnTo>
                  <a:pt x="768" y="9"/>
                </a:lnTo>
                <a:lnTo>
                  <a:pt x="766" y="7"/>
                </a:lnTo>
                <a:lnTo>
                  <a:pt x="764" y="5"/>
                </a:lnTo>
                <a:lnTo>
                  <a:pt x="762" y="3"/>
                </a:lnTo>
                <a:lnTo>
                  <a:pt x="759" y="3"/>
                </a:lnTo>
                <a:lnTo>
                  <a:pt x="755" y="1"/>
                </a:lnTo>
                <a:lnTo>
                  <a:pt x="751" y="1"/>
                </a:lnTo>
                <a:lnTo>
                  <a:pt x="7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4760" y="1913040"/>
            <a:ext cx="812880" cy="469800"/>
          </a:xfrm>
          <a:custGeom>
            <a:avLst/>
            <a:gdLst/>
            <a:ahLst/>
            <a:rect l="l" t="t" r="r" b="b"/>
            <a:pathLst>
              <a:path w="512" h="296">
                <a:moveTo>
                  <a:pt x="32" y="0"/>
                </a:moveTo>
                <a:lnTo>
                  <a:pt x="28" y="2"/>
                </a:lnTo>
                <a:lnTo>
                  <a:pt x="24" y="2"/>
                </a:lnTo>
                <a:lnTo>
                  <a:pt x="21" y="4"/>
                </a:lnTo>
                <a:lnTo>
                  <a:pt x="17" y="4"/>
                </a:lnTo>
                <a:lnTo>
                  <a:pt x="13" y="4"/>
                </a:lnTo>
                <a:lnTo>
                  <a:pt x="9" y="4"/>
                </a:lnTo>
                <a:lnTo>
                  <a:pt x="6" y="2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17" y="25"/>
                </a:lnTo>
                <a:lnTo>
                  <a:pt x="45" y="47"/>
                </a:lnTo>
                <a:lnTo>
                  <a:pt x="76" y="74"/>
                </a:lnTo>
                <a:lnTo>
                  <a:pt x="113" y="102"/>
                </a:lnTo>
                <a:lnTo>
                  <a:pt x="150" y="129"/>
                </a:lnTo>
                <a:lnTo>
                  <a:pt x="183" y="154"/>
                </a:lnTo>
                <a:lnTo>
                  <a:pt x="213" y="178"/>
                </a:lnTo>
                <a:lnTo>
                  <a:pt x="235" y="194"/>
                </a:lnTo>
                <a:lnTo>
                  <a:pt x="251" y="211"/>
                </a:lnTo>
                <a:lnTo>
                  <a:pt x="270" y="225"/>
                </a:lnTo>
                <a:lnTo>
                  <a:pt x="288" y="240"/>
                </a:lnTo>
                <a:lnTo>
                  <a:pt x="307" y="254"/>
                </a:lnTo>
                <a:lnTo>
                  <a:pt x="325" y="267"/>
                </a:lnTo>
                <a:lnTo>
                  <a:pt x="345" y="278"/>
                </a:lnTo>
                <a:lnTo>
                  <a:pt x="368" y="289"/>
                </a:lnTo>
                <a:lnTo>
                  <a:pt x="390" y="296"/>
                </a:lnTo>
                <a:lnTo>
                  <a:pt x="397" y="296"/>
                </a:lnTo>
                <a:lnTo>
                  <a:pt x="403" y="294"/>
                </a:lnTo>
                <a:lnTo>
                  <a:pt x="410" y="294"/>
                </a:lnTo>
                <a:lnTo>
                  <a:pt x="417" y="292"/>
                </a:lnTo>
                <a:lnTo>
                  <a:pt x="423" y="290"/>
                </a:lnTo>
                <a:lnTo>
                  <a:pt x="430" y="290"/>
                </a:lnTo>
                <a:lnTo>
                  <a:pt x="436" y="289"/>
                </a:lnTo>
                <a:lnTo>
                  <a:pt x="443" y="287"/>
                </a:lnTo>
                <a:lnTo>
                  <a:pt x="451" y="289"/>
                </a:lnTo>
                <a:lnTo>
                  <a:pt x="458" y="289"/>
                </a:lnTo>
                <a:lnTo>
                  <a:pt x="467" y="289"/>
                </a:lnTo>
                <a:lnTo>
                  <a:pt x="475" y="289"/>
                </a:lnTo>
                <a:lnTo>
                  <a:pt x="482" y="290"/>
                </a:lnTo>
                <a:lnTo>
                  <a:pt x="489" y="290"/>
                </a:lnTo>
                <a:lnTo>
                  <a:pt x="497" y="292"/>
                </a:lnTo>
                <a:lnTo>
                  <a:pt x="504" y="294"/>
                </a:lnTo>
                <a:lnTo>
                  <a:pt x="504" y="292"/>
                </a:lnTo>
                <a:lnTo>
                  <a:pt x="506" y="292"/>
                </a:lnTo>
                <a:lnTo>
                  <a:pt x="506" y="292"/>
                </a:lnTo>
                <a:lnTo>
                  <a:pt x="508" y="290"/>
                </a:lnTo>
                <a:lnTo>
                  <a:pt x="510" y="290"/>
                </a:lnTo>
                <a:lnTo>
                  <a:pt x="510" y="290"/>
                </a:lnTo>
                <a:lnTo>
                  <a:pt x="512" y="289"/>
                </a:lnTo>
                <a:lnTo>
                  <a:pt x="512" y="287"/>
                </a:lnTo>
                <a:lnTo>
                  <a:pt x="504" y="283"/>
                </a:lnTo>
                <a:lnTo>
                  <a:pt x="497" y="279"/>
                </a:lnTo>
                <a:lnTo>
                  <a:pt x="488" y="278"/>
                </a:lnTo>
                <a:lnTo>
                  <a:pt x="478" y="276"/>
                </a:lnTo>
                <a:lnTo>
                  <a:pt x="469" y="276"/>
                </a:lnTo>
                <a:lnTo>
                  <a:pt x="458" y="276"/>
                </a:lnTo>
                <a:lnTo>
                  <a:pt x="449" y="276"/>
                </a:lnTo>
                <a:lnTo>
                  <a:pt x="440" y="276"/>
                </a:lnTo>
                <a:lnTo>
                  <a:pt x="421" y="279"/>
                </a:lnTo>
                <a:lnTo>
                  <a:pt x="405" y="279"/>
                </a:lnTo>
                <a:lnTo>
                  <a:pt x="388" y="278"/>
                </a:lnTo>
                <a:lnTo>
                  <a:pt x="371" y="272"/>
                </a:lnTo>
                <a:lnTo>
                  <a:pt x="357" y="267"/>
                </a:lnTo>
                <a:lnTo>
                  <a:pt x="344" y="258"/>
                </a:lnTo>
                <a:lnTo>
                  <a:pt x="331" y="249"/>
                </a:lnTo>
                <a:lnTo>
                  <a:pt x="318" y="240"/>
                </a:lnTo>
                <a:lnTo>
                  <a:pt x="316" y="238"/>
                </a:lnTo>
                <a:lnTo>
                  <a:pt x="316" y="236"/>
                </a:lnTo>
                <a:lnTo>
                  <a:pt x="314" y="236"/>
                </a:lnTo>
                <a:lnTo>
                  <a:pt x="314" y="234"/>
                </a:lnTo>
                <a:lnTo>
                  <a:pt x="312" y="234"/>
                </a:lnTo>
                <a:lnTo>
                  <a:pt x="312" y="232"/>
                </a:lnTo>
                <a:lnTo>
                  <a:pt x="312" y="232"/>
                </a:lnTo>
                <a:lnTo>
                  <a:pt x="310" y="232"/>
                </a:lnTo>
                <a:lnTo>
                  <a:pt x="310" y="232"/>
                </a:lnTo>
                <a:lnTo>
                  <a:pt x="309" y="230"/>
                </a:lnTo>
                <a:lnTo>
                  <a:pt x="309" y="230"/>
                </a:lnTo>
                <a:lnTo>
                  <a:pt x="307" y="229"/>
                </a:lnTo>
                <a:lnTo>
                  <a:pt x="307" y="229"/>
                </a:lnTo>
                <a:lnTo>
                  <a:pt x="305" y="227"/>
                </a:lnTo>
                <a:lnTo>
                  <a:pt x="305" y="227"/>
                </a:lnTo>
                <a:lnTo>
                  <a:pt x="303" y="227"/>
                </a:lnTo>
                <a:lnTo>
                  <a:pt x="281" y="207"/>
                </a:lnTo>
                <a:lnTo>
                  <a:pt x="248" y="183"/>
                </a:lnTo>
                <a:lnTo>
                  <a:pt x="209" y="152"/>
                </a:lnTo>
                <a:lnTo>
                  <a:pt x="168" y="122"/>
                </a:lnTo>
                <a:lnTo>
                  <a:pt x="126" y="89"/>
                </a:lnTo>
                <a:lnTo>
                  <a:pt x="91" y="58"/>
                </a:lnTo>
                <a:lnTo>
                  <a:pt x="61" y="29"/>
                </a:lnTo>
                <a:lnTo>
                  <a:pt x="43" y="7"/>
                </a:lnTo>
                <a:lnTo>
                  <a:pt x="43" y="5"/>
                </a:lnTo>
                <a:lnTo>
                  <a:pt x="43" y="5"/>
                </a:lnTo>
                <a:lnTo>
                  <a:pt x="41" y="4"/>
                </a:lnTo>
                <a:lnTo>
                  <a:pt x="41" y="4"/>
                </a:lnTo>
                <a:lnTo>
                  <a:pt x="39" y="2"/>
                </a:lnTo>
                <a:lnTo>
                  <a:pt x="37" y="2"/>
                </a:lnTo>
                <a:lnTo>
                  <a:pt x="37" y="0"/>
                </a:lnTo>
                <a:lnTo>
                  <a:pt x="35" y="0"/>
                </a:lnTo>
                <a:lnTo>
                  <a:pt x="3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31000" y="2216160"/>
            <a:ext cx="2057400" cy="1068480"/>
          </a:xfrm>
          <a:custGeom>
            <a:avLst/>
            <a:gdLst/>
            <a:ahLst/>
            <a:rect l="l" t="t" r="r" b="b"/>
            <a:pathLst>
              <a:path w="1296" h="673">
                <a:moveTo>
                  <a:pt x="1296" y="0"/>
                </a:moveTo>
                <a:lnTo>
                  <a:pt x="1283" y="29"/>
                </a:lnTo>
                <a:lnTo>
                  <a:pt x="1263" y="58"/>
                </a:lnTo>
                <a:lnTo>
                  <a:pt x="1237" y="87"/>
                </a:lnTo>
                <a:lnTo>
                  <a:pt x="1210" y="116"/>
                </a:lnTo>
                <a:lnTo>
                  <a:pt x="1178" y="143"/>
                </a:lnTo>
                <a:lnTo>
                  <a:pt x="1145" y="170"/>
                </a:lnTo>
                <a:lnTo>
                  <a:pt x="1114" y="197"/>
                </a:lnTo>
                <a:lnTo>
                  <a:pt x="1084" y="221"/>
                </a:lnTo>
                <a:lnTo>
                  <a:pt x="1073" y="228"/>
                </a:lnTo>
                <a:lnTo>
                  <a:pt x="1064" y="235"/>
                </a:lnTo>
                <a:lnTo>
                  <a:pt x="1055" y="243"/>
                </a:lnTo>
                <a:lnTo>
                  <a:pt x="1043" y="250"/>
                </a:lnTo>
                <a:lnTo>
                  <a:pt x="1034" y="257"/>
                </a:lnTo>
                <a:lnTo>
                  <a:pt x="1023" y="265"/>
                </a:lnTo>
                <a:lnTo>
                  <a:pt x="1012" y="268"/>
                </a:lnTo>
                <a:lnTo>
                  <a:pt x="999" y="274"/>
                </a:lnTo>
                <a:lnTo>
                  <a:pt x="999" y="274"/>
                </a:lnTo>
                <a:lnTo>
                  <a:pt x="997" y="272"/>
                </a:lnTo>
                <a:lnTo>
                  <a:pt x="997" y="272"/>
                </a:lnTo>
                <a:lnTo>
                  <a:pt x="995" y="272"/>
                </a:lnTo>
                <a:lnTo>
                  <a:pt x="995" y="272"/>
                </a:lnTo>
                <a:lnTo>
                  <a:pt x="994" y="272"/>
                </a:lnTo>
                <a:lnTo>
                  <a:pt x="994" y="272"/>
                </a:lnTo>
                <a:lnTo>
                  <a:pt x="994" y="270"/>
                </a:lnTo>
                <a:lnTo>
                  <a:pt x="971" y="212"/>
                </a:lnTo>
                <a:lnTo>
                  <a:pt x="971" y="212"/>
                </a:lnTo>
                <a:lnTo>
                  <a:pt x="971" y="210"/>
                </a:lnTo>
                <a:lnTo>
                  <a:pt x="970" y="210"/>
                </a:lnTo>
                <a:lnTo>
                  <a:pt x="968" y="212"/>
                </a:lnTo>
                <a:lnTo>
                  <a:pt x="968" y="212"/>
                </a:lnTo>
                <a:lnTo>
                  <a:pt x="966" y="214"/>
                </a:lnTo>
                <a:lnTo>
                  <a:pt x="966" y="214"/>
                </a:lnTo>
                <a:lnTo>
                  <a:pt x="964" y="214"/>
                </a:lnTo>
                <a:lnTo>
                  <a:pt x="960" y="235"/>
                </a:lnTo>
                <a:lnTo>
                  <a:pt x="957" y="257"/>
                </a:lnTo>
                <a:lnTo>
                  <a:pt x="955" y="279"/>
                </a:lnTo>
                <a:lnTo>
                  <a:pt x="951" y="303"/>
                </a:lnTo>
                <a:lnTo>
                  <a:pt x="947" y="324"/>
                </a:lnTo>
                <a:lnTo>
                  <a:pt x="940" y="346"/>
                </a:lnTo>
                <a:lnTo>
                  <a:pt x="933" y="366"/>
                </a:lnTo>
                <a:lnTo>
                  <a:pt x="922" y="386"/>
                </a:lnTo>
                <a:lnTo>
                  <a:pt x="909" y="381"/>
                </a:lnTo>
                <a:lnTo>
                  <a:pt x="909" y="381"/>
                </a:lnTo>
                <a:lnTo>
                  <a:pt x="909" y="381"/>
                </a:lnTo>
                <a:lnTo>
                  <a:pt x="909" y="381"/>
                </a:lnTo>
                <a:lnTo>
                  <a:pt x="907" y="381"/>
                </a:lnTo>
                <a:lnTo>
                  <a:pt x="907" y="381"/>
                </a:lnTo>
                <a:lnTo>
                  <a:pt x="907" y="381"/>
                </a:lnTo>
                <a:lnTo>
                  <a:pt x="905" y="381"/>
                </a:lnTo>
                <a:lnTo>
                  <a:pt x="905" y="381"/>
                </a:lnTo>
                <a:lnTo>
                  <a:pt x="903" y="383"/>
                </a:lnTo>
                <a:lnTo>
                  <a:pt x="903" y="383"/>
                </a:lnTo>
                <a:lnTo>
                  <a:pt x="901" y="384"/>
                </a:lnTo>
                <a:lnTo>
                  <a:pt x="901" y="386"/>
                </a:lnTo>
                <a:lnTo>
                  <a:pt x="901" y="388"/>
                </a:lnTo>
                <a:lnTo>
                  <a:pt x="901" y="390"/>
                </a:lnTo>
                <a:lnTo>
                  <a:pt x="901" y="392"/>
                </a:lnTo>
                <a:lnTo>
                  <a:pt x="901" y="393"/>
                </a:lnTo>
                <a:lnTo>
                  <a:pt x="929" y="422"/>
                </a:lnTo>
                <a:lnTo>
                  <a:pt x="940" y="430"/>
                </a:lnTo>
                <a:lnTo>
                  <a:pt x="964" y="455"/>
                </a:lnTo>
                <a:lnTo>
                  <a:pt x="973" y="491"/>
                </a:lnTo>
                <a:lnTo>
                  <a:pt x="960" y="511"/>
                </a:lnTo>
                <a:lnTo>
                  <a:pt x="807" y="455"/>
                </a:lnTo>
                <a:lnTo>
                  <a:pt x="807" y="457"/>
                </a:lnTo>
                <a:lnTo>
                  <a:pt x="805" y="457"/>
                </a:lnTo>
                <a:lnTo>
                  <a:pt x="805" y="459"/>
                </a:lnTo>
                <a:lnTo>
                  <a:pt x="803" y="459"/>
                </a:lnTo>
                <a:lnTo>
                  <a:pt x="803" y="461"/>
                </a:lnTo>
                <a:lnTo>
                  <a:pt x="803" y="462"/>
                </a:lnTo>
                <a:lnTo>
                  <a:pt x="803" y="464"/>
                </a:lnTo>
                <a:lnTo>
                  <a:pt x="802" y="464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9"/>
                </a:lnTo>
                <a:lnTo>
                  <a:pt x="761" y="479"/>
                </a:lnTo>
                <a:lnTo>
                  <a:pt x="761" y="481"/>
                </a:lnTo>
                <a:lnTo>
                  <a:pt x="761" y="481"/>
                </a:lnTo>
                <a:lnTo>
                  <a:pt x="761" y="482"/>
                </a:lnTo>
                <a:lnTo>
                  <a:pt x="761" y="484"/>
                </a:lnTo>
                <a:lnTo>
                  <a:pt x="763" y="484"/>
                </a:lnTo>
                <a:lnTo>
                  <a:pt x="763" y="486"/>
                </a:lnTo>
                <a:lnTo>
                  <a:pt x="765" y="486"/>
                </a:lnTo>
                <a:lnTo>
                  <a:pt x="765" y="486"/>
                </a:lnTo>
                <a:lnTo>
                  <a:pt x="767" y="486"/>
                </a:lnTo>
                <a:lnTo>
                  <a:pt x="781" y="486"/>
                </a:lnTo>
                <a:lnTo>
                  <a:pt x="796" y="488"/>
                </a:lnTo>
                <a:lnTo>
                  <a:pt x="811" y="491"/>
                </a:lnTo>
                <a:lnTo>
                  <a:pt x="826" y="495"/>
                </a:lnTo>
                <a:lnTo>
                  <a:pt x="840" y="500"/>
                </a:lnTo>
                <a:lnTo>
                  <a:pt x="855" y="504"/>
                </a:lnTo>
                <a:lnTo>
                  <a:pt x="870" y="508"/>
                </a:lnTo>
                <a:lnTo>
                  <a:pt x="885" y="511"/>
                </a:lnTo>
                <a:lnTo>
                  <a:pt x="909" y="537"/>
                </a:lnTo>
                <a:lnTo>
                  <a:pt x="905" y="542"/>
                </a:lnTo>
                <a:lnTo>
                  <a:pt x="901" y="548"/>
                </a:lnTo>
                <a:lnTo>
                  <a:pt x="898" y="551"/>
                </a:lnTo>
                <a:lnTo>
                  <a:pt x="894" y="555"/>
                </a:lnTo>
                <a:lnTo>
                  <a:pt x="888" y="559"/>
                </a:lnTo>
                <a:lnTo>
                  <a:pt x="883" y="562"/>
                </a:lnTo>
                <a:lnTo>
                  <a:pt x="877" y="564"/>
                </a:lnTo>
                <a:lnTo>
                  <a:pt x="870" y="564"/>
                </a:lnTo>
                <a:lnTo>
                  <a:pt x="850" y="564"/>
                </a:lnTo>
                <a:lnTo>
                  <a:pt x="829" y="562"/>
                </a:lnTo>
                <a:lnTo>
                  <a:pt x="811" y="559"/>
                </a:lnTo>
                <a:lnTo>
                  <a:pt x="792" y="553"/>
                </a:lnTo>
                <a:lnTo>
                  <a:pt x="774" y="546"/>
                </a:lnTo>
                <a:lnTo>
                  <a:pt x="757" y="539"/>
                </a:lnTo>
                <a:lnTo>
                  <a:pt x="743" y="531"/>
                </a:lnTo>
                <a:lnTo>
                  <a:pt x="726" y="524"/>
                </a:lnTo>
                <a:lnTo>
                  <a:pt x="724" y="524"/>
                </a:lnTo>
                <a:lnTo>
                  <a:pt x="724" y="526"/>
                </a:lnTo>
                <a:lnTo>
                  <a:pt x="722" y="526"/>
                </a:lnTo>
                <a:lnTo>
                  <a:pt x="722" y="528"/>
                </a:lnTo>
                <a:lnTo>
                  <a:pt x="722" y="530"/>
                </a:lnTo>
                <a:lnTo>
                  <a:pt x="720" y="531"/>
                </a:lnTo>
                <a:lnTo>
                  <a:pt x="720" y="531"/>
                </a:lnTo>
                <a:lnTo>
                  <a:pt x="719" y="533"/>
                </a:lnTo>
                <a:lnTo>
                  <a:pt x="717" y="533"/>
                </a:lnTo>
                <a:lnTo>
                  <a:pt x="717" y="535"/>
                </a:lnTo>
                <a:lnTo>
                  <a:pt x="715" y="537"/>
                </a:lnTo>
                <a:lnTo>
                  <a:pt x="715" y="537"/>
                </a:lnTo>
                <a:lnTo>
                  <a:pt x="713" y="537"/>
                </a:lnTo>
                <a:lnTo>
                  <a:pt x="713" y="539"/>
                </a:lnTo>
                <a:lnTo>
                  <a:pt x="711" y="539"/>
                </a:lnTo>
                <a:lnTo>
                  <a:pt x="709" y="539"/>
                </a:lnTo>
                <a:lnTo>
                  <a:pt x="709" y="539"/>
                </a:lnTo>
                <a:lnTo>
                  <a:pt x="707" y="540"/>
                </a:lnTo>
                <a:lnTo>
                  <a:pt x="707" y="542"/>
                </a:lnTo>
                <a:lnTo>
                  <a:pt x="707" y="542"/>
                </a:lnTo>
                <a:lnTo>
                  <a:pt x="707" y="544"/>
                </a:lnTo>
                <a:lnTo>
                  <a:pt x="707" y="546"/>
                </a:lnTo>
                <a:lnTo>
                  <a:pt x="707" y="546"/>
                </a:lnTo>
                <a:lnTo>
                  <a:pt x="707" y="548"/>
                </a:lnTo>
                <a:lnTo>
                  <a:pt x="807" y="584"/>
                </a:lnTo>
                <a:lnTo>
                  <a:pt x="807" y="586"/>
                </a:lnTo>
                <a:lnTo>
                  <a:pt x="807" y="586"/>
                </a:lnTo>
                <a:lnTo>
                  <a:pt x="807" y="588"/>
                </a:lnTo>
                <a:lnTo>
                  <a:pt x="807" y="588"/>
                </a:lnTo>
                <a:lnTo>
                  <a:pt x="807" y="589"/>
                </a:lnTo>
                <a:lnTo>
                  <a:pt x="807" y="589"/>
                </a:lnTo>
                <a:lnTo>
                  <a:pt x="807" y="591"/>
                </a:lnTo>
                <a:lnTo>
                  <a:pt x="807" y="591"/>
                </a:lnTo>
                <a:lnTo>
                  <a:pt x="792" y="597"/>
                </a:lnTo>
                <a:lnTo>
                  <a:pt x="776" y="598"/>
                </a:lnTo>
                <a:lnTo>
                  <a:pt x="759" y="598"/>
                </a:lnTo>
                <a:lnTo>
                  <a:pt x="743" y="597"/>
                </a:lnTo>
                <a:lnTo>
                  <a:pt x="726" y="595"/>
                </a:lnTo>
                <a:lnTo>
                  <a:pt x="707" y="591"/>
                </a:lnTo>
                <a:lnTo>
                  <a:pt x="691" y="588"/>
                </a:lnTo>
                <a:lnTo>
                  <a:pt x="676" y="584"/>
                </a:lnTo>
                <a:lnTo>
                  <a:pt x="674" y="582"/>
                </a:lnTo>
                <a:lnTo>
                  <a:pt x="672" y="582"/>
                </a:lnTo>
                <a:lnTo>
                  <a:pt x="672" y="582"/>
                </a:lnTo>
                <a:lnTo>
                  <a:pt x="671" y="580"/>
                </a:lnTo>
                <a:lnTo>
                  <a:pt x="669" y="580"/>
                </a:lnTo>
                <a:lnTo>
                  <a:pt x="669" y="580"/>
                </a:lnTo>
                <a:lnTo>
                  <a:pt x="667" y="580"/>
                </a:lnTo>
                <a:lnTo>
                  <a:pt x="667" y="579"/>
                </a:lnTo>
                <a:lnTo>
                  <a:pt x="665" y="580"/>
                </a:lnTo>
                <a:lnTo>
                  <a:pt x="663" y="580"/>
                </a:lnTo>
                <a:lnTo>
                  <a:pt x="661" y="580"/>
                </a:lnTo>
                <a:lnTo>
                  <a:pt x="661" y="580"/>
                </a:lnTo>
                <a:lnTo>
                  <a:pt x="659" y="580"/>
                </a:lnTo>
                <a:lnTo>
                  <a:pt x="658" y="582"/>
                </a:lnTo>
                <a:lnTo>
                  <a:pt x="658" y="582"/>
                </a:lnTo>
                <a:lnTo>
                  <a:pt x="656" y="584"/>
                </a:lnTo>
                <a:lnTo>
                  <a:pt x="669" y="604"/>
                </a:lnTo>
                <a:lnTo>
                  <a:pt x="669" y="608"/>
                </a:lnTo>
                <a:lnTo>
                  <a:pt x="669" y="609"/>
                </a:lnTo>
                <a:lnTo>
                  <a:pt x="669" y="611"/>
                </a:lnTo>
                <a:lnTo>
                  <a:pt x="667" y="613"/>
                </a:lnTo>
                <a:lnTo>
                  <a:pt x="667" y="615"/>
                </a:lnTo>
                <a:lnTo>
                  <a:pt x="665" y="617"/>
                </a:lnTo>
                <a:lnTo>
                  <a:pt x="663" y="618"/>
                </a:lnTo>
                <a:lnTo>
                  <a:pt x="663" y="620"/>
                </a:lnTo>
                <a:lnTo>
                  <a:pt x="652" y="620"/>
                </a:lnTo>
                <a:lnTo>
                  <a:pt x="639" y="624"/>
                </a:lnTo>
                <a:lnTo>
                  <a:pt x="575" y="609"/>
                </a:lnTo>
                <a:lnTo>
                  <a:pt x="569" y="604"/>
                </a:lnTo>
                <a:lnTo>
                  <a:pt x="562" y="602"/>
                </a:lnTo>
                <a:lnTo>
                  <a:pt x="552" y="600"/>
                </a:lnTo>
                <a:lnTo>
                  <a:pt x="543" y="600"/>
                </a:lnTo>
                <a:lnTo>
                  <a:pt x="534" y="600"/>
                </a:lnTo>
                <a:lnTo>
                  <a:pt x="527" y="600"/>
                </a:lnTo>
                <a:lnTo>
                  <a:pt x="517" y="598"/>
                </a:lnTo>
                <a:lnTo>
                  <a:pt x="510" y="595"/>
                </a:lnTo>
                <a:lnTo>
                  <a:pt x="508" y="593"/>
                </a:lnTo>
                <a:lnTo>
                  <a:pt x="508" y="593"/>
                </a:lnTo>
                <a:lnTo>
                  <a:pt x="506" y="593"/>
                </a:lnTo>
                <a:lnTo>
                  <a:pt x="506" y="591"/>
                </a:lnTo>
                <a:lnTo>
                  <a:pt x="504" y="591"/>
                </a:lnTo>
                <a:lnTo>
                  <a:pt x="504" y="591"/>
                </a:lnTo>
                <a:lnTo>
                  <a:pt x="504" y="591"/>
                </a:lnTo>
                <a:lnTo>
                  <a:pt x="504" y="591"/>
                </a:lnTo>
                <a:lnTo>
                  <a:pt x="503" y="591"/>
                </a:lnTo>
                <a:lnTo>
                  <a:pt x="501" y="591"/>
                </a:lnTo>
                <a:lnTo>
                  <a:pt x="499" y="591"/>
                </a:lnTo>
                <a:lnTo>
                  <a:pt x="499" y="591"/>
                </a:lnTo>
                <a:lnTo>
                  <a:pt x="497" y="589"/>
                </a:lnTo>
                <a:lnTo>
                  <a:pt x="495" y="588"/>
                </a:lnTo>
                <a:lnTo>
                  <a:pt x="495" y="586"/>
                </a:lnTo>
                <a:lnTo>
                  <a:pt x="493" y="584"/>
                </a:lnTo>
                <a:lnTo>
                  <a:pt x="497" y="580"/>
                </a:lnTo>
                <a:lnTo>
                  <a:pt x="499" y="575"/>
                </a:lnTo>
                <a:lnTo>
                  <a:pt x="501" y="569"/>
                </a:lnTo>
                <a:lnTo>
                  <a:pt x="503" y="564"/>
                </a:lnTo>
                <a:lnTo>
                  <a:pt x="504" y="559"/>
                </a:lnTo>
                <a:lnTo>
                  <a:pt x="504" y="553"/>
                </a:lnTo>
                <a:lnTo>
                  <a:pt x="503" y="548"/>
                </a:lnTo>
                <a:lnTo>
                  <a:pt x="503" y="544"/>
                </a:lnTo>
                <a:lnTo>
                  <a:pt x="501" y="540"/>
                </a:lnTo>
                <a:lnTo>
                  <a:pt x="499" y="539"/>
                </a:lnTo>
                <a:lnTo>
                  <a:pt x="497" y="535"/>
                </a:lnTo>
                <a:lnTo>
                  <a:pt x="495" y="533"/>
                </a:lnTo>
                <a:lnTo>
                  <a:pt x="493" y="531"/>
                </a:lnTo>
                <a:lnTo>
                  <a:pt x="490" y="530"/>
                </a:lnTo>
                <a:lnTo>
                  <a:pt x="488" y="528"/>
                </a:lnTo>
                <a:lnTo>
                  <a:pt x="486" y="526"/>
                </a:lnTo>
                <a:lnTo>
                  <a:pt x="477" y="524"/>
                </a:lnTo>
                <a:lnTo>
                  <a:pt x="469" y="524"/>
                </a:lnTo>
                <a:lnTo>
                  <a:pt x="460" y="524"/>
                </a:lnTo>
                <a:lnTo>
                  <a:pt x="451" y="526"/>
                </a:lnTo>
                <a:lnTo>
                  <a:pt x="442" y="530"/>
                </a:lnTo>
                <a:lnTo>
                  <a:pt x="434" y="533"/>
                </a:lnTo>
                <a:lnTo>
                  <a:pt x="427" y="537"/>
                </a:lnTo>
                <a:lnTo>
                  <a:pt x="421" y="542"/>
                </a:lnTo>
                <a:lnTo>
                  <a:pt x="410" y="537"/>
                </a:lnTo>
                <a:lnTo>
                  <a:pt x="410" y="531"/>
                </a:lnTo>
                <a:lnTo>
                  <a:pt x="412" y="524"/>
                </a:lnTo>
                <a:lnTo>
                  <a:pt x="414" y="517"/>
                </a:lnTo>
                <a:lnTo>
                  <a:pt x="418" y="510"/>
                </a:lnTo>
                <a:lnTo>
                  <a:pt x="418" y="502"/>
                </a:lnTo>
                <a:lnTo>
                  <a:pt x="418" y="493"/>
                </a:lnTo>
                <a:lnTo>
                  <a:pt x="416" y="484"/>
                </a:lnTo>
                <a:lnTo>
                  <a:pt x="412" y="477"/>
                </a:lnTo>
                <a:lnTo>
                  <a:pt x="405" y="473"/>
                </a:lnTo>
                <a:lnTo>
                  <a:pt x="397" y="471"/>
                </a:lnTo>
                <a:lnTo>
                  <a:pt x="390" y="471"/>
                </a:lnTo>
                <a:lnTo>
                  <a:pt x="383" y="470"/>
                </a:lnTo>
                <a:lnTo>
                  <a:pt x="375" y="471"/>
                </a:lnTo>
                <a:lnTo>
                  <a:pt x="366" y="473"/>
                </a:lnTo>
                <a:lnTo>
                  <a:pt x="359" y="475"/>
                </a:lnTo>
                <a:lnTo>
                  <a:pt x="351" y="479"/>
                </a:lnTo>
                <a:lnTo>
                  <a:pt x="349" y="481"/>
                </a:lnTo>
                <a:lnTo>
                  <a:pt x="346" y="482"/>
                </a:lnTo>
                <a:lnTo>
                  <a:pt x="344" y="486"/>
                </a:lnTo>
                <a:lnTo>
                  <a:pt x="340" y="488"/>
                </a:lnTo>
                <a:lnTo>
                  <a:pt x="338" y="490"/>
                </a:lnTo>
                <a:lnTo>
                  <a:pt x="336" y="491"/>
                </a:lnTo>
                <a:lnTo>
                  <a:pt x="333" y="491"/>
                </a:lnTo>
                <a:lnTo>
                  <a:pt x="329" y="491"/>
                </a:lnTo>
                <a:lnTo>
                  <a:pt x="311" y="477"/>
                </a:lnTo>
                <a:lnTo>
                  <a:pt x="301" y="448"/>
                </a:lnTo>
                <a:lnTo>
                  <a:pt x="261" y="435"/>
                </a:lnTo>
                <a:lnTo>
                  <a:pt x="240" y="417"/>
                </a:lnTo>
                <a:lnTo>
                  <a:pt x="224" y="395"/>
                </a:lnTo>
                <a:lnTo>
                  <a:pt x="209" y="373"/>
                </a:lnTo>
                <a:lnTo>
                  <a:pt x="198" y="350"/>
                </a:lnTo>
                <a:lnTo>
                  <a:pt x="187" y="324"/>
                </a:lnTo>
                <a:lnTo>
                  <a:pt x="176" y="299"/>
                </a:lnTo>
                <a:lnTo>
                  <a:pt x="165" y="274"/>
                </a:lnTo>
                <a:lnTo>
                  <a:pt x="152" y="248"/>
                </a:lnTo>
                <a:lnTo>
                  <a:pt x="128" y="235"/>
                </a:lnTo>
                <a:lnTo>
                  <a:pt x="109" y="223"/>
                </a:lnTo>
                <a:lnTo>
                  <a:pt x="95" y="214"/>
                </a:lnTo>
                <a:lnTo>
                  <a:pt x="80" y="203"/>
                </a:lnTo>
                <a:lnTo>
                  <a:pt x="65" y="192"/>
                </a:lnTo>
                <a:lnTo>
                  <a:pt x="50" y="179"/>
                </a:lnTo>
                <a:lnTo>
                  <a:pt x="32" y="163"/>
                </a:lnTo>
                <a:lnTo>
                  <a:pt x="10" y="143"/>
                </a:lnTo>
                <a:lnTo>
                  <a:pt x="13" y="141"/>
                </a:lnTo>
                <a:lnTo>
                  <a:pt x="15" y="141"/>
                </a:lnTo>
                <a:lnTo>
                  <a:pt x="12" y="145"/>
                </a:lnTo>
                <a:lnTo>
                  <a:pt x="8" y="152"/>
                </a:lnTo>
                <a:lnTo>
                  <a:pt x="4" y="165"/>
                </a:lnTo>
                <a:lnTo>
                  <a:pt x="0" y="181"/>
                </a:lnTo>
                <a:lnTo>
                  <a:pt x="0" y="206"/>
                </a:lnTo>
                <a:lnTo>
                  <a:pt x="4" y="237"/>
                </a:lnTo>
                <a:lnTo>
                  <a:pt x="23" y="259"/>
                </a:lnTo>
                <a:lnTo>
                  <a:pt x="41" y="275"/>
                </a:lnTo>
                <a:lnTo>
                  <a:pt x="56" y="286"/>
                </a:lnTo>
                <a:lnTo>
                  <a:pt x="71" y="295"/>
                </a:lnTo>
                <a:lnTo>
                  <a:pt x="85" y="306"/>
                </a:lnTo>
                <a:lnTo>
                  <a:pt x="102" y="317"/>
                </a:lnTo>
                <a:lnTo>
                  <a:pt x="117" y="334"/>
                </a:lnTo>
                <a:lnTo>
                  <a:pt x="133" y="357"/>
                </a:lnTo>
                <a:lnTo>
                  <a:pt x="159" y="402"/>
                </a:lnTo>
                <a:lnTo>
                  <a:pt x="135" y="372"/>
                </a:lnTo>
                <a:lnTo>
                  <a:pt x="152" y="404"/>
                </a:lnTo>
                <a:lnTo>
                  <a:pt x="126" y="402"/>
                </a:lnTo>
                <a:lnTo>
                  <a:pt x="122" y="408"/>
                </a:lnTo>
                <a:lnTo>
                  <a:pt x="115" y="412"/>
                </a:lnTo>
                <a:lnTo>
                  <a:pt x="109" y="417"/>
                </a:lnTo>
                <a:lnTo>
                  <a:pt x="104" y="421"/>
                </a:lnTo>
                <a:lnTo>
                  <a:pt x="98" y="426"/>
                </a:lnTo>
                <a:lnTo>
                  <a:pt x="93" y="433"/>
                </a:lnTo>
                <a:lnTo>
                  <a:pt x="91" y="439"/>
                </a:lnTo>
                <a:lnTo>
                  <a:pt x="91" y="448"/>
                </a:lnTo>
                <a:lnTo>
                  <a:pt x="95" y="457"/>
                </a:lnTo>
                <a:lnTo>
                  <a:pt x="98" y="464"/>
                </a:lnTo>
                <a:lnTo>
                  <a:pt x="102" y="471"/>
                </a:lnTo>
                <a:lnTo>
                  <a:pt x="108" y="479"/>
                </a:lnTo>
                <a:lnTo>
                  <a:pt x="115" y="484"/>
                </a:lnTo>
                <a:lnTo>
                  <a:pt x="120" y="490"/>
                </a:lnTo>
                <a:lnTo>
                  <a:pt x="128" y="495"/>
                </a:lnTo>
                <a:lnTo>
                  <a:pt x="135" y="499"/>
                </a:lnTo>
                <a:lnTo>
                  <a:pt x="139" y="500"/>
                </a:lnTo>
                <a:lnTo>
                  <a:pt x="141" y="500"/>
                </a:lnTo>
                <a:lnTo>
                  <a:pt x="143" y="500"/>
                </a:lnTo>
                <a:lnTo>
                  <a:pt x="146" y="502"/>
                </a:lnTo>
                <a:lnTo>
                  <a:pt x="148" y="502"/>
                </a:lnTo>
                <a:lnTo>
                  <a:pt x="150" y="504"/>
                </a:lnTo>
                <a:lnTo>
                  <a:pt x="152" y="506"/>
                </a:lnTo>
                <a:lnTo>
                  <a:pt x="154" y="506"/>
                </a:lnTo>
                <a:lnTo>
                  <a:pt x="167" y="500"/>
                </a:lnTo>
                <a:lnTo>
                  <a:pt x="168" y="495"/>
                </a:lnTo>
                <a:lnTo>
                  <a:pt x="172" y="490"/>
                </a:lnTo>
                <a:lnTo>
                  <a:pt x="176" y="484"/>
                </a:lnTo>
                <a:lnTo>
                  <a:pt x="178" y="479"/>
                </a:lnTo>
                <a:lnTo>
                  <a:pt x="180" y="471"/>
                </a:lnTo>
                <a:lnTo>
                  <a:pt x="181" y="466"/>
                </a:lnTo>
                <a:lnTo>
                  <a:pt x="181" y="459"/>
                </a:lnTo>
                <a:lnTo>
                  <a:pt x="181" y="451"/>
                </a:lnTo>
                <a:lnTo>
                  <a:pt x="194" y="477"/>
                </a:lnTo>
                <a:lnTo>
                  <a:pt x="194" y="479"/>
                </a:lnTo>
                <a:lnTo>
                  <a:pt x="192" y="482"/>
                </a:lnTo>
                <a:lnTo>
                  <a:pt x="191" y="484"/>
                </a:lnTo>
                <a:lnTo>
                  <a:pt x="189" y="486"/>
                </a:lnTo>
                <a:lnTo>
                  <a:pt x="187" y="488"/>
                </a:lnTo>
                <a:lnTo>
                  <a:pt x="185" y="490"/>
                </a:lnTo>
                <a:lnTo>
                  <a:pt x="183" y="491"/>
                </a:lnTo>
                <a:lnTo>
                  <a:pt x="181" y="495"/>
                </a:lnTo>
                <a:lnTo>
                  <a:pt x="181" y="495"/>
                </a:lnTo>
                <a:lnTo>
                  <a:pt x="181" y="495"/>
                </a:lnTo>
                <a:lnTo>
                  <a:pt x="183" y="497"/>
                </a:lnTo>
                <a:lnTo>
                  <a:pt x="183" y="497"/>
                </a:lnTo>
                <a:lnTo>
                  <a:pt x="185" y="499"/>
                </a:lnTo>
                <a:lnTo>
                  <a:pt x="185" y="499"/>
                </a:lnTo>
                <a:lnTo>
                  <a:pt x="187" y="499"/>
                </a:lnTo>
                <a:lnTo>
                  <a:pt x="187" y="499"/>
                </a:lnTo>
                <a:lnTo>
                  <a:pt x="196" y="488"/>
                </a:lnTo>
                <a:lnTo>
                  <a:pt x="207" y="479"/>
                </a:lnTo>
                <a:lnTo>
                  <a:pt x="216" y="470"/>
                </a:lnTo>
                <a:lnTo>
                  <a:pt x="228" y="461"/>
                </a:lnTo>
                <a:lnTo>
                  <a:pt x="240" y="453"/>
                </a:lnTo>
                <a:lnTo>
                  <a:pt x="253" y="450"/>
                </a:lnTo>
                <a:lnTo>
                  <a:pt x="266" y="446"/>
                </a:lnTo>
                <a:lnTo>
                  <a:pt x="281" y="448"/>
                </a:lnTo>
                <a:lnTo>
                  <a:pt x="281" y="450"/>
                </a:lnTo>
                <a:lnTo>
                  <a:pt x="283" y="450"/>
                </a:lnTo>
                <a:lnTo>
                  <a:pt x="285" y="450"/>
                </a:lnTo>
                <a:lnTo>
                  <a:pt x="285" y="451"/>
                </a:lnTo>
                <a:lnTo>
                  <a:pt x="287" y="451"/>
                </a:lnTo>
                <a:lnTo>
                  <a:pt x="288" y="451"/>
                </a:lnTo>
                <a:lnTo>
                  <a:pt x="288" y="451"/>
                </a:lnTo>
                <a:lnTo>
                  <a:pt x="290" y="451"/>
                </a:lnTo>
                <a:lnTo>
                  <a:pt x="290" y="457"/>
                </a:lnTo>
                <a:lnTo>
                  <a:pt x="288" y="462"/>
                </a:lnTo>
                <a:lnTo>
                  <a:pt x="288" y="468"/>
                </a:lnTo>
                <a:lnTo>
                  <a:pt x="285" y="473"/>
                </a:lnTo>
                <a:lnTo>
                  <a:pt x="283" y="477"/>
                </a:lnTo>
                <a:lnTo>
                  <a:pt x="279" y="481"/>
                </a:lnTo>
                <a:lnTo>
                  <a:pt x="276" y="486"/>
                </a:lnTo>
                <a:lnTo>
                  <a:pt x="272" y="488"/>
                </a:lnTo>
                <a:lnTo>
                  <a:pt x="270" y="490"/>
                </a:lnTo>
                <a:lnTo>
                  <a:pt x="268" y="491"/>
                </a:lnTo>
                <a:lnTo>
                  <a:pt x="266" y="491"/>
                </a:lnTo>
                <a:lnTo>
                  <a:pt x="266" y="493"/>
                </a:lnTo>
                <a:lnTo>
                  <a:pt x="264" y="493"/>
                </a:lnTo>
                <a:lnTo>
                  <a:pt x="263" y="495"/>
                </a:lnTo>
                <a:lnTo>
                  <a:pt x="263" y="495"/>
                </a:lnTo>
                <a:lnTo>
                  <a:pt x="261" y="495"/>
                </a:lnTo>
                <a:lnTo>
                  <a:pt x="259" y="495"/>
                </a:lnTo>
                <a:lnTo>
                  <a:pt x="257" y="493"/>
                </a:lnTo>
                <a:lnTo>
                  <a:pt x="255" y="493"/>
                </a:lnTo>
                <a:lnTo>
                  <a:pt x="255" y="491"/>
                </a:lnTo>
                <a:lnTo>
                  <a:pt x="255" y="490"/>
                </a:lnTo>
                <a:lnTo>
                  <a:pt x="253" y="488"/>
                </a:lnTo>
                <a:lnTo>
                  <a:pt x="253" y="486"/>
                </a:lnTo>
                <a:lnTo>
                  <a:pt x="252" y="484"/>
                </a:lnTo>
                <a:lnTo>
                  <a:pt x="250" y="484"/>
                </a:lnTo>
                <a:lnTo>
                  <a:pt x="248" y="484"/>
                </a:lnTo>
                <a:lnTo>
                  <a:pt x="246" y="486"/>
                </a:lnTo>
                <a:lnTo>
                  <a:pt x="244" y="486"/>
                </a:lnTo>
                <a:lnTo>
                  <a:pt x="242" y="488"/>
                </a:lnTo>
                <a:lnTo>
                  <a:pt x="242" y="488"/>
                </a:lnTo>
                <a:lnTo>
                  <a:pt x="240" y="490"/>
                </a:lnTo>
                <a:lnTo>
                  <a:pt x="239" y="491"/>
                </a:lnTo>
                <a:lnTo>
                  <a:pt x="250" y="508"/>
                </a:lnTo>
                <a:lnTo>
                  <a:pt x="246" y="513"/>
                </a:lnTo>
                <a:lnTo>
                  <a:pt x="240" y="517"/>
                </a:lnTo>
                <a:lnTo>
                  <a:pt x="237" y="520"/>
                </a:lnTo>
                <a:lnTo>
                  <a:pt x="231" y="524"/>
                </a:lnTo>
                <a:lnTo>
                  <a:pt x="226" y="526"/>
                </a:lnTo>
                <a:lnTo>
                  <a:pt x="220" y="528"/>
                </a:lnTo>
                <a:lnTo>
                  <a:pt x="213" y="530"/>
                </a:lnTo>
                <a:lnTo>
                  <a:pt x="205" y="530"/>
                </a:lnTo>
                <a:lnTo>
                  <a:pt x="183" y="511"/>
                </a:lnTo>
                <a:lnTo>
                  <a:pt x="181" y="511"/>
                </a:lnTo>
                <a:lnTo>
                  <a:pt x="181" y="511"/>
                </a:lnTo>
                <a:lnTo>
                  <a:pt x="180" y="513"/>
                </a:lnTo>
                <a:lnTo>
                  <a:pt x="180" y="513"/>
                </a:lnTo>
                <a:lnTo>
                  <a:pt x="178" y="513"/>
                </a:lnTo>
                <a:lnTo>
                  <a:pt x="178" y="515"/>
                </a:lnTo>
                <a:lnTo>
                  <a:pt x="176" y="515"/>
                </a:lnTo>
                <a:lnTo>
                  <a:pt x="176" y="517"/>
                </a:lnTo>
                <a:lnTo>
                  <a:pt x="176" y="519"/>
                </a:lnTo>
                <a:lnTo>
                  <a:pt x="176" y="519"/>
                </a:lnTo>
                <a:lnTo>
                  <a:pt x="176" y="519"/>
                </a:lnTo>
                <a:lnTo>
                  <a:pt x="176" y="520"/>
                </a:lnTo>
                <a:lnTo>
                  <a:pt x="176" y="520"/>
                </a:lnTo>
                <a:lnTo>
                  <a:pt x="176" y="522"/>
                </a:lnTo>
                <a:lnTo>
                  <a:pt x="176" y="522"/>
                </a:lnTo>
                <a:lnTo>
                  <a:pt x="176" y="524"/>
                </a:lnTo>
                <a:lnTo>
                  <a:pt x="213" y="549"/>
                </a:lnTo>
                <a:lnTo>
                  <a:pt x="218" y="549"/>
                </a:lnTo>
                <a:lnTo>
                  <a:pt x="226" y="551"/>
                </a:lnTo>
                <a:lnTo>
                  <a:pt x="231" y="551"/>
                </a:lnTo>
                <a:lnTo>
                  <a:pt x="239" y="549"/>
                </a:lnTo>
                <a:lnTo>
                  <a:pt x="244" y="549"/>
                </a:lnTo>
                <a:lnTo>
                  <a:pt x="250" y="548"/>
                </a:lnTo>
                <a:lnTo>
                  <a:pt x="255" y="544"/>
                </a:lnTo>
                <a:lnTo>
                  <a:pt x="261" y="540"/>
                </a:lnTo>
                <a:lnTo>
                  <a:pt x="263" y="539"/>
                </a:lnTo>
                <a:lnTo>
                  <a:pt x="263" y="537"/>
                </a:lnTo>
                <a:lnTo>
                  <a:pt x="264" y="537"/>
                </a:lnTo>
                <a:lnTo>
                  <a:pt x="264" y="535"/>
                </a:lnTo>
                <a:lnTo>
                  <a:pt x="266" y="533"/>
                </a:lnTo>
                <a:lnTo>
                  <a:pt x="268" y="533"/>
                </a:lnTo>
                <a:lnTo>
                  <a:pt x="268" y="533"/>
                </a:lnTo>
                <a:lnTo>
                  <a:pt x="270" y="531"/>
                </a:lnTo>
                <a:lnTo>
                  <a:pt x="272" y="531"/>
                </a:lnTo>
                <a:lnTo>
                  <a:pt x="272" y="531"/>
                </a:lnTo>
                <a:lnTo>
                  <a:pt x="274" y="533"/>
                </a:lnTo>
                <a:lnTo>
                  <a:pt x="276" y="533"/>
                </a:lnTo>
                <a:lnTo>
                  <a:pt x="276" y="533"/>
                </a:lnTo>
                <a:lnTo>
                  <a:pt x="277" y="535"/>
                </a:lnTo>
                <a:lnTo>
                  <a:pt x="277" y="535"/>
                </a:lnTo>
                <a:lnTo>
                  <a:pt x="279" y="537"/>
                </a:lnTo>
                <a:lnTo>
                  <a:pt x="270" y="549"/>
                </a:lnTo>
                <a:lnTo>
                  <a:pt x="268" y="549"/>
                </a:lnTo>
                <a:lnTo>
                  <a:pt x="268" y="551"/>
                </a:lnTo>
                <a:lnTo>
                  <a:pt x="266" y="551"/>
                </a:lnTo>
                <a:lnTo>
                  <a:pt x="266" y="553"/>
                </a:lnTo>
                <a:lnTo>
                  <a:pt x="264" y="555"/>
                </a:lnTo>
                <a:lnTo>
                  <a:pt x="264" y="557"/>
                </a:lnTo>
                <a:lnTo>
                  <a:pt x="263" y="559"/>
                </a:lnTo>
                <a:lnTo>
                  <a:pt x="263" y="560"/>
                </a:lnTo>
                <a:lnTo>
                  <a:pt x="290" y="591"/>
                </a:lnTo>
                <a:lnTo>
                  <a:pt x="346" y="604"/>
                </a:lnTo>
                <a:lnTo>
                  <a:pt x="348" y="604"/>
                </a:lnTo>
                <a:lnTo>
                  <a:pt x="348" y="604"/>
                </a:lnTo>
                <a:lnTo>
                  <a:pt x="348" y="606"/>
                </a:lnTo>
                <a:lnTo>
                  <a:pt x="349" y="606"/>
                </a:lnTo>
                <a:lnTo>
                  <a:pt x="349" y="608"/>
                </a:lnTo>
                <a:lnTo>
                  <a:pt x="349" y="608"/>
                </a:lnTo>
                <a:lnTo>
                  <a:pt x="351" y="608"/>
                </a:lnTo>
                <a:lnTo>
                  <a:pt x="351" y="609"/>
                </a:lnTo>
                <a:lnTo>
                  <a:pt x="386" y="628"/>
                </a:lnTo>
                <a:lnTo>
                  <a:pt x="386" y="629"/>
                </a:lnTo>
                <a:lnTo>
                  <a:pt x="386" y="631"/>
                </a:lnTo>
                <a:lnTo>
                  <a:pt x="388" y="631"/>
                </a:lnTo>
                <a:lnTo>
                  <a:pt x="388" y="633"/>
                </a:lnTo>
                <a:lnTo>
                  <a:pt x="388" y="633"/>
                </a:lnTo>
                <a:lnTo>
                  <a:pt x="390" y="635"/>
                </a:lnTo>
                <a:lnTo>
                  <a:pt x="392" y="635"/>
                </a:lnTo>
                <a:lnTo>
                  <a:pt x="394" y="637"/>
                </a:lnTo>
                <a:lnTo>
                  <a:pt x="405" y="638"/>
                </a:lnTo>
                <a:lnTo>
                  <a:pt x="418" y="638"/>
                </a:lnTo>
                <a:lnTo>
                  <a:pt x="431" y="638"/>
                </a:lnTo>
                <a:lnTo>
                  <a:pt x="445" y="635"/>
                </a:lnTo>
                <a:lnTo>
                  <a:pt x="458" y="633"/>
                </a:lnTo>
                <a:lnTo>
                  <a:pt x="471" y="633"/>
                </a:lnTo>
                <a:lnTo>
                  <a:pt x="482" y="635"/>
                </a:lnTo>
                <a:lnTo>
                  <a:pt x="495" y="640"/>
                </a:lnTo>
                <a:lnTo>
                  <a:pt x="516" y="646"/>
                </a:lnTo>
                <a:lnTo>
                  <a:pt x="536" y="653"/>
                </a:lnTo>
                <a:lnTo>
                  <a:pt x="554" y="658"/>
                </a:lnTo>
                <a:lnTo>
                  <a:pt x="573" y="666"/>
                </a:lnTo>
                <a:lnTo>
                  <a:pt x="593" y="671"/>
                </a:lnTo>
                <a:lnTo>
                  <a:pt x="612" y="673"/>
                </a:lnTo>
                <a:lnTo>
                  <a:pt x="632" y="671"/>
                </a:lnTo>
                <a:lnTo>
                  <a:pt x="654" y="666"/>
                </a:lnTo>
                <a:lnTo>
                  <a:pt x="669" y="660"/>
                </a:lnTo>
                <a:lnTo>
                  <a:pt x="683" y="657"/>
                </a:lnTo>
                <a:lnTo>
                  <a:pt x="700" y="655"/>
                </a:lnTo>
                <a:lnTo>
                  <a:pt x="715" y="651"/>
                </a:lnTo>
                <a:lnTo>
                  <a:pt x="731" y="649"/>
                </a:lnTo>
                <a:lnTo>
                  <a:pt x="744" y="644"/>
                </a:lnTo>
                <a:lnTo>
                  <a:pt x="757" y="637"/>
                </a:lnTo>
                <a:lnTo>
                  <a:pt x="768" y="628"/>
                </a:lnTo>
                <a:lnTo>
                  <a:pt x="848" y="606"/>
                </a:lnTo>
                <a:lnTo>
                  <a:pt x="848" y="606"/>
                </a:lnTo>
                <a:lnTo>
                  <a:pt x="846" y="606"/>
                </a:lnTo>
                <a:lnTo>
                  <a:pt x="846" y="606"/>
                </a:lnTo>
                <a:lnTo>
                  <a:pt x="844" y="604"/>
                </a:lnTo>
                <a:lnTo>
                  <a:pt x="844" y="604"/>
                </a:lnTo>
                <a:lnTo>
                  <a:pt x="842" y="602"/>
                </a:lnTo>
                <a:lnTo>
                  <a:pt x="842" y="602"/>
                </a:lnTo>
                <a:lnTo>
                  <a:pt x="842" y="600"/>
                </a:lnTo>
                <a:lnTo>
                  <a:pt x="842" y="598"/>
                </a:lnTo>
                <a:lnTo>
                  <a:pt x="842" y="597"/>
                </a:lnTo>
                <a:lnTo>
                  <a:pt x="844" y="597"/>
                </a:lnTo>
                <a:lnTo>
                  <a:pt x="846" y="595"/>
                </a:lnTo>
                <a:lnTo>
                  <a:pt x="846" y="593"/>
                </a:lnTo>
                <a:lnTo>
                  <a:pt x="848" y="593"/>
                </a:lnTo>
                <a:lnTo>
                  <a:pt x="850" y="591"/>
                </a:lnTo>
                <a:lnTo>
                  <a:pt x="853" y="591"/>
                </a:lnTo>
                <a:lnTo>
                  <a:pt x="881" y="580"/>
                </a:lnTo>
                <a:lnTo>
                  <a:pt x="881" y="580"/>
                </a:lnTo>
                <a:lnTo>
                  <a:pt x="883" y="579"/>
                </a:lnTo>
                <a:lnTo>
                  <a:pt x="883" y="579"/>
                </a:lnTo>
                <a:lnTo>
                  <a:pt x="885" y="577"/>
                </a:lnTo>
                <a:lnTo>
                  <a:pt x="885" y="577"/>
                </a:lnTo>
                <a:lnTo>
                  <a:pt x="887" y="577"/>
                </a:lnTo>
                <a:lnTo>
                  <a:pt x="887" y="575"/>
                </a:lnTo>
                <a:lnTo>
                  <a:pt x="888" y="575"/>
                </a:lnTo>
                <a:lnTo>
                  <a:pt x="892" y="571"/>
                </a:lnTo>
                <a:lnTo>
                  <a:pt x="898" y="568"/>
                </a:lnTo>
                <a:lnTo>
                  <a:pt x="903" y="564"/>
                </a:lnTo>
                <a:lnTo>
                  <a:pt x="909" y="562"/>
                </a:lnTo>
                <a:lnTo>
                  <a:pt x="914" y="559"/>
                </a:lnTo>
                <a:lnTo>
                  <a:pt x="918" y="553"/>
                </a:lnTo>
                <a:lnTo>
                  <a:pt x="922" y="548"/>
                </a:lnTo>
                <a:lnTo>
                  <a:pt x="923" y="540"/>
                </a:lnTo>
                <a:lnTo>
                  <a:pt x="923" y="537"/>
                </a:lnTo>
                <a:lnTo>
                  <a:pt x="923" y="535"/>
                </a:lnTo>
                <a:lnTo>
                  <a:pt x="923" y="533"/>
                </a:lnTo>
                <a:lnTo>
                  <a:pt x="922" y="531"/>
                </a:lnTo>
                <a:lnTo>
                  <a:pt x="922" y="530"/>
                </a:lnTo>
                <a:lnTo>
                  <a:pt x="922" y="528"/>
                </a:lnTo>
                <a:lnTo>
                  <a:pt x="922" y="526"/>
                </a:lnTo>
                <a:lnTo>
                  <a:pt x="922" y="524"/>
                </a:lnTo>
                <a:lnTo>
                  <a:pt x="927" y="524"/>
                </a:lnTo>
                <a:lnTo>
                  <a:pt x="933" y="526"/>
                </a:lnTo>
                <a:lnTo>
                  <a:pt x="938" y="528"/>
                </a:lnTo>
                <a:lnTo>
                  <a:pt x="944" y="530"/>
                </a:lnTo>
                <a:lnTo>
                  <a:pt x="949" y="531"/>
                </a:lnTo>
                <a:lnTo>
                  <a:pt x="955" y="531"/>
                </a:lnTo>
                <a:lnTo>
                  <a:pt x="959" y="531"/>
                </a:lnTo>
                <a:lnTo>
                  <a:pt x="964" y="528"/>
                </a:lnTo>
                <a:lnTo>
                  <a:pt x="966" y="526"/>
                </a:lnTo>
                <a:lnTo>
                  <a:pt x="968" y="526"/>
                </a:lnTo>
                <a:lnTo>
                  <a:pt x="970" y="524"/>
                </a:lnTo>
                <a:lnTo>
                  <a:pt x="971" y="524"/>
                </a:lnTo>
                <a:lnTo>
                  <a:pt x="971" y="522"/>
                </a:lnTo>
                <a:lnTo>
                  <a:pt x="973" y="522"/>
                </a:lnTo>
                <a:lnTo>
                  <a:pt x="973" y="520"/>
                </a:lnTo>
                <a:lnTo>
                  <a:pt x="975" y="520"/>
                </a:lnTo>
                <a:lnTo>
                  <a:pt x="975" y="520"/>
                </a:lnTo>
                <a:lnTo>
                  <a:pt x="977" y="520"/>
                </a:lnTo>
                <a:lnTo>
                  <a:pt x="977" y="520"/>
                </a:lnTo>
                <a:lnTo>
                  <a:pt x="977" y="519"/>
                </a:lnTo>
                <a:lnTo>
                  <a:pt x="979" y="519"/>
                </a:lnTo>
                <a:lnTo>
                  <a:pt x="979" y="519"/>
                </a:lnTo>
                <a:lnTo>
                  <a:pt x="979" y="519"/>
                </a:lnTo>
                <a:lnTo>
                  <a:pt x="979" y="517"/>
                </a:lnTo>
                <a:lnTo>
                  <a:pt x="983" y="511"/>
                </a:lnTo>
                <a:lnTo>
                  <a:pt x="984" y="504"/>
                </a:lnTo>
                <a:lnTo>
                  <a:pt x="988" y="497"/>
                </a:lnTo>
                <a:lnTo>
                  <a:pt x="990" y="491"/>
                </a:lnTo>
                <a:lnTo>
                  <a:pt x="992" y="484"/>
                </a:lnTo>
                <a:lnTo>
                  <a:pt x="994" y="477"/>
                </a:lnTo>
                <a:lnTo>
                  <a:pt x="994" y="471"/>
                </a:lnTo>
                <a:lnTo>
                  <a:pt x="992" y="464"/>
                </a:lnTo>
                <a:lnTo>
                  <a:pt x="988" y="461"/>
                </a:lnTo>
                <a:lnTo>
                  <a:pt x="984" y="455"/>
                </a:lnTo>
                <a:lnTo>
                  <a:pt x="981" y="451"/>
                </a:lnTo>
                <a:lnTo>
                  <a:pt x="977" y="448"/>
                </a:lnTo>
                <a:lnTo>
                  <a:pt x="973" y="444"/>
                </a:lnTo>
                <a:lnTo>
                  <a:pt x="970" y="441"/>
                </a:lnTo>
                <a:lnTo>
                  <a:pt x="968" y="435"/>
                </a:lnTo>
                <a:lnTo>
                  <a:pt x="966" y="430"/>
                </a:lnTo>
                <a:lnTo>
                  <a:pt x="966" y="430"/>
                </a:lnTo>
                <a:lnTo>
                  <a:pt x="968" y="430"/>
                </a:lnTo>
                <a:lnTo>
                  <a:pt x="968" y="428"/>
                </a:lnTo>
                <a:lnTo>
                  <a:pt x="968" y="428"/>
                </a:lnTo>
                <a:lnTo>
                  <a:pt x="970" y="426"/>
                </a:lnTo>
                <a:lnTo>
                  <a:pt x="970" y="426"/>
                </a:lnTo>
                <a:lnTo>
                  <a:pt x="970" y="424"/>
                </a:lnTo>
                <a:lnTo>
                  <a:pt x="971" y="424"/>
                </a:lnTo>
                <a:lnTo>
                  <a:pt x="970" y="424"/>
                </a:lnTo>
                <a:lnTo>
                  <a:pt x="970" y="424"/>
                </a:lnTo>
                <a:lnTo>
                  <a:pt x="970" y="424"/>
                </a:lnTo>
                <a:lnTo>
                  <a:pt x="970" y="424"/>
                </a:lnTo>
                <a:lnTo>
                  <a:pt x="968" y="424"/>
                </a:lnTo>
                <a:lnTo>
                  <a:pt x="968" y="422"/>
                </a:lnTo>
                <a:lnTo>
                  <a:pt x="968" y="422"/>
                </a:lnTo>
                <a:lnTo>
                  <a:pt x="966" y="422"/>
                </a:lnTo>
                <a:lnTo>
                  <a:pt x="973" y="410"/>
                </a:lnTo>
                <a:lnTo>
                  <a:pt x="977" y="395"/>
                </a:lnTo>
                <a:lnTo>
                  <a:pt x="983" y="381"/>
                </a:lnTo>
                <a:lnTo>
                  <a:pt x="988" y="364"/>
                </a:lnTo>
                <a:lnTo>
                  <a:pt x="994" y="350"/>
                </a:lnTo>
                <a:lnTo>
                  <a:pt x="1001" y="335"/>
                </a:lnTo>
                <a:lnTo>
                  <a:pt x="1008" y="323"/>
                </a:lnTo>
                <a:lnTo>
                  <a:pt x="1019" y="312"/>
                </a:lnTo>
                <a:lnTo>
                  <a:pt x="1047" y="299"/>
                </a:lnTo>
                <a:lnTo>
                  <a:pt x="1073" y="286"/>
                </a:lnTo>
                <a:lnTo>
                  <a:pt x="1099" y="272"/>
                </a:lnTo>
                <a:lnTo>
                  <a:pt x="1123" y="257"/>
                </a:lnTo>
                <a:lnTo>
                  <a:pt x="1147" y="241"/>
                </a:lnTo>
                <a:lnTo>
                  <a:pt x="1171" y="225"/>
                </a:lnTo>
                <a:lnTo>
                  <a:pt x="1195" y="208"/>
                </a:lnTo>
                <a:lnTo>
                  <a:pt x="1219" y="190"/>
                </a:lnTo>
                <a:lnTo>
                  <a:pt x="1228" y="183"/>
                </a:lnTo>
                <a:lnTo>
                  <a:pt x="1235" y="177"/>
                </a:lnTo>
                <a:lnTo>
                  <a:pt x="1243" y="172"/>
                </a:lnTo>
                <a:lnTo>
                  <a:pt x="1248" y="167"/>
                </a:lnTo>
                <a:lnTo>
                  <a:pt x="1254" y="161"/>
                </a:lnTo>
                <a:lnTo>
                  <a:pt x="1259" y="157"/>
                </a:lnTo>
                <a:lnTo>
                  <a:pt x="1265" y="150"/>
                </a:lnTo>
                <a:lnTo>
                  <a:pt x="1274" y="145"/>
                </a:lnTo>
                <a:lnTo>
                  <a:pt x="12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10680" y="2266920"/>
            <a:ext cx="231840" cy="239760"/>
          </a:xfrm>
          <a:custGeom>
            <a:avLst/>
            <a:gdLst/>
            <a:ahLst/>
            <a:rect l="l" t="t" r="r" b="b"/>
            <a:pathLst>
              <a:path w="146" h="151">
                <a:moveTo>
                  <a:pt x="144" y="2"/>
                </a:moveTo>
                <a:lnTo>
                  <a:pt x="0" y="129"/>
                </a:lnTo>
                <a:lnTo>
                  <a:pt x="6" y="147"/>
                </a:lnTo>
                <a:lnTo>
                  <a:pt x="6" y="149"/>
                </a:lnTo>
                <a:lnTo>
                  <a:pt x="6" y="149"/>
                </a:lnTo>
                <a:lnTo>
                  <a:pt x="6" y="149"/>
                </a:lnTo>
                <a:lnTo>
                  <a:pt x="6" y="149"/>
                </a:lnTo>
                <a:lnTo>
                  <a:pt x="6" y="151"/>
                </a:lnTo>
                <a:lnTo>
                  <a:pt x="8" y="151"/>
                </a:lnTo>
                <a:lnTo>
                  <a:pt x="8" y="151"/>
                </a:lnTo>
                <a:lnTo>
                  <a:pt x="10" y="151"/>
                </a:lnTo>
                <a:lnTo>
                  <a:pt x="26" y="133"/>
                </a:lnTo>
                <a:lnTo>
                  <a:pt x="43" y="115"/>
                </a:lnTo>
                <a:lnTo>
                  <a:pt x="61" y="96"/>
                </a:lnTo>
                <a:lnTo>
                  <a:pt x="82" y="78"/>
                </a:lnTo>
                <a:lnTo>
                  <a:pt x="100" y="62"/>
                </a:lnTo>
                <a:lnTo>
                  <a:pt x="117" y="42"/>
                </a:lnTo>
                <a:lnTo>
                  <a:pt x="133" y="22"/>
                </a:lnTo>
                <a:lnTo>
                  <a:pt x="146" y="0"/>
                </a:lnTo>
                <a:lnTo>
                  <a:pt x="146" y="0"/>
                </a:lnTo>
                <a:lnTo>
                  <a:pt x="146" y="0"/>
                </a:lnTo>
                <a:lnTo>
                  <a:pt x="146" y="2"/>
                </a:lnTo>
                <a:lnTo>
                  <a:pt x="144" y="2"/>
                </a:lnTo>
                <a:lnTo>
                  <a:pt x="144" y="2"/>
                </a:lnTo>
                <a:lnTo>
                  <a:pt x="144" y="2"/>
                </a:lnTo>
                <a:lnTo>
                  <a:pt x="144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16880" y="2403360"/>
            <a:ext cx="104760" cy="106560"/>
          </a:xfrm>
          <a:custGeom>
            <a:avLst/>
            <a:gdLst/>
            <a:ahLst/>
            <a:rect l="l" t="t" r="r" b="b"/>
            <a:pathLst>
              <a:path w="66" h="67">
                <a:moveTo>
                  <a:pt x="63" y="1"/>
                </a:moveTo>
                <a:lnTo>
                  <a:pt x="9" y="45"/>
                </a:lnTo>
                <a:lnTo>
                  <a:pt x="7" y="45"/>
                </a:lnTo>
                <a:lnTo>
                  <a:pt x="7" y="45"/>
                </a:lnTo>
                <a:lnTo>
                  <a:pt x="5" y="45"/>
                </a:lnTo>
                <a:lnTo>
                  <a:pt x="5" y="47"/>
                </a:lnTo>
                <a:lnTo>
                  <a:pt x="4" y="47"/>
                </a:lnTo>
                <a:lnTo>
                  <a:pt x="4" y="47"/>
                </a:lnTo>
                <a:lnTo>
                  <a:pt x="2" y="47"/>
                </a:lnTo>
                <a:lnTo>
                  <a:pt x="2" y="49"/>
                </a:lnTo>
                <a:lnTo>
                  <a:pt x="2" y="49"/>
                </a:lnTo>
                <a:lnTo>
                  <a:pt x="2" y="49"/>
                </a:lnTo>
                <a:lnTo>
                  <a:pt x="2" y="50"/>
                </a:lnTo>
                <a:lnTo>
                  <a:pt x="2" y="50"/>
                </a:lnTo>
                <a:lnTo>
                  <a:pt x="2" y="52"/>
                </a:lnTo>
                <a:lnTo>
                  <a:pt x="0" y="52"/>
                </a:lnTo>
                <a:lnTo>
                  <a:pt x="0" y="54"/>
                </a:lnTo>
                <a:lnTo>
                  <a:pt x="0" y="54"/>
                </a:lnTo>
                <a:lnTo>
                  <a:pt x="9" y="67"/>
                </a:lnTo>
                <a:lnTo>
                  <a:pt x="11" y="67"/>
                </a:lnTo>
                <a:lnTo>
                  <a:pt x="13" y="65"/>
                </a:lnTo>
                <a:lnTo>
                  <a:pt x="13" y="65"/>
                </a:lnTo>
                <a:lnTo>
                  <a:pt x="15" y="63"/>
                </a:lnTo>
                <a:lnTo>
                  <a:pt x="17" y="61"/>
                </a:lnTo>
                <a:lnTo>
                  <a:pt x="17" y="61"/>
                </a:lnTo>
                <a:lnTo>
                  <a:pt x="18" y="59"/>
                </a:lnTo>
                <a:lnTo>
                  <a:pt x="18" y="56"/>
                </a:lnTo>
                <a:lnTo>
                  <a:pt x="66" y="7"/>
                </a:lnTo>
                <a:lnTo>
                  <a:pt x="66" y="5"/>
                </a:lnTo>
                <a:lnTo>
                  <a:pt x="66" y="5"/>
                </a:lnTo>
                <a:lnTo>
                  <a:pt x="66" y="5"/>
                </a:lnTo>
                <a:lnTo>
                  <a:pt x="66" y="3"/>
                </a:lnTo>
                <a:lnTo>
                  <a:pt x="66" y="3"/>
                </a:lnTo>
                <a:lnTo>
                  <a:pt x="66" y="1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5" y="0"/>
                </a:lnTo>
                <a:lnTo>
                  <a:pt x="65" y="0"/>
                </a:lnTo>
                <a:lnTo>
                  <a:pt x="65" y="1"/>
                </a:lnTo>
                <a:lnTo>
                  <a:pt x="65" y="1"/>
                </a:lnTo>
                <a:lnTo>
                  <a:pt x="63" y="1"/>
                </a:lnTo>
                <a:lnTo>
                  <a:pt x="6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5600" y="2457360"/>
            <a:ext cx="828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0" y="11"/>
                </a:lnTo>
                <a:lnTo>
                  <a:pt x="0" y="11"/>
                </a:lnTo>
                <a:lnTo>
                  <a:pt x="1" y="9"/>
                </a:lnTo>
                <a:lnTo>
                  <a:pt x="1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1280" y="263052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0" y="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45560" y="2840040"/>
            <a:ext cx="61920" cy="84240"/>
          </a:xfrm>
          <a:custGeom>
            <a:avLst/>
            <a:gdLst/>
            <a:ahLst/>
            <a:rect l="l" t="t" r="r" b="b"/>
            <a:pathLst>
              <a:path w="39" h="53">
                <a:moveTo>
                  <a:pt x="13" y="0"/>
                </a:move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0" y="6"/>
                </a:lnTo>
                <a:lnTo>
                  <a:pt x="0" y="8"/>
                </a:lnTo>
                <a:lnTo>
                  <a:pt x="13" y="40"/>
                </a:lnTo>
                <a:lnTo>
                  <a:pt x="13" y="42"/>
                </a:lnTo>
                <a:lnTo>
                  <a:pt x="15" y="44"/>
                </a:lnTo>
                <a:lnTo>
                  <a:pt x="18" y="46"/>
                </a:lnTo>
                <a:lnTo>
                  <a:pt x="20" y="48"/>
                </a:lnTo>
                <a:lnTo>
                  <a:pt x="22" y="48"/>
                </a:lnTo>
                <a:lnTo>
                  <a:pt x="26" y="49"/>
                </a:lnTo>
                <a:lnTo>
                  <a:pt x="28" y="51"/>
                </a:lnTo>
                <a:lnTo>
                  <a:pt x="31" y="53"/>
                </a:lnTo>
                <a:lnTo>
                  <a:pt x="31" y="53"/>
                </a:lnTo>
                <a:lnTo>
                  <a:pt x="33" y="51"/>
                </a:lnTo>
                <a:lnTo>
                  <a:pt x="33" y="51"/>
                </a:lnTo>
                <a:lnTo>
                  <a:pt x="35" y="51"/>
                </a:lnTo>
                <a:lnTo>
                  <a:pt x="35" y="49"/>
                </a:lnTo>
                <a:lnTo>
                  <a:pt x="37" y="49"/>
                </a:lnTo>
                <a:lnTo>
                  <a:pt x="39" y="48"/>
                </a:lnTo>
                <a:lnTo>
                  <a:pt x="39" y="48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43880" y="2840040"/>
            <a:ext cx="260280" cy="193680"/>
          </a:xfrm>
          <a:custGeom>
            <a:avLst/>
            <a:gdLst/>
            <a:ahLst/>
            <a:rect l="l" t="t" r="r" b="b"/>
            <a:pathLst>
              <a:path w="164" h="122">
                <a:moveTo>
                  <a:pt x="7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2" y="19"/>
                </a:lnTo>
                <a:lnTo>
                  <a:pt x="42" y="29"/>
                </a:lnTo>
                <a:lnTo>
                  <a:pt x="61" y="40"/>
                </a:lnTo>
                <a:lnTo>
                  <a:pt x="79" y="53"/>
                </a:lnTo>
                <a:lnTo>
                  <a:pt x="96" y="68"/>
                </a:lnTo>
                <a:lnTo>
                  <a:pt x="114" y="82"/>
                </a:lnTo>
                <a:lnTo>
                  <a:pt x="131" y="97"/>
                </a:lnTo>
                <a:lnTo>
                  <a:pt x="147" y="115"/>
                </a:lnTo>
                <a:lnTo>
                  <a:pt x="147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51" y="113"/>
                </a:lnTo>
                <a:lnTo>
                  <a:pt x="151" y="111"/>
                </a:lnTo>
                <a:lnTo>
                  <a:pt x="153" y="111"/>
                </a:lnTo>
                <a:lnTo>
                  <a:pt x="155" y="113"/>
                </a:lnTo>
                <a:lnTo>
                  <a:pt x="157" y="113"/>
                </a:lnTo>
                <a:lnTo>
                  <a:pt x="159" y="115"/>
                </a:lnTo>
                <a:lnTo>
                  <a:pt x="160" y="117"/>
                </a:lnTo>
                <a:lnTo>
                  <a:pt x="160" y="118"/>
                </a:lnTo>
                <a:lnTo>
                  <a:pt x="162" y="120"/>
                </a:lnTo>
                <a:lnTo>
                  <a:pt x="164" y="122"/>
                </a:lnTo>
                <a:lnTo>
                  <a:pt x="157" y="97"/>
                </a:lnTo>
                <a:lnTo>
                  <a:pt x="157" y="95"/>
                </a:lnTo>
                <a:lnTo>
                  <a:pt x="157" y="95"/>
                </a:lnTo>
                <a:lnTo>
                  <a:pt x="157" y="93"/>
                </a:lnTo>
                <a:lnTo>
                  <a:pt x="157" y="93"/>
                </a:lnTo>
                <a:lnTo>
                  <a:pt x="157" y="91"/>
                </a:lnTo>
                <a:lnTo>
                  <a:pt x="157" y="91"/>
                </a:lnTo>
                <a:lnTo>
                  <a:pt x="157" y="89"/>
                </a:lnTo>
                <a:lnTo>
                  <a:pt x="157" y="88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99120" y="28782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0" y="0"/>
                </a:moveTo>
                <a:lnTo>
                  <a:pt x="5" y="7"/>
                </a:lnTo>
                <a:lnTo>
                  <a:pt x="3" y="11"/>
                </a:lnTo>
                <a:lnTo>
                  <a:pt x="2" y="15"/>
                </a:lnTo>
                <a:lnTo>
                  <a:pt x="2" y="18"/>
                </a:lnTo>
                <a:lnTo>
                  <a:pt x="0" y="20"/>
                </a:lnTo>
                <a:lnTo>
                  <a:pt x="0" y="25"/>
                </a:lnTo>
                <a:lnTo>
                  <a:pt x="2" y="29"/>
                </a:lnTo>
                <a:lnTo>
                  <a:pt x="2" y="33"/>
                </a:lnTo>
                <a:lnTo>
                  <a:pt x="3" y="36"/>
                </a:lnTo>
                <a:lnTo>
                  <a:pt x="5" y="38"/>
                </a:lnTo>
                <a:lnTo>
                  <a:pt x="9" y="40"/>
                </a:lnTo>
                <a:lnTo>
                  <a:pt x="11" y="42"/>
                </a:lnTo>
                <a:lnTo>
                  <a:pt x="13" y="44"/>
                </a:lnTo>
                <a:lnTo>
                  <a:pt x="13" y="45"/>
                </a:lnTo>
                <a:lnTo>
                  <a:pt x="14" y="47"/>
                </a:lnTo>
                <a:lnTo>
                  <a:pt x="16" y="49"/>
                </a:lnTo>
                <a:lnTo>
                  <a:pt x="18" y="49"/>
                </a:lnTo>
                <a:lnTo>
                  <a:pt x="18" y="49"/>
                </a:lnTo>
                <a:lnTo>
                  <a:pt x="20" y="47"/>
                </a:lnTo>
                <a:lnTo>
                  <a:pt x="20" y="47"/>
                </a:lnTo>
                <a:lnTo>
                  <a:pt x="20" y="45"/>
                </a:lnTo>
                <a:lnTo>
                  <a:pt x="20" y="45"/>
                </a:lnTo>
                <a:lnTo>
                  <a:pt x="22" y="44"/>
                </a:lnTo>
                <a:lnTo>
                  <a:pt x="22" y="44"/>
                </a:lnTo>
                <a:lnTo>
                  <a:pt x="22" y="42"/>
                </a:lnTo>
                <a:lnTo>
                  <a:pt x="24" y="42"/>
                </a:lnTo>
                <a:lnTo>
                  <a:pt x="24" y="42"/>
                </a:lnTo>
                <a:lnTo>
                  <a:pt x="24" y="40"/>
                </a:lnTo>
                <a:lnTo>
                  <a:pt x="26" y="40"/>
                </a:lnTo>
                <a:lnTo>
                  <a:pt x="26" y="40"/>
                </a:lnTo>
                <a:lnTo>
                  <a:pt x="27" y="40"/>
                </a:lnTo>
                <a:lnTo>
                  <a:pt x="27" y="40"/>
                </a:lnTo>
                <a:lnTo>
                  <a:pt x="29" y="38"/>
                </a:lnTo>
                <a:lnTo>
                  <a:pt x="31" y="40"/>
                </a:lnTo>
                <a:lnTo>
                  <a:pt x="33" y="40"/>
                </a:lnTo>
                <a:lnTo>
                  <a:pt x="35" y="40"/>
                </a:lnTo>
                <a:lnTo>
                  <a:pt x="37" y="42"/>
                </a:lnTo>
                <a:lnTo>
                  <a:pt x="38" y="44"/>
                </a:lnTo>
                <a:lnTo>
                  <a:pt x="40" y="45"/>
                </a:lnTo>
                <a:lnTo>
                  <a:pt x="42" y="47"/>
                </a:lnTo>
                <a:lnTo>
                  <a:pt x="44" y="49"/>
                </a:lnTo>
                <a:lnTo>
                  <a:pt x="46" y="49"/>
                </a:lnTo>
                <a:lnTo>
                  <a:pt x="48" y="47"/>
                </a:lnTo>
                <a:lnTo>
                  <a:pt x="50" y="47"/>
                </a:lnTo>
                <a:lnTo>
                  <a:pt x="51" y="45"/>
                </a:lnTo>
                <a:lnTo>
                  <a:pt x="53" y="44"/>
                </a:lnTo>
                <a:lnTo>
                  <a:pt x="55" y="42"/>
                </a:lnTo>
                <a:lnTo>
                  <a:pt x="55" y="38"/>
                </a:lnTo>
                <a:lnTo>
                  <a:pt x="57" y="36"/>
                </a:lnTo>
                <a:lnTo>
                  <a:pt x="37" y="5"/>
                </a:lnTo>
                <a:lnTo>
                  <a:pt x="37" y="5"/>
                </a:lnTo>
                <a:lnTo>
                  <a:pt x="37" y="5"/>
                </a:lnTo>
                <a:lnTo>
                  <a:pt x="35" y="5"/>
                </a:lnTo>
                <a:lnTo>
                  <a:pt x="35" y="5"/>
                </a:lnTo>
                <a:lnTo>
                  <a:pt x="35" y="5"/>
                </a:lnTo>
                <a:lnTo>
                  <a:pt x="33" y="5"/>
                </a:lnTo>
                <a:lnTo>
                  <a:pt x="33" y="5"/>
                </a:lnTo>
                <a:lnTo>
                  <a:pt x="31" y="5"/>
                </a:lnTo>
                <a:lnTo>
                  <a:pt x="29" y="5"/>
                </a:lnTo>
                <a:lnTo>
                  <a:pt x="29" y="4"/>
                </a:lnTo>
                <a:lnTo>
                  <a:pt x="27" y="4"/>
                </a:lnTo>
                <a:lnTo>
                  <a:pt x="26" y="2"/>
                </a:lnTo>
                <a:lnTo>
                  <a:pt x="26" y="2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74040" y="2948040"/>
            <a:ext cx="230040" cy="183960"/>
          </a:xfrm>
          <a:custGeom>
            <a:avLst/>
            <a:gdLst/>
            <a:ahLst/>
            <a:rect l="l" t="t" r="r" b="b"/>
            <a:pathLst>
              <a:path w="145" h="116">
                <a:moveTo>
                  <a:pt x="7" y="0"/>
                </a:move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14" y="12"/>
                </a:lnTo>
                <a:lnTo>
                  <a:pt x="29" y="23"/>
                </a:lnTo>
                <a:lnTo>
                  <a:pt x="44" y="32"/>
                </a:lnTo>
                <a:lnTo>
                  <a:pt x="60" y="43"/>
                </a:lnTo>
                <a:lnTo>
                  <a:pt x="75" y="56"/>
                </a:lnTo>
                <a:lnTo>
                  <a:pt x="90" y="69"/>
                </a:lnTo>
                <a:lnTo>
                  <a:pt x="103" y="83"/>
                </a:lnTo>
                <a:lnTo>
                  <a:pt x="114" y="98"/>
                </a:lnTo>
                <a:lnTo>
                  <a:pt x="118" y="101"/>
                </a:lnTo>
                <a:lnTo>
                  <a:pt x="120" y="103"/>
                </a:lnTo>
                <a:lnTo>
                  <a:pt x="123" y="105"/>
                </a:lnTo>
                <a:lnTo>
                  <a:pt x="125" y="108"/>
                </a:lnTo>
                <a:lnTo>
                  <a:pt x="127" y="110"/>
                </a:lnTo>
                <a:lnTo>
                  <a:pt x="131" y="112"/>
                </a:lnTo>
                <a:lnTo>
                  <a:pt x="132" y="114"/>
                </a:lnTo>
                <a:lnTo>
                  <a:pt x="136" y="116"/>
                </a:lnTo>
                <a:lnTo>
                  <a:pt x="136" y="116"/>
                </a:lnTo>
                <a:lnTo>
                  <a:pt x="138" y="116"/>
                </a:lnTo>
                <a:lnTo>
                  <a:pt x="138" y="116"/>
                </a:lnTo>
                <a:lnTo>
                  <a:pt x="140" y="116"/>
                </a:lnTo>
                <a:lnTo>
                  <a:pt x="142" y="116"/>
                </a:lnTo>
                <a:lnTo>
                  <a:pt x="142" y="116"/>
                </a:lnTo>
                <a:lnTo>
                  <a:pt x="144" y="116"/>
                </a:lnTo>
                <a:lnTo>
                  <a:pt x="145" y="116"/>
                </a:lnTo>
                <a:lnTo>
                  <a:pt x="140" y="101"/>
                </a:lnTo>
                <a:lnTo>
                  <a:pt x="131" y="88"/>
                </a:lnTo>
                <a:lnTo>
                  <a:pt x="120" y="76"/>
                </a:lnTo>
                <a:lnTo>
                  <a:pt x="105" y="63"/>
                </a:lnTo>
                <a:lnTo>
                  <a:pt x="92" y="52"/>
                </a:lnTo>
                <a:lnTo>
                  <a:pt x="77" y="43"/>
                </a:lnTo>
                <a:lnTo>
                  <a:pt x="62" y="34"/>
                </a:lnTo>
                <a:lnTo>
                  <a:pt x="51" y="25"/>
                </a:lnTo>
                <a:lnTo>
                  <a:pt x="44" y="21"/>
                </a:lnTo>
                <a:lnTo>
                  <a:pt x="38" y="18"/>
                </a:lnTo>
                <a:lnTo>
                  <a:pt x="33" y="16"/>
                </a:lnTo>
                <a:lnTo>
                  <a:pt x="29" y="12"/>
                </a:lnTo>
                <a:lnTo>
                  <a:pt x="24" y="9"/>
                </a:lnTo>
                <a:lnTo>
                  <a:pt x="18" y="5"/>
                </a:lnTo>
                <a:lnTo>
                  <a:pt x="12" y="3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73800" y="2979720"/>
            <a:ext cx="200160" cy="155520"/>
          </a:xfrm>
          <a:custGeom>
            <a:avLst/>
            <a:gdLst/>
            <a:ahLst/>
            <a:rect l="l" t="t" r="r" b="b"/>
            <a:pathLst>
              <a:path w="126" h="98">
                <a:moveTo>
                  <a:pt x="102" y="0"/>
                </a:moveTo>
                <a:lnTo>
                  <a:pt x="91" y="1"/>
                </a:lnTo>
                <a:lnTo>
                  <a:pt x="80" y="5"/>
                </a:lnTo>
                <a:lnTo>
                  <a:pt x="70" y="10"/>
                </a:lnTo>
                <a:lnTo>
                  <a:pt x="61" y="18"/>
                </a:lnTo>
                <a:lnTo>
                  <a:pt x="52" y="25"/>
                </a:lnTo>
                <a:lnTo>
                  <a:pt x="43" y="32"/>
                </a:lnTo>
                <a:lnTo>
                  <a:pt x="33" y="41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22" y="50"/>
                </a:lnTo>
                <a:lnTo>
                  <a:pt x="22" y="50"/>
                </a:lnTo>
                <a:lnTo>
                  <a:pt x="22" y="52"/>
                </a:lnTo>
                <a:lnTo>
                  <a:pt x="22" y="54"/>
                </a:lnTo>
                <a:lnTo>
                  <a:pt x="21" y="54"/>
                </a:lnTo>
                <a:lnTo>
                  <a:pt x="21" y="56"/>
                </a:lnTo>
                <a:lnTo>
                  <a:pt x="19" y="58"/>
                </a:lnTo>
                <a:lnTo>
                  <a:pt x="19" y="58"/>
                </a:lnTo>
                <a:lnTo>
                  <a:pt x="17" y="59"/>
                </a:lnTo>
                <a:lnTo>
                  <a:pt x="15" y="59"/>
                </a:lnTo>
                <a:lnTo>
                  <a:pt x="15" y="59"/>
                </a:lnTo>
                <a:lnTo>
                  <a:pt x="13" y="59"/>
                </a:lnTo>
                <a:lnTo>
                  <a:pt x="11" y="59"/>
                </a:lnTo>
                <a:lnTo>
                  <a:pt x="11" y="61"/>
                </a:lnTo>
                <a:lnTo>
                  <a:pt x="0" y="74"/>
                </a:lnTo>
                <a:lnTo>
                  <a:pt x="0" y="74"/>
                </a:lnTo>
                <a:lnTo>
                  <a:pt x="0" y="74"/>
                </a:lnTo>
                <a:lnTo>
                  <a:pt x="0" y="76"/>
                </a:lnTo>
                <a:lnTo>
                  <a:pt x="0" y="76"/>
                </a:lnTo>
                <a:lnTo>
                  <a:pt x="0" y="78"/>
                </a:lnTo>
                <a:lnTo>
                  <a:pt x="0" y="78"/>
                </a:lnTo>
                <a:lnTo>
                  <a:pt x="0" y="79"/>
                </a:lnTo>
                <a:lnTo>
                  <a:pt x="2" y="79"/>
                </a:lnTo>
                <a:lnTo>
                  <a:pt x="15" y="94"/>
                </a:lnTo>
                <a:lnTo>
                  <a:pt x="24" y="98"/>
                </a:lnTo>
                <a:lnTo>
                  <a:pt x="32" y="98"/>
                </a:lnTo>
                <a:lnTo>
                  <a:pt x="41" y="98"/>
                </a:lnTo>
                <a:lnTo>
                  <a:pt x="48" y="96"/>
                </a:lnTo>
                <a:lnTo>
                  <a:pt x="56" y="94"/>
                </a:lnTo>
                <a:lnTo>
                  <a:pt x="63" y="88"/>
                </a:lnTo>
                <a:lnTo>
                  <a:pt x="69" y="85"/>
                </a:lnTo>
                <a:lnTo>
                  <a:pt x="74" y="79"/>
                </a:lnTo>
                <a:lnTo>
                  <a:pt x="74" y="79"/>
                </a:lnTo>
                <a:lnTo>
                  <a:pt x="74" y="78"/>
                </a:lnTo>
                <a:lnTo>
                  <a:pt x="74" y="78"/>
                </a:lnTo>
                <a:lnTo>
                  <a:pt x="74" y="76"/>
                </a:lnTo>
                <a:lnTo>
                  <a:pt x="72" y="76"/>
                </a:lnTo>
                <a:lnTo>
                  <a:pt x="72" y="76"/>
                </a:lnTo>
                <a:lnTo>
                  <a:pt x="70" y="76"/>
                </a:lnTo>
                <a:lnTo>
                  <a:pt x="70" y="76"/>
                </a:lnTo>
                <a:lnTo>
                  <a:pt x="59" y="56"/>
                </a:lnTo>
                <a:lnTo>
                  <a:pt x="59" y="56"/>
                </a:lnTo>
                <a:lnTo>
                  <a:pt x="59" y="54"/>
                </a:lnTo>
                <a:lnTo>
                  <a:pt x="59" y="54"/>
                </a:lnTo>
                <a:lnTo>
                  <a:pt x="59" y="52"/>
                </a:lnTo>
                <a:lnTo>
                  <a:pt x="59" y="50"/>
                </a:lnTo>
                <a:lnTo>
                  <a:pt x="61" y="50"/>
                </a:lnTo>
                <a:lnTo>
                  <a:pt x="61" y="49"/>
                </a:lnTo>
                <a:lnTo>
                  <a:pt x="63" y="49"/>
                </a:lnTo>
                <a:lnTo>
                  <a:pt x="63" y="47"/>
                </a:lnTo>
                <a:lnTo>
                  <a:pt x="65" y="47"/>
                </a:lnTo>
                <a:lnTo>
                  <a:pt x="67" y="47"/>
                </a:lnTo>
                <a:lnTo>
                  <a:pt x="69" y="45"/>
                </a:lnTo>
                <a:lnTo>
                  <a:pt x="70" y="45"/>
                </a:lnTo>
                <a:lnTo>
                  <a:pt x="72" y="45"/>
                </a:lnTo>
                <a:lnTo>
                  <a:pt x="74" y="45"/>
                </a:lnTo>
                <a:lnTo>
                  <a:pt x="76" y="45"/>
                </a:lnTo>
                <a:lnTo>
                  <a:pt x="76" y="47"/>
                </a:lnTo>
                <a:lnTo>
                  <a:pt x="78" y="47"/>
                </a:lnTo>
                <a:lnTo>
                  <a:pt x="78" y="47"/>
                </a:lnTo>
                <a:lnTo>
                  <a:pt x="78" y="49"/>
                </a:lnTo>
                <a:lnTo>
                  <a:pt x="78" y="49"/>
                </a:lnTo>
                <a:lnTo>
                  <a:pt x="80" y="50"/>
                </a:lnTo>
                <a:lnTo>
                  <a:pt x="80" y="50"/>
                </a:lnTo>
                <a:lnTo>
                  <a:pt x="81" y="50"/>
                </a:lnTo>
                <a:lnTo>
                  <a:pt x="83" y="50"/>
                </a:lnTo>
                <a:lnTo>
                  <a:pt x="83" y="50"/>
                </a:lnTo>
                <a:lnTo>
                  <a:pt x="85" y="50"/>
                </a:lnTo>
                <a:lnTo>
                  <a:pt x="85" y="50"/>
                </a:lnTo>
                <a:lnTo>
                  <a:pt x="87" y="50"/>
                </a:lnTo>
                <a:lnTo>
                  <a:pt x="87" y="50"/>
                </a:lnTo>
                <a:lnTo>
                  <a:pt x="89" y="50"/>
                </a:lnTo>
                <a:lnTo>
                  <a:pt x="91" y="50"/>
                </a:lnTo>
                <a:lnTo>
                  <a:pt x="93" y="50"/>
                </a:lnTo>
                <a:lnTo>
                  <a:pt x="93" y="50"/>
                </a:lnTo>
                <a:lnTo>
                  <a:pt x="94" y="49"/>
                </a:lnTo>
                <a:lnTo>
                  <a:pt x="94" y="47"/>
                </a:lnTo>
                <a:lnTo>
                  <a:pt x="96" y="45"/>
                </a:lnTo>
                <a:lnTo>
                  <a:pt x="96" y="43"/>
                </a:lnTo>
                <a:lnTo>
                  <a:pt x="98" y="41"/>
                </a:lnTo>
                <a:lnTo>
                  <a:pt x="98" y="39"/>
                </a:lnTo>
                <a:lnTo>
                  <a:pt x="126" y="18"/>
                </a:lnTo>
                <a:lnTo>
                  <a:pt x="126" y="16"/>
                </a:lnTo>
                <a:lnTo>
                  <a:pt x="124" y="16"/>
                </a:lnTo>
                <a:lnTo>
                  <a:pt x="124" y="14"/>
                </a:lnTo>
                <a:lnTo>
                  <a:pt x="124" y="14"/>
                </a:lnTo>
                <a:lnTo>
                  <a:pt x="124" y="12"/>
                </a:lnTo>
                <a:lnTo>
                  <a:pt x="124" y="10"/>
                </a:lnTo>
                <a:lnTo>
                  <a:pt x="124" y="10"/>
                </a:lnTo>
                <a:lnTo>
                  <a:pt x="124" y="9"/>
                </a:lnTo>
                <a:lnTo>
                  <a:pt x="122" y="9"/>
                </a:lnTo>
                <a:lnTo>
                  <a:pt x="122" y="9"/>
                </a:lnTo>
                <a:lnTo>
                  <a:pt x="122" y="7"/>
                </a:lnTo>
                <a:lnTo>
                  <a:pt x="122" y="7"/>
                </a:lnTo>
                <a:lnTo>
                  <a:pt x="120" y="7"/>
                </a:lnTo>
                <a:lnTo>
                  <a:pt x="120" y="7"/>
                </a:lnTo>
                <a:lnTo>
                  <a:pt x="120" y="5"/>
                </a:lnTo>
                <a:lnTo>
                  <a:pt x="118" y="5"/>
                </a:lnTo>
                <a:lnTo>
                  <a:pt x="102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12040" y="3065400"/>
            <a:ext cx="181080" cy="127080"/>
          </a:xfrm>
          <a:custGeom>
            <a:avLst/>
            <a:gdLst/>
            <a:ahLst/>
            <a:rect l="l" t="t" r="r" b="b"/>
            <a:pathLst>
              <a:path w="114" h="80">
                <a:moveTo>
                  <a:pt x="100" y="0"/>
                </a:moveTo>
                <a:lnTo>
                  <a:pt x="85" y="2"/>
                </a:lnTo>
                <a:lnTo>
                  <a:pt x="72" y="5"/>
                </a:lnTo>
                <a:lnTo>
                  <a:pt x="59" y="13"/>
                </a:lnTo>
                <a:lnTo>
                  <a:pt x="48" y="22"/>
                </a:lnTo>
                <a:lnTo>
                  <a:pt x="37" y="33"/>
                </a:lnTo>
                <a:lnTo>
                  <a:pt x="26" y="42"/>
                </a:lnTo>
                <a:lnTo>
                  <a:pt x="15" y="53"/>
                </a:lnTo>
                <a:lnTo>
                  <a:pt x="4" y="62"/>
                </a:lnTo>
                <a:lnTo>
                  <a:pt x="4" y="62"/>
                </a:lnTo>
                <a:lnTo>
                  <a:pt x="2" y="63"/>
                </a:lnTo>
                <a:lnTo>
                  <a:pt x="2" y="63"/>
                </a:lnTo>
                <a:lnTo>
                  <a:pt x="2" y="65"/>
                </a:lnTo>
                <a:lnTo>
                  <a:pt x="2" y="65"/>
                </a:lnTo>
                <a:lnTo>
                  <a:pt x="0" y="67"/>
                </a:lnTo>
                <a:lnTo>
                  <a:pt x="0" y="67"/>
                </a:lnTo>
                <a:lnTo>
                  <a:pt x="0" y="67"/>
                </a:lnTo>
                <a:lnTo>
                  <a:pt x="0" y="67"/>
                </a:lnTo>
                <a:lnTo>
                  <a:pt x="0" y="69"/>
                </a:lnTo>
                <a:lnTo>
                  <a:pt x="0" y="69"/>
                </a:lnTo>
                <a:lnTo>
                  <a:pt x="2" y="69"/>
                </a:lnTo>
                <a:lnTo>
                  <a:pt x="2" y="71"/>
                </a:lnTo>
                <a:lnTo>
                  <a:pt x="2" y="71"/>
                </a:lnTo>
                <a:lnTo>
                  <a:pt x="2" y="73"/>
                </a:lnTo>
                <a:lnTo>
                  <a:pt x="4" y="73"/>
                </a:lnTo>
                <a:lnTo>
                  <a:pt x="7" y="76"/>
                </a:lnTo>
                <a:lnTo>
                  <a:pt x="13" y="78"/>
                </a:lnTo>
                <a:lnTo>
                  <a:pt x="18" y="80"/>
                </a:lnTo>
                <a:lnTo>
                  <a:pt x="26" y="80"/>
                </a:lnTo>
                <a:lnTo>
                  <a:pt x="31" y="80"/>
                </a:lnTo>
                <a:lnTo>
                  <a:pt x="37" y="78"/>
                </a:lnTo>
                <a:lnTo>
                  <a:pt x="44" y="76"/>
                </a:lnTo>
                <a:lnTo>
                  <a:pt x="48" y="73"/>
                </a:lnTo>
                <a:lnTo>
                  <a:pt x="50" y="71"/>
                </a:lnTo>
                <a:lnTo>
                  <a:pt x="54" y="71"/>
                </a:lnTo>
                <a:lnTo>
                  <a:pt x="55" y="69"/>
                </a:lnTo>
                <a:lnTo>
                  <a:pt x="57" y="69"/>
                </a:lnTo>
                <a:lnTo>
                  <a:pt x="57" y="67"/>
                </a:lnTo>
                <a:lnTo>
                  <a:pt x="59" y="67"/>
                </a:lnTo>
                <a:lnTo>
                  <a:pt x="61" y="65"/>
                </a:lnTo>
                <a:lnTo>
                  <a:pt x="63" y="63"/>
                </a:lnTo>
                <a:lnTo>
                  <a:pt x="55" y="51"/>
                </a:lnTo>
                <a:lnTo>
                  <a:pt x="61" y="40"/>
                </a:lnTo>
                <a:lnTo>
                  <a:pt x="61" y="38"/>
                </a:lnTo>
                <a:lnTo>
                  <a:pt x="61" y="38"/>
                </a:lnTo>
                <a:lnTo>
                  <a:pt x="61" y="38"/>
                </a:lnTo>
                <a:lnTo>
                  <a:pt x="63" y="38"/>
                </a:lnTo>
                <a:lnTo>
                  <a:pt x="63" y="38"/>
                </a:lnTo>
                <a:lnTo>
                  <a:pt x="65" y="36"/>
                </a:lnTo>
                <a:lnTo>
                  <a:pt x="65" y="36"/>
                </a:lnTo>
                <a:lnTo>
                  <a:pt x="66" y="36"/>
                </a:lnTo>
                <a:lnTo>
                  <a:pt x="83" y="42"/>
                </a:lnTo>
                <a:lnTo>
                  <a:pt x="89" y="40"/>
                </a:lnTo>
                <a:lnTo>
                  <a:pt x="94" y="36"/>
                </a:lnTo>
                <a:lnTo>
                  <a:pt x="100" y="33"/>
                </a:lnTo>
                <a:lnTo>
                  <a:pt x="105" y="29"/>
                </a:lnTo>
                <a:lnTo>
                  <a:pt x="109" y="25"/>
                </a:lnTo>
                <a:lnTo>
                  <a:pt x="113" y="20"/>
                </a:lnTo>
                <a:lnTo>
                  <a:pt x="114" y="14"/>
                </a:lnTo>
                <a:lnTo>
                  <a:pt x="114" y="9"/>
                </a:lnTo>
                <a:lnTo>
                  <a:pt x="113" y="7"/>
                </a:lnTo>
                <a:lnTo>
                  <a:pt x="111" y="5"/>
                </a:lnTo>
                <a:lnTo>
                  <a:pt x="111" y="5"/>
                </a:lnTo>
                <a:lnTo>
                  <a:pt x="109" y="4"/>
                </a:lnTo>
                <a:lnTo>
                  <a:pt x="107" y="2"/>
                </a:lnTo>
                <a:lnTo>
                  <a:pt x="105" y="2"/>
                </a:lnTo>
                <a:lnTo>
                  <a:pt x="103" y="0"/>
                </a:lnTo>
                <a:lnTo>
                  <a:pt x="100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546E-098A-411E-919F-E48C63F08A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95160" y="101520"/>
            <a:ext cx="782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Human Resources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Conducting an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371600"/>
            <a:ext cx="6172200" cy="42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Times New Roman"/>
              </a:rPr>
              <a:t>Making Initial Contact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ve a variety of questions ready for the inter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ke sure your questions are relevant to the topic you are researc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e open-ended, thoughtful questions that require more than one-word, Yes or No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 sure the questions avoid personal b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3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243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768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24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5288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26240" y="1523880"/>
            <a:ext cx="21891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5560" y="1531800"/>
            <a:ext cx="2128680" cy="2190960"/>
          </a:xfrm>
          <a:custGeom>
            <a:avLst/>
            <a:gdLst/>
            <a:ahLst/>
            <a:rect l="l" t="t" r="r" b="b"/>
            <a:pathLst>
              <a:path w="1341" h="1380">
                <a:moveTo>
                  <a:pt x="0" y="1202"/>
                </a:moveTo>
                <a:lnTo>
                  <a:pt x="11" y="1149"/>
                </a:lnTo>
                <a:lnTo>
                  <a:pt x="21" y="1095"/>
                </a:lnTo>
                <a:lnTo>
                  <a:pt x="26" y="1040"/>
                </a:lnTo>
                <a:lnTo>
                  <a:pt x="30" y="986"/>
                </a:lnTo>
                <a:lnTo>
                  <a:pt x="30" y="933"/>
                </a:lnTo>
                <a:lnTo>
                  <a:pt x="30" y="879"/>
                </a:lnTo>
                <a:lnTo>
                  <a:pt x="28" y="824"/>
                </a:lnTo>
                <a:lnTo>
                  <a:pt x="26" y="770"/>
                </a:lnTo>
                <a:lnTo>
                  <a:pt x="37" y="726"/>
                </a:lnTo>
                <a:lnTo>
                  <a:pt x="39" y="681"/>
                </a:lnTo>
                <a:lnTo>
                  <a:pt x="34" y="636"/>
                </a:lnTo>
                <a:lnTo>
                  <a:pt x="28" y="592"/>
                </a:lnTo>
                <a:lnTo>
                  <a:pt x="23" y="549"/>
                </a:lnTo>
                <a:lnTo>
                  <a:pt x="23" y="507"/>
                </a:lnTo>
                <a:lnTo>
                  <a:pt x="30" y="467"/>
                </a:lnTo>
                <a:lnTo>
                  <a:pt x="50" y="431"/>
                </a:lnTo>
                <a:lnTo>
                  <a:pt x="63" y="391"/>
                </a:lnTo>
                <a:lnTo>
                  <a:pt x="69" y="351"/>
                </a:lnTo>
                <a:lnTo>
                  <a:pt x="67" y="311"/>
                </a:lnTo>
                <a:lnTo>
                  <a:pt x="59" y="271"/>
                </a:lnTo>
                <a:lnTo>
                  <a:pt x="50" y="229"/>
                </a:lnTo>
                <a:lnTo>
                  <a:pt x="41" y="189"/>
                </a:lnTo>
                <a:lnTo>
                  <a:pt x="35" y="149"/>
                </a:lnTo>
                <a:lnTo>
                  <a:pt x="35" y="111"/>
                </a:lnTo>
                <a:lnTo>
                  <a:pt x="35" y="102"/>
                </a:lnTo>
                <a:lnTo>
                  <a:pt x="37" y="91"/>
                </a:lnTo>
                <a:lnTo>
                  <a:pt x="37" y="82"/>
                </a:lnTo>
                <a:lnTo>
                  <a:pt x="39" y="73"/>
                </a:lnTo>
                <a:lnTo>
                  <a:pt x="39" y="64"/>
                </a:lnTo>
                <a:lnTo>
                  <a:pt x="37" y="57"/>
                </a:lnTo>
                <a:lnTo>
                  <a:pt x="35" y="48"/>
                </a:lnTo>
                <a:lnTo>
                  <a:pt x="34" y="40"/>
                </a:lnTo>
                <a:lnTo>
                  <a:pt x="35" y="11"/>
                </a:lnTo>
                <a:lnTo>
                  <a:pt x="65" y="2"/>
                </a:lnTo>
                <a:lnTo>
                  <a:pt x="93" y="0"/>
                </a:lnTo>
                <a:lnTo>
                  <a:pt x="120" y="6"/>
                </a:lnTo>
                <a:lnTo>
                  <a:pt x="150" y="13"/>
                </a:lnTo>
                <a:lnTo>
                  <a:pt x="178" y="24"/>
                </a:lnTo>
                <a:lnTo>
                  <a:pt x="205" y="31"/>
                </a:lnTo>
                <a:lnTo>
                  <a:pt x="233" y="37"/>
                </a:lnTo>
                <a:lnTo>
                  <a:pt x="263" y="35"/>
                </a:lnTo>
                <a:lnTo>
                  <a:pt x="311" y="20"/>
                </a:lnTo>
                <a:lnTo>
                  <a:pt x="359" y="15"/>
                </a:lnTo>
                <a:lnTo>
                  <a:pt x="405" y="15"/>
                </a:lnTo>
                <a:lnTo>
                  <a:pt x="453" y="17"/>
                </a:lnTo>
                <a:lnTo>
                  <a:pt x="501" y="20"/>
                </a:lnTo>
                <a:lnTo>
                  <a:pt x="547" y="22"/>
                </a:lnTo>
                <a:lnTo>
                  <a:pt x="595" y="22"/>
                </a:lnTo>
                <a:lnTo>
                  <a:pt x="643" y="17"/>
                </a:lnTo>
                <a:lnTo>
                  <a:pt x="683" y="33"/>
                </a:lnTo>
                <a:lnTo>
                  <a:pt x="724" y="40"/>
                </a:lnTo>
                <a:lnTo>
                  <a:pt x="766" y="42"/>
                </a:lnTo>
                <a:lnTo>
                  <a:pt x="807" y="37"/>
                </a:lnTo>
                <a:lnTo>
                  <a:pt x="850" y="29"/>
                </a:lnTo>
                <a:lnTo>
                  <a:pt x="892" y="22"/>
                </a:lnTo>
                <a:lnTo>
                  <a:pt x="934" y="15"/>
                </a:lnTo>
                <a:lnTo>
                  <a:pt x="975" y="11"/>
                </a:lnTo>
                <a:lnTo>
                  <a:pt x="999" y="11"/>
                </a:lnTo>
                <a:lnTo>
                  <a:pt x="1021" y="13"/>
                </a:lnTo>
                <a:lnTo>
                  <a:pt x="1043" y="15"/>
                </a:lnTo>
                <a:lnTo>
                  <a:pt x="1066" y="17"/>
                </a:lnTo>
                <a:lnTo>
                  <a:pt x="1088" y="19"/>
                </a:lnTo>
                <a:lnTo>
                  <a:pt x="1110" y="20"/>
                </a:lnTo>
                <a:lnTo>
                  <a:pt x="1130" y="22"/>
                </a:lnTo>
                <a:lnTo>
                  <a:pt x="1150" y="20"/>
                </a:lnTo>
                <a:lnTo>
                  <a:pt x="1174" y="28"/>
                </a:lnTo>
                <a:lnTo>
                  <a:pt x="1197" y="31"/>
                </a:lnTo>
                <a:lnTo>
                  <a:pt x="1219" y="29"/>
                </a:lnTo>
                <a:lnTo>
                  <a:pt x="1241" y="26"/>
                </a:lnTo>
                <a:lnTo>
                  <a:pt x="1265" y="20"/>
                </a:lnTo>
                <a:lnTo>
                  <a:pt x="1287" y="15"/>
                </a:lnTo>
                <a:lnTo>
                  <a:pt x="1309" y="8"/>
                </a:lnTo>
                <a:lnTo>
                  <a:pt x="1331" y="4"/>
                </a:lnTo>
                <a:lnTo>
                  <a:pt x="1333" y="17"/>
                </a:lnTo>
                <a:lnTo>
                  <a:pt x="1331" y="29"/>
                </a:lnTo>
                <a:lnTo>
                  <a:pt x="1328" y="44"/>
                </a:lnTo>
                <a:lnTo>
                  <a:pt x="1322" y="59"/>
                </a:lnTo>
                <a:lnTo>
                  <a:pt x="1317" y="75"/>
                </a:lnTo>
                <a:lnTo>
                  <a:pt x="1311" y="91"/>
                </a:lnTo>
                <a:lnTo>
                  <a:pt x="1309" y="106"/>
                </a:lnTo>
                <a:lnTo>
                  <a:pt x="1311" y="122"/>
                </a:lnTo>
                <a:lnTo>
                  <a:pt x="1311" y="151"/>
                </a:lnTo>
                <a:lnTo>
                  <a:pt x="1313" y="180"/>
                </a:lnTo>
                <a:lnTo>
                  <a:pt x="1313" y="207"/>
                </a:lnTo>
                <a:lnTo>
                  <a:pt x="1313" y="236"/>
                </a:lnTo>
                <a:lnTo>
                  <a:pt x="1311" y="264"/>
                </a:lnTo>
                <a:lnTo>
                  <a:pt x="1311" y="293"/>
                </a:lnTo>
                <a:lnTo>
                  <a:pt x="1313" y="320"/>
                </a:lnTo>
                <a:lnTo>
                  <a:pt x="1313" y="349"/>
                </a:lnTo>
                <a:lnTo>
                  <a:pt x="1317" y="371"/>
                </a:lnTo>
                <a:lnTo>
                  <a:pt x="1320" y="391"/>
                </a:lnTo>
                <a:lnTo>
                  <a:pt x="1326" y="412"/>
                </a:lnTo>
                <a:lnTo>
                  <a:pt x="1331" y="432"/>
                </a:lnTo>
                <a:lnTo>
                  <a:pt x="1337" y="452"/>
                </a:lnTo>
                <a:lnTo>
                  <a:pt x="1341" y="470"/>
                </a:lnTo>
                <a:lnTo>
                  <a:pt x="1341" y="490"/>
                </a:lnTo>
                <a:lnTo>
                  <a:pt x="1339" y="510"/>
                </a:lnTo>
                <a:lnTo>
                  <a:pt x="1322" y="556"/>
                </a:lnTo>
                <a:lnTo>
                  <a:pt x="1317" y="599"/>
                </a:lnTo>
                <a:lnTo>
                  <a:pt x="1318" y="645"/>
                </a:lnTo>
                <a:lnTo>
                  <a:pt x="1322" y="690"/>
                </a:lnTo>
                <a:lnTo>
                  <a:pt x="1326" y="735"/>
                </a:lnTo>
                <a:lnTo>
                  <a:pt x="1328" y="781"/>
                </a:lnTo>
                <a:lnTo>
                  <a:pt x="1322" y="824"/>
                </a:lnTo>
                <a:lnTo>
                  <a:pt x="1309" y="870"/>
                </a:lnTo>
                <a:lnTo>
                  <a:pt x="1309" y="886"/>
                </a:lnTo>
                <a:lnTo>
                  <a:pt x="1307" y="904"/>
                </a:lnTo>
                <a:lnTo>
                  <a:pt x="1306" y="921"/>
                </a:lnTo>
                <a:lnTo>
                  <a:pt x="1304" y="939"/>
                </a:lnTo>
                <a:lnTo>
                  <a:pt x="1300" y="955"/>
                </a:lnTo>
                <a:lnTo>
                  <a:pt x="1296" y="971"/>
                </a:lnTo>
                <a:lnTo>
                  <a:pt x="1294" y="990"/>
                </a:lnTo>
                <a:lnTo>
                  <a:pt x="1291" y="1006"/>
                </a:lnTo>
                <a:lnTo>
                  <a:pt x="1287" y="1031"/>
                </a:lnTo>
                <a:lnTo>
                  <a:pt x="1287" y="1057"/>
                </a:lnTo>
                <a:lnTo>
                  <a:pt x="1289" y="1082"/>
                </a:lnTo>
                <a:lnTo>
                  <a:pt x="1294" y="1108"/>
                </a:lnTo>
                <a:lnTo>
                  <a:pt x="1300" y="1133"/>
                </a:lnTo>
                <a:lnTo>
                  <a:pt x="1304" y="1158"/>
                </a:lnTo>
                <a:lnTo>
                  <a:pt x="1304" y="1186"/>
                </a:lnTo>
                <a:lnTo>
                  <a:pt x="1300" y="1211"/>
                </a:lnTo>
                <a:lnTo>
                  <a:pt x="1302" y="1229"/>
                </a:lnTo>
                <a:lnTo>
                  <a:pt x="1302" y="1247"/>
                </a:lnTo>
                <a:lnTo>
                  <a:pt x="1302" y="1265"/>
                </a:lnTo>
                <a:lnTo>
                  <a:pt x="1302" y="1284"/>
                </a:lnTo>
                <a:lnTo>
                  <a:pt x="1302" y="1302"/>
                </a:lnTo>
                <a:lnTo>
                  <a:pt x="1304" y="1318"/>
                </a:lnTo>
                <a:lnTo>
                  <a:pt x="1306" y="1336"/>
                </a:lnTo>
                <a:lnTo>
                  <a:pt x="1311" y="1353"/>
                </a:lnTo>
                <a:lnTo>
                  <a:pt x="1293" y="1358"/>
                </a:lnTo>
                <a:lnTo>
                  <a:pt x="1274" y="1362"/>
                </a:lnTo>
                <a:lnTo>
                  <a:pt x="1256" y="1363"/>
                </a:lnTo>
                <a:lnTo>
                  <a:pt x="1235" y="1363"/>
                </a:lnTo>
                <a:lnTo>
                  <a:pt x="1215" y="1363"/>
                </a:lnTo>
                <a:lnTo>
                  <a:pt x="1195" y="1363"/>
                </a:lnTo>
                <a:lnTo>
                  <a:pt x="1174" y="1365"/>
                </a:lnTo>
                <a:lnTo>
                  <a:pt x="1154" y="1367"/>
                </a:lnTo>
                <a:lnTo>
                  <a:pt x="1125" y="1362"/>
                </a:lnTo>
                <a:lnTo>
                  <a:pt x="1093" y="1356"/>
                </a:lnTo>
                <a:lnTo>
                  <a:pt x="1064" y="1354"/>
                </a:lnTo>
                <a:lnTo>
                  <a:pt x="1032" y="1351"/>
                </a:lnTo>
                <a:lnTo>
                  <a:pt x="1003" y="1351"/>
                </a:lnTo>
                <a:lnTo>
                  <a:pt x="971" y="1353"/>
                </a:lnTo>
                <a:lnTo>
                  <a:pt x="942" y="1358"/>
                </a:lnTo>
                <a:lnTo>
                  <a:pt x="914" y="1363"/>
                </a:lnTo>
                <a:lnTo>
                  <a:pt x="883" y="1369"/>
                </a:lnTo>
                <a:lnTo>
                  <a:pt x="851" y="1374"/>
                </a:lnTo>
                <a:lnTo>
                  <a:pt x="820" y="1378"/>
                </a:lnTo>
                <a:lnTo>
                  <a:pt x="789" y="1380"/>
                </a:lnTo>
                <a:lnTo>
                  <a:pt x="759" y="1380"/>
                </a:lnTo>
                <a:lnTo>
                  <a:pt x="728" y="1376"/>
                </a:lnTo>
                <a:lnTo>
                  <a:pt x="698" y="1372"/>
                </a:lnTo>
                <a:lnTo>
                  <a:pt x="669" y="1365"/>
                </a:lnTo>
                <a:lnTo>
                  <a:pt x="589" y="1356"/>
                </a:lnTo>
                <a:lnTo>
                  <a:pt x="512" y="1356"/>
                </a:lnTo>
                <a:lnTo>
                  <a:pt x="434" y="1362"/>
                </a:lnTo>
                <a:lnTo>
                  <a:pt x="357" y="1369"/>
                </a:lnTo>
                <a:lnTo>
                  <a:pt x="281" y="1376"/>
                </a:lnTo>
                <a:lnTo>
                  <a:pt x="203" y="1380"/>
                </a:lnTo>
                <a:lnTo>
                  <a:pt x="128" y="1374"/>
                </a:lnTo>
                <a:lnTo>
                  <a:pt x="50" y="1360"/>
                </a:lnTo>
                <a:lnTo>
                  <a:pt x="45" y="1358"/>
                </a:lnTo>
                <a:lnTo>
                  <a:pt x="39" y="1358"/>
                </a:lnTo>
                <a:lnTo>
                  <a:pt x="34" y="1358"/>
                </a:lnTo>
                <a:lnTo>
                  <a:pt x="30" y="1358"/>
                </a:lnTo>
                <a:lnTo>
                  <a:pt x="24" y="1360"/>
                </a:lnTo>
                <a:lnTo>
                  <a:pt x="21" y="1360"/>
                </a:lnTo>
                <a:lnTo>
                  <a:pt x="15" y="1360"/>
                </a:lnTo>
                <a:lnTo>
                  <a:pt x="11" y="1358"/>
                </a:lnTo>
                <a:lnTo>
                  <a:pt x="17" y="1340"/>
                </a:lnTo>
                <a:lnTo>
                  <a:pt x="21" y="1320"/>
                </a:lnTo>
                <a:lnTo>
                  <a:pt x="23" y="1300"/>
                </a:lnTo>
                <a:lnTo>
                  <a:pt x="21" y="1280"/>
                </a:lnTo>
                <a:lnTo>
                  <a:pt x="19" y="1260"/>
                </a:lnTo>
                <a:lnTo>
                  <a:pt x="15" y="1240"/>
                </a:lnTo>
                <a:lnTo>
                  <a:pt x="8" y="1222"/>
                </a:lnTo>
                <a:lnTo>
                  <a:pt x="0" y="1202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8680" y="1584360"/>
            <a:ext cx="2051280" cy="2111400"/>
          </a:xfrm>
          <a:custGeom>
            <a:avLst/>
            <a:gdLst/>
            <a:ahLst/>
            <a:rect l="l" t="t" r="r" b="b"/>
            <a:pathLst>
              <a:path w="1292" h="1330">
                <a:moveTo>
                  <a:pt x="3" y="1165"/>
                </a:moveTo>
                <a:lnTo>
                  <a:pt x="16" y="1098"/>
                </a:lnTo>
                <a:lnTo>
                  <a:pt x="24" y="1027"/>
                </a:lnTo>
                <a:lnTo>
                  <a:pt x="27" y="958"/>
                </a:lnTo>
                <a:lnTo>
                  <a:pt x="27" y="888"/>
                </a:lnTo>
                <a:lnTo>
                  <a:pt x="27" y="819"/>
                </a:lnTo>
                <a:lnTo>
                  <a:pt x="27" y="748"/>
                </a:lnTo>
                <a:lnTo>
                  <a:pt x="29" y="677"/>
                </a:lnTo>
                <a:lnTo>
                  <a:pt x="35" y="606"/>
                </a:lnTo>
                <a:lnTo>
                  <a:pt x="33" y="599"/>
                </a:lnTo>
                <a:lnTo>
                  <a:pt x="31" y="592"/>
                </a:lnTo>
                <a:lnTo>
                  <a:pt x="29" y="586"/>
                </a:lnTo>
                <a:lnTo>
                  <a:pt x="27" y="579"/>
                </a:lnTo>
                <a:lnTo>
                  <a:pt x="26" y="572"/>
                </a:lnTo>
                <a:lnTo>
                  <a:pt x="26" y="566"/>
                </a:lnTo>
                <a:lnTo>
                  <a:pt x="24" y="561"/>
                </a:lnTo>
                <a:lnTo>
                  <a:pt x="24" y="555"/>
                </a:lnTo>
                <a:lnTo>
                  <a:pt x="35" y="530"/>
                </a:lnTo>
                <a:lnTo>
                  <a:pt x="27" y="490"/>
                </a:lnTo>
                <a:lnTo>
                  <a:pt x="31" y="448"/>
                </a:lnTo>
                <a:lnTo>
                  <a:pt x="44" y="408"/>
                </a:lnTo>
                <a:lnTo>
                  <a:pt x="57" y="369"/>
                </a:lnTo>
                <a:lnTo>
                  <a:pt x="70" y="327"/>
                </a:lnTo>
                <a:lnTo>
                  <a:pt x="75" y="287"/>
                </a:lnTo>
                <a:lnTo>
                  <a:pt x="72" y="245"/>
                </a:lnTo>
                <a:lnTo>
                  <a:pt x="53" y="203"/>
                </a:lnTo>
                <a:lnTo>
                  <a:pt x="51" y="178"/>
                </a:lnTo>
                <a:lnTo>
                  <a:pt x="50" y="153"/>
                </a:lnTo>
                <a:lnTo>
                  <a:pt x="48" y="127"/>
                </a:lnTo>
                <a:lnTo>
                  <a:pt x="46" y="102"/>
                </a:lnTo>
                <a:lnTo>
                  <a:pt x="42" y="76"/>
                </a:lnTo>
                <a:lnTo>
                  <a:pt x="40" y="51"/>
                </a:lnTo>
                <a:lnTo>
                  <a:pt x="38" y="26"/>
                </a:lnTo>
                <a:lnTo>
                  <a:pt x="38" y="2"/>
                </a:lnTo>
                <a:lnTo>
                  <a:pt x="75" y="6"/>
                </a:lnTo>
                <a:lnTo>
                  <a:pt x="112" y="11"/>
                </a:lnTo>
                <a:lnTo>
                  <a:pt x="151" y="18"/>
                </a:lnTo>
                <a:lnTo>
                  <a:pt x="190" y="26"/>
                </a:lnTo>
                <a:lnTo>
                  <a:pt x="229" y="29"/>
                </a:lnTo>
                <a:lnTo>
                  <a:pt x="267" y="27"/>
                </a:lnTo>
                <a:lnTo>
                  <a:pt x="308" y="20"/>
                </a:lnTo>
                <a:lnTo>
                  <a:pt x="349" y="4"/>
                </a:lnTo>
                <a:lnTo>
                  <a:pt x="362" y="6"/>
                </a:lnTo>
                <a:lnTo>
                  <a:pt x="374" y="7"/>
                </a:lnTo>
                <a:lnTo>
                  <a:pt x="387" y="11"/>
                </a:lnTo>
                <a:lnTo>
                  <a:pt x="400" y="11"/>
                </a:lnTo>
                <a:lnTo>
                  <a:pt x="413" y="13"/>
                </a:lnTo>
                <a:lnTo>
                  <a:pt x="426" y="15"/>
                </a:lnTo>
                <a:lnTo>
                  <a:pt x="439" y="16"/>
                </a:lnTo>
                <a:lnTo>
                  <a:pt x="452" y="18"/>
                </a:lnTo>
                <a:lnTo>
                  <a:pt x="483" y="22"/>
                </a:lnTo>
                <a:lnTo>
                  <a:pt x="515" y="22"/>
                </a:lnTo>
                <a:lnTo>
                  <a:pt x="544" y="18"/>
                </a:lnTo>
                <a:lnTo>
                  <a:pt x="576" y="16"/>
                </a:lnTo>
                <a:lnTo>
                  <a:pt x="605" y="16"/>
                </a:lnTo>
                <a:lnTo>
                  <a:pt x="637" y="18"/>
                </a:lnTo>
                <a:lnTo>
                  <a:pt x="664" y="24"/>
                </a:lnTo>
                <a:lnTo>
                  <a:pt x="694" y="35"/>
                </a:lnTo>
                <a:lnTo>
                  <a:pt x="718" y="35"/>
                </a:lnTo>
                <a:lnTo>
                  <a:pt x="742" y="33"/>
                </a:lnTo>
                <a:lnTo>
                  <a:pt x="764" y="29"/>
                </a:lnTo>
                <a:lnTo>
                  <a:pt x="788" y="26"/>
                </a:lnTo>
                <a:lnTo>
                  <a:pt x="810" y="22"/>
                </a:lnTo>
                <a:lnTo>
                  <a:pt x="834" y="18"/>
                </a:lnTo>
                <a:lnTo>
                  <a:pt x="856" y="13"/>
                </a:lnTo>
                <a:lnTo>
                  <a:pt x="878" y="7"/>
                </a:lnTo>
                <a:lnTo>
                  <a:pt x="895" y="4"/>
                </a:lnTo>
                <a:lnTo>
                  <a:pt x="912" y="2"/>
                </a:lnTo>
                <a:lnTo>
                  <a:pt x="928" y="2"/>
                </a:lnTo>
                <a:lnTo>
                  <a:pt x="947" y="4"/>
                </a:lnTo>
                <a:lnTo>
                  <a:pt x="963" y="6"/>
                </a:lnTo>
                <a:lnTo>
                  <a:pt x="978" y="6"/>
                </a:lnTo>
                <a:lnTo>
                  <a:pt x="995" y="4"/>
                </a:lnTo>
                <a:lnTo>
                  <a:pt x="1011" y="0"/>
                </a:lnTo>
                <a:lnTo>
                  <a:pt x="1032" y="4"/>
                </a:lnTo>
                <a:lnTo>
                  <a:pt x="1052" y="7"/>
                </a:lnTo>
                <a:lnTo>
                  <a:pt x="1072" y="9"/>
                </a:lnTo>
                <a:lnTo>
                  <a:pt x="1091" y="11"/>
                </a:lnTo>
                <a:lnTo>
                  <a:pt x="1111" y="13"/>
                </a:lnTo>
                <a:lnTo>
                  <a:pt x="1131" y="15"/>
                </a:lnTo>
                <a:lnTo>
                  <a:pt x="1150" y="16"/>
                </a:lnTo>
                <a:lnTo>
                  <a:pt x="1170" y="22"/>
                </a:lnTo>
                <a:lnTo>
                  <a:pt x="1183" y="20"/>
                </a:lnTo>
                <a:lnTo>
                  <a:pt x="1196" y="18"/>
                </a:lnTo>
                <a:lnTo>
                  <a:pt x="1207" y="16"/>
                </a:lnTo>
                <a:lnTo>
                  <a:pt x="1220" y="15"/>
                </a:lnTo>
                <a:lnTo>
                  <a:pt x="1233" y="11"/>
                </a:lnTo>
                <a:lnTo>
                  <a:pt x="1244" y="9"/>
                </a:lnTo>
                <a:lnTo>
                  <a:pt x="1257" y="7"/>
                </a:lnTo>
                <a:lnTo>
                  <a:pt x="1270" y="4"/>
                </a:lnTo>
                <a:lnTo>
                  <a:pt x="1270" y="4"/>
                </a:lnTo>
                <a:lnTo>
                  <a:pt x="1272" y="4"/>
                </a:lnTo>
                <a:lnTo>
                  <a:pt x="1272" y="4"/>
                </a:lnTo>
                <a:lnTo>
                  <a:pt x="1273" y="2"/>
                </a:lnTo>
                <a:lnTo>
                  <a:pt x="1275" y="2"/>
                </a:lnTo>
                <a:lnTo>
                  <a:pt x="1277" y="2"/>
                </a:lnTo>
                <a:lnTo>
                  <a:pt x="1277" y="2"/>
                </a:lnTo>
                <a:lnTo>
                  <a:pt x="1279" y="2"/>
                </a:lnTo>
                <a:lnTo>
                  <a:pt x="1268" y="60"/>
                </a:lnTo>
                <a:lnTo>
                  <a:pt x="1262" y="118"/>
                </a:lnTo>
                <a:lnTo>
                  <a:pt x="1261" y="176"/>
                </a:lnTo>
                <a:lnTo>
                  <a:pt x="1262" y="234"/>
                </a:lnTo>
                <a:lnTo>
                  <a:pt x="1266" y="292"/>
                </a:lnTo>
                <a:lnTo>
                  <a:pt x="1273" y="350"/>
                </a:lnTo>
                <a:lnTo>
                  <a:pt x="1283" y="410"/>
                </a:lnTo>
                <a:lnTo>
                  <a:pt x="1292" y="468"/>
                </a:lnTo>
                <a:lnTo>
                  <a:pt x="1273" y="512"/>
                </a:lnTo>
                <a:lnTo>
                  <a:pt x="1266" y="557"/>
                </a:lnTo>
                <a:lnTo>
                  <a:pt x="1266" y="603"/>
                </a:lnTo>
                <a:lnTo>
                  <a:pt x="1272" y="650"/>
                </a:lnTo>
                <a:lnTo>
                  <a:pt x="1275" y="695"/>
                </a:lnTo>
                <a:lnTo>
                  <a:pt x="1279" y="741"/>
                </a:lnTo>
                <a:lnTo>
                  <a:pt x="1275" y="786"/>
                </a:lnTo>
                <a:lnTo>
                  <a:pt x="1261" y="830"/>
                </a:lnTo>
                <a:lnTo>
                  <a:pt x="1248" y="888"/>
                </a:lnTo>
                <a:lnTo>
                  <a:pt x="1242" y="947"/>
                </a:lnTo>
                <a:lnTo>
                  <a:pt x="1244" y="1006"/>
                </a:lnTo>
                <a:lnTo>
                  <a:pt x="1248" y="1064"/>
                </a:lnTo>
                <a:lnTo>
                  <a:pt x="1253" y="1122"/>
                </a:lnTo>
                <a:lnTo>
                  <a:pt x="1257" y="1180"/>
                </a:lnTo>
                <a:lnTo>
                  <a:pt x="1259" y="1238"/>
                </a:lnTo>
                <a:lnTo>
                  <a:pt x="1253" y="1296"/>
                </a:lnTo>
                <a:lnTo>
                  <a:pt x="1233" y="1298"/>
                </a:lnTo>
                <a:lnTo>
                  <a:pt x="1214" y="1301"/>
                </a:lnTo>
                <a:lnTo>
                  <a:pt x="1194" y="1305"/>
                </a:lnTo>
                <a:lnTo>
                  <a:pt x="1174" y="1307"/>
                </a:lnTo>
                <a:lnTo>
                  <a:pt x="1153" y="1309"/>
                </a:lnTo>
                <a:lnTo>
                  <a:pt x="1133" y="1309"/>
                </a:lnTo>
                <a:lnTo>
                  <a:pt x="1113" y="1305"/>
                </a:lnTo>
                <a:lnTo>
                  <a:pt x="1094" y="1300"/>
                </a:lnTo>
                <a:lnTo>
                  <a:pt x="1093" y="1298"/>
                </a:lnTo>
                <a:lnTo>
                  <a:pt x="1093" y="1296"/>
                </a:lnTo>
                <a:lnTo>
                  <a:pt x="1093" y="1296"/>
                </a:lnTo>
                <a:lnTo>
                  <a:pt x="1091" y="1294"/>
                </a:lnTo>
                <a:lnTo>
                  <a:pt x="1089" y="1292"/>
                </a:lnTo>
                <a:lnTo>
                  <a:pt x="1089" y="1290"/>
                </a:lnTo>
                <a:lnTo>
                  <a:pt x="1087" y="1289"/>
                </a:lnTo>
                <a:lnTo>
                  <a:pt x="1085" y="1287"/>
                </a:lnTo>
                <a:lnTo>
                  <a:pt x="1063" y="1285"/>
                </a:lnTo>
                <a:lnTo>
                  <a:pt x="1046" y="1296"/>
                </a:lnTo>
                <a:lnTo>
                  <a:pt x="1015" y="1292"/>
                </a:lnTo>
                <a:lnTo>
                  <a:pt x="985" y="1292"/>
                </a:lnTo>
                <a:lnTo>
                  <a:pt x="958" y="1296"/>
                </a:lnTo>
                <a:lnTo>
                  <a:pt x="928" y="1300"/>
                </a:lnTo>
                <a:lnTo>
                  <a:pt x="901" y="1305"/>
                </a:lnTo>
                <a:lnTo>
                  <a:pt x="871" y="1312"/>
                </a:lnTo>
                <a:lnTo>
                  <a:pt x="841" y="1318"/>
                </a:lnTo>
                <a:lnTo>
                  <a:pt x="812" y="1321"/>
                </a:lnTo>
                <a:lnTo>
                  <a:pt x="768" y="1321"/>
                </a:lnTo>
                <a:lnTo>
                  <a:pt x="723" y="1320"/>
                </a:lnTo>
                <a:lnTo>
                  <a:pt x="679" y="1316"/>
                </a:lnTo>
                <a:lnTo>
                  <a:pt x="637" y="1312"/>
                </a:lnTo>
                <a:lnTo>
                  <a:pt x="592" y="1309"/>
                </a:lnTo>
                <a:lnTo>
                  <a:pt x="550" y="1305"/>
                </a:lnTo>
                <a:lnTo>
                  <a:pt x="506" y="1303"/>
                </a:lnTo>
                <a:lnTo>
                  <a:pt x="463" y="1305"/>
                </a:lnTo>
                <a:lnTo>
                  <a:pt x="426" y="1300"/>
                </a:lnTo>
                <a:lnTo>
                  <a:pt x="389" y="1301"/>
                </a:lnTo>
                <a:lnTo>
                  <a:pt x="354" y="1307"/>
                </a:lnTo>
                <a:lnTo>
                  <a:pt x="319" y="1314"/>
                </a:lnTo>
                <a:lnTo>
                  <a:pt x="284" y="1321"/>
                </a:lnTo>
                <a:lnTo>
                  <a:pt x="249" y="1329"/>
                </a:lnTo>
                <a:lnTo>
                  <a:pt x="214" y="1330"/>
                </a:lnTo>
                <a:lnTo>
                  <a:pt x="177" y="1327"/>
                </a:lnTo>
                <a:lnTo>
                  <a:pt x="158" y="1329"/>
                </a:lnTo>
                <a:lnTo>
                  <a:pt x="138" y="1327"/>
                </a:lnTo>
                <a:lnTo>
                  <a:pt x="120" y="1323"/>
                </a:lnTo>
                <a:lnTo>
                  <a:pt x="103" y="1318"/>
                </a:lnTo>
                <a:lnTo>
                  <a:pt x="85" y="1312"/>
                </a:lnTo>
                <a:lnTo>
                  <a:pt x="66" y="1307"/>
                </a:lnTo>
                <a:lnTo>
                  <a:pt x="48" y="1303"/>
                </a:lnTo>
                <a:lnTo>
                  <a:pt x="27" y="1300"/>
                </a:lnTo>
                <a:lnTo>
                  <a:pt x="26" y="1283"/>
                </a:lnTo>
                <a:lnTo>
                  <a:pt x="26" y="1265"/>
                </a:lnTo>
                <a:lnTo>
                  <a:pt x="24" y="1249"/>
                </a:lnTo>
                <a:lnTo>
                  <a:pt x="22" y="1232"/>
                </a:lnTo>
                <a:lnTo>
                  <a:pt x="20" y="1216"/>
                </a:lnTo>
                <a:lnTo>
                  <a:pt x="14" y="1200"/>
                </a:lnTo>
                <a:lnTo>
                  <a:pt x="9" y="1185"/>
                </a:lnTo>
                <a:lnTo>
                  <a:pt x="0" y="1169"/>
                </a:lnTo>
                <a:lnTo>
                  <a:pt x="0" y="1169"/>
                </a:lnTo>
                <a:lnTo>
                  <a:pt x="2" y="1169"/>
                </a:lnTo>
                <a:lnTo>
                  <a:pt x="2" y="1169"/>
                </a:lnTo>
                <a:lnTo>
                  <a:pt x="2" y="1167"/>
                </a:lnTo>
                <a:lnTo>
                  <a:pt x="2" y="1167"/>
                </a:lnTo>
                <a:lnTo>
                  <a:pt x="2" y="1167"/>
                </a:lnTo>
                <a:lnTo>
                  <a:pt x="2" y="1165"/>
                </a:lnTo>
                <a:lnTo>
                  <a:pt x="3" y="1165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40640" y="1884240"/>
            <a:ext cx="1658880" cy="1359000"/>
          </a:xfrm>
          <a:custGeom>
            <a:avLst/>
            <a:gdLst/>
            <a:ahLst/>
            <a:rect l="l" t="t" r="r" b="b"/>
            <a:pathLst>
              <a:path w="1045" h="856">
                <a:moveTo>
                  <a:pt x="26" y="0"/>
                </a:moveTo>
                <a:lnTo>
                  <a:pt x="218" y="131"/>
                </a:lnTo>
                <a:lnTo>
                  <a:pt x="336" y="229"/>
                </a:lnTo>
                <a:lnTo>
                  <a:pt x="430" y="296"/>
                </a:lnTo>
                <a:lnTo>
                  <a:pt x="499" y="305"/>
                </a:lnTo>
                <a:lnTo>
                  <a:pt x="556" y="296"/>
                </a:lnTo>
                <a:lnTo>
                  <a:pt x="606" y="321"/>
                </a:lnTo>
                <a:lnTo>
                  <a:pt x="543" y="383"/>
                </a:lnTo>
                <a:lnTo>
                  <a:pt x="475" y="444"/>
                </a:lnTo>
                <a:lnTo>
                  <a:pt x="473" y="477"/>
                </a:lnTo>
                <a:lnTo>
                  <a:pt x="526" y="484"/>
                </a:lnTo>
                <a:lnTo>
                  <a:pt x="597" y="457"/>
                </a:lnTo>
                <a:lnTo>
                  <a:pt x="650" y="401"/>
                </a:lnTo>
                <a:lnTo>
                  <a:pt x="726" y="446"/>
                </a:lnTo>
                <a:lnTo>
                  <a:pt x="859" y="532"/>
                </a:lnTo>
                <a:lnTo>
                  <a:pt x="921" y="586"/>
                </a:lnTo>
                <a:lnTo>
                  <a:pt x="973" y="602"/>
                </a:lnTo>
                <a:lnTo>
                  <a:pt x="1045" y="677"/>
                </a:lnTo>
                <a:lnTo>
                  <a:pt x="1036" y="711"/>
                </a:lnTo>
                <a:lnTo>
                  <a:pt x="1017" y="731"/>
                </a:lnTo>
                <a:lnTo>
                  <a:pt x="958" y="713"/>
                </a:lnTo>
                <a:lnTo>
                  <a:pt x="973" y="746"/>
                </a:lnTo>
                <a:lnTo>
                  <a:pt x="932" y="784"/>
                </a:lnTo>
                <a:lnTo>
                  <a:pt x="772" y="835"/>
                </a:lnTo>
                <a:lnTo>
                  <a:pt x="624" y="856"/>
                </a:lnTo>
                <a:lnTo>
                  <a:pt x="338" y="715"/>
                </a:lnTo>
                <a:lnTo>
                  <a:pt x="353" y="655"/>
                </a:lnTo>
                <a:lnTo>
                  <a:pt x="301" y="646"/>
                </a:lnTo>
                <a:lnTo>
                  <a:pt x="157" y="486"/>
                </a:lnTo>
                <a:lnTo>
                  <a:pt x="0" y="330"/>
                </a:lnTo>
                <a:lnTo>
                  <a:pt x="2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0200" y="1951200"/>
            <a:ext cx="1222200" cy="880920"/>
          </a:xfrm>
          <a:custGeom>
            <a:avLst/>
            <a:gdLst/>
            <a:ahLst/>
            <a:rect l="l" t="t" r="r" b="b"/>
            <a:pathLst>
              <a:path w="770" h="555">
                <a:moveTo>
                  <a:pt x="749" y="0"/>
                </a:moveTo>
                <a:lnTo>
                  <a:pt x="749" y="0"/>
                </a:lnTo>
                <a:lnTo>
                  <a:pt x="748" y="0"/>
                </a:lnTo>
                <a:lnTo>
                  <a:pt x="748" y="0"/>
                </a:lnTo>
                <a:lnTo>
                  <a:pt x="746" y="0"/>
                </a:lnTo>
                <a:lnTo>
                  <a:pt x="746" y="0"/>
                </a:lnTo>
                <a:lnTo>
                  <a:pt x="744" y="0"/>
                </a:lnTo>
                <a:lnTo>
                  <a:pt x="744" y="0"/>
                </a:lnTo>
                <a:lnTo>
                  <a:pt x="744" y="0"/>
                </a:lnTo>
                <a:lnTo>
                  <a:pt x="722" y="25"/>
                </a:lnTo>
                <a:lnTo>
                  <a:pt x="698" y="49"/>
                </a:lnTo>
                <a:lnTo>
                  <a:pt x="674" y="74"/>
                </a:lnTo>
                <a:lnTo>
                  <a:pt x="646" y="98"/>
                </a:lnTo>
                <a:lnTo>
                  <a:pt x="620" y="121"/>
                </a:lnTo>
                <a:lnTo>
                  <a:pt x="593" y="143"/>
                </a:lnTo>
                <a:lnTo>
                  <a:pt x="567" y="163"/>
                </a:lnTo>
                <a:lnTo>
                  <a:pt x="541" y="181"/>
                </a:lnTo>
                <a:lnTo>
                  <a:pt x="526" y="194"/>
                </a:lnTo>
                <a:lnTo>
                  <a:pt x="508" y="203"/>
                </a:lnTo>
                <a:lnTo>
                  <a:pt x="489" y="206"/>
                </a:lnTo>
                <a:lnTo>
                  <a:pt x="471" y="210"/>
                </a:lnTo>
                <a:lnTo>
                  <a:pt x="450" y="212"/>
                </a:lnTo>
                <a:lnTo>
                  <a:pt x="430" y="214"/>
                </a:lnTo>
                <a:lnTo>
                  <a:pt x="410" y="216"/>
                </a:lnTo>
                <a:lnTo>
                  <a:pt x="391" y="219"/>
                </a:lnTo>
                <a:lnTo>
                  <a:pt x="369" y="225"/>
                </a:lnTo>
                <a:lnTo>
                  <a:pt x="345" y="228"/>
                </a:lnTo>
                <a:lnTo>
                  <a:pt x="323" y="230"/>
                </a:lnTo>
                <a:lnTo>
                  <a:pt x="301" y="234"/>
                </a:lnTo>
                <a:lnTo>
                  <a:pt x="279" y="236"/>
                </a:lnTo>
                <a:lnTo>
                  <a:pt x="257" y="237"/>
                </a:lnTo>
                <a:lnTo>
                  <a:pt x="233" y="239"/>
                </a:lnTo>
                <a:lnTo>
                  <a:pt x="210" y="243"/>
                </a:lnTo>
                <a:lnTo>
                  <a:pt x="183" y="252"/>
                </a:lnTo>
                <a:lnTo>
                  <a:pt x="159" y="266"/>
                </a:lnTo>
                <a:lnTo>
                  <a:pt x="138" y="285"/>
                </a:lnTo>
                <a:lnTo>
                  <a:pt x="118" y="306"/>
                </a:lnTo>
                <a:lnTo>
                  <a:pt x="100" y="328"/>
                </a:lnTo>
                <a:lnTo>
                  <a:pt x="81" y="348"/>
                </a:lnTo>
                <a:lnTo>
                  <a:pt x="59" y="364"/>
                </a:lnTo>
                <a:lnTo>
                  <a:pt x="33" y="377"/>
                </a:lnTo>
                <a:lnTo>
                  <a:pt x="26" y="384"/>
                </a:lnTo>
                <a:lnTo>
                  <a:pt x="20" y="392"/>
                </a:lnTo>
                <a:lnTo>
                  <a:pt x="15" y="397"/>
                </a:lnTo>
                <a:lnTo>
                  <a:pt x="9" y="404"/>
                </a:lnTo>
                <a:lnTo>
                  <a:pt x="6" y="412"/>
                </a:lnTo>
                <a:lnTo>
                  <a:pt x="2" y="419"/>
                </a:lnTo>
                <a:lnTo>
                  <a:pt x="0" y="428"/>
                </a:lnTo>
                <a:lnTo>
                  <a:pt x="0" y="437"/>
                </a:lnTo>
                <a:lnTo>
                  <a:pt x="22" y="455"/>
                </a:lnTo>
                <a:lnTo>
                  <a:pt x="41" y="457"/>
                </a:lnTo>
                <a:lnTo>
                  <a:pt x="59" y="457"/>
                </a:lnTo>
                <a:lnTo>
                  <a:pt x="79" y="455"/>
                </a:lnTo>
                <a:lnTo>
                  <a:pt x="98" y="450"/>
                </a:lnTo>
                <a:lnTo>
                  <a:pt x="114" y="444"/>
                </a:lnTo>
                <a:lnTo>
                  <a:pt x="133" y="437"/>
                </a:lnTo>
                <a:lnTo>
                  <a:pt x="148" y="426"/>
                </a:lnTo>
                <a:lnTo>
                  <a:pt x="162" y="415"/>
                </a:lnTo>
                <a:lnTo>
                  <a:pt x="166" y="410"/>
                </a:lnTo>
                <a:lnTo>
                  <a:pt x="170" y="404"/>
                </a:lnTo>
                <a:lnTo>
                  <a:pt x="174" y="399"/>
                </a:lnTo>
                <a:lnTo>
                  <a:pt x="177" y="393"/>
                </a:lnTo>
                <a:lnTo>
                  <a:pt x="181" y="388"/>
                </a:lnTo>
                <a:lnTo>
                  <a:pt x="185" y="383"/>
                </a:lnTo>
                <a:lnTo>
                  <a:pt x="188" y="379"/>
                </a:lnTo>
                <a:lnTo>
                  <a:pt x="192" y="373"/>
                </a:lnTo>
                <a:lnTo>
                  <a:pt x="277" y="426"/>
                </a:lnTo>
                <a:lnTo>
                  <a:pt x="286" y="426"/>
                </a:lnTo>
                <a:lnTo>
                  <a:pt x="293" y="428"/>
                </a:lnTo>
                <a:lnTo>
                  <a:pt x="301" y="432"/>
                </a:lnTo>
                <a:lnTo>
                  <a:pt x="310" y="435"/>
                </a:lnTo>
                <a:lnTo>
                  <a:pt x="317" y="439"/>
                </a:lnTo>
                <a:lnTo>
                  <a:pt x="325" y="442"/>
                </a:lnTo>
                <a:lnTo>
                  <a:pt x="332" y="446"/>
                </a:lnTo>
                <a:lnTo>
                  <a:pt x="340" y="450"/>
                </a:lnTo>
                <a:lnTo>
                  <a:pt x="353" y="459"/>
                </a:lnTo>
                <a:lnTo>
                  <a:pt x="367" y="468"/>
                </a:lnTo>
                <a:lnTo>
                  <a:pt x="380" y="477"/>
                </a:lnTo>
                <a:lnTo>
                  <a:pt x="395" y="488"/>
                </a:lnTo>
                <a:lnTo>
                  <a:pt x="410" y="497"/>
                </a:lnTo>
                <a:lnTo>
                  <a:pt x="423" y="508"/>
                </a:lnTo>
                <a:lnTo>
                  <a:pt x="436" y="519"/>
                </a:lnTo>
                <a:lnTo>
                  <a:pt x="447" y="530"/>
                </a:lnTo>
                <a:lnTo>
                  <a:pt x="450" y="531"/>
                </a:lnTo>
                <a:lnTo>
                  <a:pt x="452" y="533"/>
                </a:lnTo>
                <a:lnTo>
                  <a:pt x="456" y="537"/>
                </a:lnTo>
                <a:lnTo>
                  <a:pt x="460" y="539"/>
                </a:lnTo>
                <a:lnTo>
                  <a:pt x="463" y="540"/>
                </a:lnTo>
                <a:lnTo>
                  <a:pt x="465" y="544"/>
                </a:lnTo>
                <a:lnTo>
                  <a:pt x="467" y="548"/>
                </a:lnTo>
                <a:lnTo>
                  <a:pt x="469" y="553"/>
                </a:lnTo>
                <a:lnTo>
                  <a:pt x="471" y="555"/>
                </a:lnTo>
                <a:lnTo>
                  <a:pt x="473" y="555"/>
                </a:lnTo>
                <a:lnTo>
                  <a:pt x="474" y="555"/>
                </a:lnTo>
                <a:lnTo>
                  <a:pt x="476" y="555"/>
                </a:lnTo>
                <a:lnTo>
                  <a:pt x="478" y="553"/>
                </a:lnTo>
                <a:lnTo>
                  <a:pt x="480" y="553"/>
                </a:lnTo>
                <a:lnTo>
                  <a:pt x="482" y="551"/>
                </a:lnTo>
                <a:lnTo>
                  <a:pt x="484" y="551"/>
                </a:lnTo>
                <a:lnTo>
                  <a:pt x="485" y="551"/>
                </a:lnTo>
                <a:lnTo>
                  <a:pt x="485" y="550"/>
                </a:lnTo>
                <a:lnTo>
                  <a:pt x="485" y="550"/>
                </a:lnTo>
                <a:lnTo>
                  <a:pt x="485" y="550"/>
                </a:lnTo>
                <a:lnTo>
                  <a:pt x="487" y="550"/>
                </a:lnTo>
                <a:lnTo>
                  <a:pt x="487" y="550"/>
                </a:lnTo>
                <a:lnTo>
                  <a:pt x="487" y="548"/>
                </a:lnTo>
                <a:lnTo>
                  <a:pt x="485" y="548"/>
                </a:lnTo>
                <a:lnTo>
                  <a:pt x="478" y="537"/>
                </a:lnTo>
                <a:lnTo>
                  <a:pt x="471" y="526"/>
                </a:lnTo>
                <a:lnTo>
                  <a:pt x="463" y="517"/>
                </a:lnTo>
                <a:lnTo>
                  <a:pt x="456" y="506"/>
                </a:lnTo>
                <a:lnTo>
                  <a:pt x="447" y="495"/>
                </a:lnTo>
                <a:lnTo>
                  <a:pt x="437" y="486"/>
                </a:lnTo>
                <a:lnTo>
                  <a:pt x="428" y="477"/>
                </a:lnTo>
                <a:lnTo>
                  <a:pt x="417" y="468"/>
                </a:lnTo>
                <a:lnTo>
                  <a:pt x="469" y="446"/>
                </a:lnTo>
                <a:lnTo>
                  <a:pt x="469" y="446"/>
                </a:lnTo>
                <a:lnTo>
                  <a:pt x="471" y="444"/>
                </a:lnTo>
                <a:lnTo>
                  <a:pt x="471" y="444"/>
                </a:lnTo>
                <a:lnTo>
                  <a:pt x="471" y="444"/>
                </a:lnTo>
                <a:lnTo>
                  <a:pt x="473" y="442"/>
                </a:lnTo>
                <a:lnTo>
                  <a:pt x="473" y="442"/>
                </a:lnTo>
                <a:lnTo>
                  <a:pt x="473" y="441"/>
                </a:lnTo>
                <a:lnTo>
                  <a:pt x="474" y="441"/>
                </a:lnTo>
                <a:lnTo>
                  <a:pt x="500" y="432"/>
                </a:lnTo>
                <a:lnTo>
                  <a:pt x="500" y="430"/>
                </a:lnTo>
                <a:lnTo>
                  <a:pt x="502" y="430"/>
                </a:lnTo>
                <a:lnTo>
                  <a:pt x="502" y="428"/>
                </a:lnTo>
                <a:lnTo>
                  <a:pt x="502" y="426"/>
                </a:lnTo>
                <a:lnTo>
                  <a:pt x="504" y="424"/>
                </a:lnTo>
                <a:lnTo>
                  <a:pt x="504" y="424"/>
                </a:lnTo>
                <a:lnTo>
                  <a:pt x="504" y="422"/>
                </a:lnTo>
                <a:lnTo>
                  <a:pt x="504" y="421"/>
                </a:lnTo>
                <a:lnTo>
                  <a:pt x="504" y="421"/>
                </a:lnTo>
                <a:lnTo>
                  <a:pt x="504" y="421"/>
                </a:lnTo>
                <a:lnTo>
                  <a:pt x="504" y="419"/>
                </a:lnTo>
                <a:lnTo>
                  <a:pt x="504" y="419"/>
                </a:lnTo>
                <a:lnTo>
                  <a:pt x="502" y="419"/>
                </a:lnTo>
                <a:lnTo>
                  <a:pt x="502" y="419"/>
                </a:lnTo>
                <a:lnTo>
                  <a:pt x="500" y="419"/>
                </a:lnTo>
                <a:lnTo>
                  <a:pt x="500" y="417"/>
                </a:lnTo>
                <a:lnTo>
                  <a:pt x="495" y="421"/>
                </a:lnTo>
                <a:lnTo>
                  <a:pt x="491" y="424"/>
                </a:lnTo>
                <a:lnTo>
                  <a:pt x="485" y="428"/>
                </a:lnTo>
                <a:lnTo>
                  <a:pt x="480" y="430"/>
                </a:lnTo>
                <a:lnTo>
                  <a:pt x="474" y="433"/>
                </a:lnTo>
                <a:lnTo>
                  <a:pt x="469" y="435"/>
                </a:lnTo>
                <a:lnTo>
                  <a:pt x="463" y="435"/>
                </a:lnTo>
                <a:lnTo>
                  <a:pt x="456" y="435"/>
                </a:lnTo>
                <a:lnTo>
                  <a:pt x="456" y="435"/>
                </a:lnTo>
                <a:lnTo>
                  <a:pt x="456" y="433"/>
                </a:lnTo>
                <a:lnTo>
                  <a:pt x="454" y="433"/>
                </a:lnTo>
                <a:lnTo>
                  <a:pt x="454" y="433"/>
                </a:lnTo>
                <a:lnTo>
                  <a:pt x="452" y="433"/>
                </a:lnTo>
                <a:lnTo>
                  <a:pt x="450" y="432"/>
                </a:lnTo>
                <a:lnTo>
                  <a:pt x="450" y="432"/>
                </a:lnTo>
                <a:lnTo>
                  <a:pt x="449" y="432"/>
                </a:lnTo>
                <a:lnTo>
                  <a:pt x="391" y="439"/>
                </a:lnTo>
                <a:lnTo>
                  <a:pt x="378" y="435"/>
                </a:lnTo>
                <a:lnTo>
                  <a:pt x="378" y="435"/>
                </a:lnTo>
                <a:lnTo>
                  <a:pt x="378" y="435"/>
                </a:lnTo>
                <a:lnTo>
                  <a:pt x="377" y="437"/>
                </a:lnTo>
                <a:lnTo>
                  <a:pt x="377" y="437"/>
                </a:lnTo>
                <a:lnTo>
                  <a:pt x="377" y="437"/>
                </a:lnTo>
                <a:lnTo>
                  <a:pt x="375" y="437"/>
                </a:lnTo>
                <a:lnTo>
                  <a:pt x="375" y="437"/>
                </a:lnTo>
                <a:lnTo>
                  <a:pt x="375" y="439"/>
                </a:lnTo>
                <a:lnTo>
                  <a:pt x="373" y="439"/>
                </a:lnTo>
                <a:lnTo>
                  <a:pt x="373" y="437"/>
                </a:lnTo>
                <a:lnTo>
                  <a:pt x="371" y="437"/>
                </a:lnTo>
                <a:lnTo>
                  <a:pt x="371" y="437"/>
                </a:lnTo>
                <a:lnTo>
                  <a:pt x="371" y="435"/>
                </a:lnTo>
                <a:lnTo>
                  <a:pt x="371" y="435"/>
                </a:lnTo>
                <a:lnTo>
                  <a:pt x="369" y="433"/>
                </a:lnTo>
                <a:lnTo>
                  <a:pt x="369" y="433"/>
                </a:lnTo>
                <a:lnTo>
                  <a:pt x="354" y="430"/>
                </a:lnTo>
                <a:lnTo>
                  <a:pt x="340" y="424"/>
                </a:lnTo>
                <a:lnTo>
                  <a:pt x="325" y="419"/>
                </a:lnTo>
                <a:lnTo>
                  <a:pt x="312" y="412"/>
                </a:lnTo>
                <a:lnTo>
                  <a:pt x="299" y="404"/>
                </a:lnTo>
                <a:lnTo>
                  <a:pt x="286" y="395"/>
                </a:lnTo>
                <a:lnTo>
                  <a:pt x="275" y="388"/>
                </a:lnTo>
                <a:lnTo>
                  <a:pt x="264" y="377"/>
                </a:lnTo>
                <a:lnTo>
                  <a:pt x="260" y="375"/>
                </a:lnTo>
                <a:lnTo>
                  <a:pt x="257" y="373"/>
                </a:lnTo>
                <a:lnTo>
                  <a:pt x="253" y="370"/>
                </a:lnTo>
                <a:lnTo>
                  <a:pt x="249" y="368"/>
                </a:lnTo>
                <a:lnTo>
                  <a:pt x="245" y="364"/>
                </a:lnTo>
                <a:lnTo>
                  <a:pt x="240" y="361"/>
                </a:lnTo>
                <a:lnTo>
                  <a:pt x="236" y="357"/>
                </a:lnTo>
                <a:lnTo>
                  <a:pt x="231" y="355"/>
                </a:lnTo>
                <a:lnTo>
                  <a:pt x="229" y="353"/>
                </a:lnTo>
                <a:lnTo>
                  <a:pt x="229" y="352"/>
                </a:lnTo>
                <a:lnTo>
                  <a:pt x="227" y="350"/>
                </a:lnTo>
                <a:lnTo>
                  <a:pt x="227" y="348"/>
                </a:lnTo>
                <a:lnTo>
                  <a:pt x="225" y="346"/>
                </a:lnTo>
                <a:lnTo>
                  <a:pt x="225" y="344"/>
                </a:lnTo>
                <a:lnTo>
                  <a:pt x="223" y="343"/>
                </a:lnTo>
                <a:lnTo>
                  <a:pt x="222" y="339"/>
                </a:lnTo>
                <a:lnTo>
                  <a:pt x="179" y="370"/>
                </a:lnTo>
                <a:lnTo>
                  <a:pt x="177" y="379"/>
                </a:lnTo>
                <a:lnTo>
                  <a:pt x="174" y="386"/>
                </a:lnTo>
                <a:lnTo>
                  <a:pt x="168" y="392"/>
                </a:lnTo>
                <a:lnTo>
                  <a:pt x="161" y="397"/>
                </a:lnTo>
                <a:lnTo>
                  <a:pt x="155" y="402"/>
                </a:lnTo>
                <a:lnTo>
                  <a:pt x="148" y="406"/>
                </a:lnTo>
                <a:lnTo>
                  <a:pt x="140" y="412"/>
                </a:lnTo>
                <a:lnTo>
                  <a:pt x="133" y="415"/>
                </a:lnTo>
                <a:lnTo>
                  <a:pt x="124" y="421"/>
                </a:lnTo>
                <a:lnTo>
                  <a:pt x="113" y="424"/>
                </a:lnTo>
                <a:lnTo>
                  <a:pt x="102" y="428"/>
                </a:lnTo>
                <a:lnTo>
                  <a:pt x="90" y="432"/>
                </a:lnTo>
                <a:lnTo>
                  <a:pt x="79" y="433"/>
                </a:lnTo>
                <a:lnTo>
                  <a:pt x="68" y="435"/>
                </a:lnTo>
                <a:lnTo>
                  <a:pt x="59" y="435"/>
                </a:lnTo>
                <a:lnTo>
                  <a:pt x="48" y="435"/>
                </a:lnTo>
                <a:lnTo>
                  <a:pt x="46" y="435"/>
                </a:lnTo>
                <a:lnTo>
                  <a:pt x="44" y="433"/>
                </a:lnTo>
                <a:lnTo>
                  <a:pt x="42" y="432"/>
                </a:lnTo>
                <a:lnTo>
                  <a:pt x="42" y="430"/>
                </a:lnTo>
                <a:lnTo>
                  <a:pt x="42" y="428"/>
                </a:lnTo>
                <a:lnTo>
                  <a:pt x="41" y="424"/>
                </a:lnTo>
                <a:lnTo>
                  <a:pt x="41" y="422"/>
                </a:lnTo>
                <a:lnTo>
                  <a:pt x="39" y="421"/>
                </a:lnTo>
                <a:lnTo>
                  <a:pt x="48" y="408"/>
                </a:lnTo>
                <a:lnTo>
                  <a:pt x="57" y="397"/>
                </a:lnTo>
                <a:lnTo>
                  <a:pt x="68" y="388"/>
                </a:lnTo>
                <a:lnTo>
                  <a:pt x="79" y="379"/>
                </a:lnTo>
                <a:lnTo>
                  <a:pt x="90" y="368"/>
                </a:lnTo>
                <a:lnTo>
                  <a:pt x="102" y="359"/>
                </a:lnTo>
                <a:lnTo>
                  <a:pt x="111" y="348"/>
                </a:lnTo>
                <a:lnTo>
                  <a:pt x="120" y="337"/>
                </a:lnTo>
                <a:lnTo>
                  <a:pt x="138" y="304"/>
                </a:lnTo>
                <a:lnTo>
                  <a:pt x="164" y="283"/>
                </a:lnTo>
                <a:lnTo>
                  <a:pt x="196" y="270"/>
                </a:lnTo>
                <a:lnTo>
                  <a:pt x="229" y="263"/>
                </a:lnTo>
                <a:lnTo>
                  <a:pt x="266" y="259"/>
                </a:lnTo>
                <a:lnTo>
                  <a:pt x="303" y="254"/>
                </a:lnTo>
                <a:lnTo>
                  <a:pt x="340" y="248"/>
                </a:lnTo>
                <a:lnTo>
                  <a:pt x="375" y="239"/>
                </a:lnTo>
                <a:lnTo>
                  <a:pt x="386" y="237"/>
                </a:lnTo>
                <a:lnTo>
                  <a:pt x="399" y="237"/>
                </a:lnTo>
                <a:lnTo>
                  <a:pt x="412" y="239"/>
                </a:lnTo>
                <a:lnTo>
                  <a:pt x="423" y="241"/>
                </a:lnTo>
                <a:lnTo>
                  <a:pt x="436" y="243"/>
                </a:lnTo>
                <a:lnTo>
                  <a:pt x="447" y="245"/>
                </a:lnTo>
                <a:lnTo>
                  <a:pt x="460" y="245"/>
                </a:lnTo>
                <a:lnTo>
                  <a:pt x="471" y="243"/>
                </a:lnTo>
                <a:lnTo>
                  <a:pt x="509" y="234"/>
                </a:lnTo>
                <a:lnTo>
                  <a:pt x="545" y="217"/>
                </a:lnTo>
                <a:lnTo>
                  <a:pt x="576" y="196"/>
                </a:lnTo>
                <a:lnTo>
                  <a:pt x="605" y="170"/>
                </a:lnTo>
                <a:lnTo>
                  <a:pt x="633" y="143"/>
                </a:lnTo>
                <a:lnTo>
                  <a:pt x="661" y="116"/>
                </a:lnTo>
                <a:lnTo>
                  <a:pt x="690" y="89"/>
                </a:lnTo>
                <a:lnTo>
                  <a:pt x="720" y="65"/>
                </a:lnTo>
                <a:lnTo>
                  <a:pt x="727" y="59"/>
                </a:lnTo>
                <a:lnTo>
                  <a:pt x="733" y="52"/>
                </a:lnTo>
                <a:lnTo>
                  <a:pt x="738" y="45"/>
                </a:lnTo>
                <a:lnTo>
                  <a:pt x="746" y="38"/>
                </a:lnTo>
                <a:lnTo>
                  <a:pt x="751" y="32"/>
                </a:lnTo>
                <a:lnTo>
                  <a:pt x="757" y="25"/>
                </a:lnTo>
                <a:lnTo>
                  <a:pt x="764" y="18"/>
                </a:lnTo>
                <a:lnTo>
                  <a:pt x="770" y="10"/>
                </a:lnTo>
                <a:lnTo>
                  <a:pt x="768" y="9"/>
                </a:lnTo>
                <a:lnTo>
                  <a:pt x="766" y="7"/>
                </a:lnTo>
                <a:lnTo>
                  <a:pt x="764" y="5"/>
                </a:lnTo>
                <a:lnTo>
                  <a:pt x="762" y="3"/>
                </a:lnTo>
                <a:lnTo>
                  <a:pt x="759" y="3"/>
                </a:lnTo>
                <a:lnTo>
                  <a:pt x="755" y="1"/>
                </a:lnTo>
                <a:lnTo>
                  <a:pt x="751" y="1"/>
                </a:lnTo>
                <a:lnTo>
                  <a:pt x="7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4760" y="1913040"/>
            <a:ext cx="812880" cy="469800"/>
          </a:xfrm>
          <a:custGeom>
            <a:avLst/>
            <a:gdLst/>
            <a:ahLst/>
            <a:rect l="l" t="t" r="r" b="b"/>
            <a:pathLst>
              <a:path w="512" h="296">
                <a:moveTo>
                  <a:pt x="32" y="0"/>
                </a:moveTo>
                <a:lnTo>
                  <a:pt x="28" y="2"/>
                </a:lnTo>
                <a:lnTo>
                  <a:pt x="24" y="2"/>
                </a:lnTo>
                <a:lnTo>
                  <a:pt x="21" y="4"/>
                </a:lnTo>
                <a:lnTo>
                  <a:pt x="17" y="4"/>
                </a:lnTo>
                <a:lnTo>
                  <a:pt x="13" y="4"/>
                </a:lnTo>
                <a:lnTo>
                  <a:pt x="9" y="4"/>
                </a:lnTo>
                <a:lnTo>
                  <a:pt x="6" y="2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17" y="25"/>
                </a:lnTo>
                <a:lnTo>
                  <a:pt x="45" y="47"/>
                </a:lnTo>
                <a:lnTo>
                  <a:pt x="76" y="74"/>
                </a:lnTo>
                <a:lnTo>
                  <a:pt x="113" y="102"/>
                </a:lnTo>
                <a:lnTo>
                  <a:pt x="150" y="129"/>
                </a:lnTo>
                <a:lnTo>
                  <a:pt x="183" y="154"/>
                </a:lnTo>
                <a:lnTo>
                  <a:pt x="213" y="178"/>
                </a:lnTo>
                <a:lnTo>
                  <a:pt x="235" y="194"/>
                </a:lnTo>
                <a:lnTo>
                  <a:pt x="251" y="211"/>
                </a:lnTo>
                <a:lnTo>
                  <a:pt x="270" y="225"/>
                </a:lnTo>
                <a:lnTo>
                  <a:pt x="288" y="240"/>
                </a:lnTo>
                <a:lnTo>
                  <a:pt x="307" y="254"/>
                </a:lnTo>
                <a:lnTo>
                  <a:pt x="325" y="267"/>
                </a:lnTo>
                <a:lnTo>
                  <a:pt x="345" y="278"/>
                </a:lnTo>
                <a:lnTo>
                  <a:pt x="368" y="289"/>
                </a:lnTo>
                <a:lnTo>
                  <a:pt x="390" y="296"/>
                </a:lnTo>
                <a:lnTo>
                  <a:pt x="397" y="296"/>
                </a:lnTo>
                <a:lnTo>
                  <a:pt x="403" y="294"/>
                </a:lnTo>
                <a:lnTo>
                  <a:pt x="410" y="294"/>
                </a:lnTo>
                <a:lnTo>
                  <a:pt x="417" y="292"/>
                </a:lnTo>
                <a:lnTo>
                  <a:pt x="423" y="290"/>
                </a:lnTo>
                <a:lnTo>
                  <a:pt x="430" y="290"/>
                </a:lnTo>
                <a:lnTo>
                  <a:pt x="436" y="289"/>
                </a:lnTo>
                <a:lnTo>
                  <a:pt x="443" y="287"/>
                </a:lnTo>
                <a:lnTo>
                  <a:pt x="451" y="289"/>
                </a:lnTo>
                <a:lnTo>
                  <a:pt x="458" y="289"/>
                </a:lnTo>
                <a:lnTo>
                  <a:pt x="467" y="289"/>
                </a:lnTo>
                <a:lnTo>
                  <a:pt x="475" y="289"/>
                </a:lnTo>
                <a:lnTo>
                  <a:pt x="482" y="290"/>
                </a:lnTo>
                <a:lnTo>
                  <a:pt x="489" y="290"/>
                </a:lnTo>
                <a:lnTo>
                  <a:pt x="497" y="292"/>
                </a:lnTo>
                <a:lnTo>
                  <a:pt x="504" y="294"/>
                </a:lnTo>
                <a:lnTo>
                  <a:pt x="504" y="292"/>
                </a:lnTo>
                <a:lnTo>
                  <a:pt x="506" y="292"/>
                </a:lnTo>
                <a:lnTo>
                  <a:pt x="506" y="292"/>
                </a:lnTo>
                <a:lnTo>
                  <a:pt x="508" y="290"/>
                </a:lnTo>
                <a:lnTo>
                  <a:pt x="510" y="290"/>
                </a:lnTo>
                <a:lnTo>
                  <a:pt x="510" y="290"/>
                </a:lnTo>
                <a:lnTo>
                  <a:pt x="512" y="289"/>
                </a:lnTo>
                <a:lnTo>
                  <a:pt x="512" y="287"/>
                </a:lnTo>
                <a:lnTo>
                  <a:pt x="504" y="283"/>
                </a:lnTo>
                <a:lnTo>
                  <a:pt x="497" y="279"/>
                </a:lnTo>
                <a:lnTo>
                  <a:pt x="488" y="278"/>
                </a:lnTo>
                <a:lnTo>
                  <a:pt x="478" y="276"/>
                </a:lnTo>
                <a:lnTo>
                  <a:pt x="469" y="276"/>
                </a:lnTo>
                <a:lnTo>
                  <a:pt x="458" y="276"/>
                </a:lnTo>
                <a:lnTo>
                  <a:pt x="449" y="276"/>
                </a:lnTo>
                <a:lnTo>
                  <a:pt x="440" y="276"/>
                </a:lnTo>
                <a:lnTo>
                  <a:pt x="421" y="279"/>
                </a:lnTo>
                <a:lnTo>
                  <a:pt x="405" y="279"/>
                </a:lnTo>
                <a:lnTo>
                  <a:pt x="388" y="278"/>
                </a:lnTo>
                <a:lnTo>
                  <a:pt x="371" y="272"/>
                </a:lnTo>
                <a:lnTo>
                  <a:pt x="357" y="267"/>
                </a:lnTo>
                <a:lnTo>
                  <a:pt x="344" y="258"/>
                </a:lnTo>
                <a:lnTo>
                  <a:pt x="331" y="249"/>
                </a:lnTo>
                <a:lnTo>
                  <a:pt x="318" y="240"/>
                </a:lnTo>
                <a:lnTo>
                  <a:pt x="316" y="238"/>
                </a:lnTo>
                <a:lnTo>
                  <a:pt x="316" y="236"/>
                </a:lnTo>
                <a:lnTo>
                  <a:pt x="314" y="236"/>
                </a:lnTo>
                <a:lnTo>
                  <a:pt x="314" y="234"/>
                </a:lnTo>
                <a:lnTo>
                  <a:pt x="312" y="234"/>
                </a:lnTo>
                <a:lnTo>
                  <a:pt x="312" y="232"/>
                </a:lnTo>
                <a:lnTo>
                  <a:pt x="312" y="232"/>
                </a:lnTo>
                <a:lnTo>
                  <a:pt x="310" y="232"/>
                </a:lnTo>
                <a:lnTo>
                  <a:pt x="310" y="232"/>
                </a:lnTo>
                <a:lnTo>
                  <a:pt x="309" y="230"/>
                </a:lnTo>
                <a:lnTo>
                  <a:pt x="309" y="230"/>
                </a:lnTo>
                <a:lnTo>
                  <a:pt x="307" y="229"/>
                </a:lnTo>
                <a:lnTo>
                  <a:pt x="307" y="229"/>
                </a:lnTo>
                <a:lnTo>
                  <a:pt x="305" y="227"/>
                </a:lnTo>
                <a:lnTo>
                  <a:pt x="305" y="227"/>
                </a:lnTo>
                <a:lnTo>
                  <a:pt x="303" y="227"/>
                </a:lnTo>
                <a:lnTo>
                  <a:pt x="281" y="207"/>
                </a:lnTo>
                <a:lnTo>
                  <a:pt x="248" y="183"/>
                </a:lnTo>
                <a:lnTo>
                  <a:pt x="209" y="152"/>
                </a:lnTo>
                <a:lnTo>
                  <a:pt x="168" y="122"/>
                </a:lnTo>
                <a:lnTo>
                  <a:pt x="126" y="89"/>
                </a:lnTo>
                <a:lnTo>
                  <a:pt x="91" y="58"/>
                </a:lnTo>
                <a:lnTo>
                  <a:pt x="61" y="29"/>
                </a:lnTo>
                <a:lnTo>
                  <a:pt x="43" y="7"/>
                </a:lnTo>
                <a:lnTo>
                  <a:pt x="43" y="5"/>
                </a:lnTo>
                <a:lnTo>
                  <a:pt x="43" y="5"/>
                </a:lnTo>
                <a:lnTo>
                  <a:pt x="41" y="4"/>
                </a:lnTo>
                <a:lnTo>
                  <a:pt x="41" y="4"/>
                </a:lnTo>
                <a:lnTo>
                  <a:pt x="39" y="2"/>
                </a:lnTo>
                <a:lnTo>
                  <a:pt x="37" y="2"/>
                </a:lnTo>
                <a:lnTo>
                  <a:pt x="37" y="0"/>
                </a:lnTo>
                <a:lnTo>
                  <a:pt x="35" y="0"/>
                </a:lnTo>
                <a:lnTo>
                  <a:pt x="3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1000" y="2216160"/>
            <a:ext cx="2057400" cy="1068480"/>
          </a:xfrm>
          <a:custGeom>
            <a:avLst/>
            <a:gdLst/>
            <a:ahLst/>
            <a:rect l="l" t="t" r="r" b="b"/>
            <a:pathLst>
              <a:path w="1296" h="673">
                <a:moveTo>
                  <a:pt x="1296" y="0"/>
                </a:moveTo>
                <a:lnTo>
                  <a:pt x="1283" y="29"/>
                </a:lnTo>
                <a:lnTo>
                  <a:pt x="1263" y="58"/>
                </a:lnTo>
                <a:lnTo>
                  <a:pt x="1237" y="87"/>
                </a:lnTo>
                <a:lnTo>
                  <a:pt x="1210" y="116"/>
                </a:lnTo>
                <a:lnTo>
                  <a:pt x="1178" y="143"/>
                </a:lnTo>
                <a:lnTo>
                  <a:pt x="1145" y="170"/>
                </a:lnTo>
                <a:lnTo>
                  <a:pt x="1114" y="197"/>
                </a:lnTo>
                <a:lnTo>
                  <a:pt x="1084" y="221"/>
                </a:lnTo>
                <a:lnTo>
                  <a:pt x="1073" y="228"/>
                </a:lnTo>
                <a:lnTo>
                  <a:pt x="1064" y="235"/>
                </a:lnTo>
                <a:lnTo>
                  <a:pt x="1055" y="243"/>
                </a:lnTo>
                <a:lnTo>
                  <a:pt x="1043" y="250"/>
                </a:lnTo>
                <a:lnTo>
                  <a:pt x="1034" y="257"/>
                </a:lnTo>
                <a:lnTo>
                  <a:pt x="1023" y="265"/>
                </a:lnTo>
                <a:lnTo>
                  <a:pt x="1012" y="268"/>
                </a:lnTo>
                <a:lnTo>
                  <a:pt x="999" y="274"/>
                </a:lnTo>
                <a:lnTo>
                  <a:pt x="999" y="274"/>
                </a:lnTo>
                <a:lnTo>
                  <a:pt x="997" y="272"/>
                </a:lnTo>
                <a:lnTo>
                  <a:pt x="997" y="272"/>
                </a:lnTo>
                <a:lnTo>
                  <a:pt x="995" y="272"/>
                </a:lnTo>
                <a:lnTo>
                  <a:pt x="995" y="272"/>
                </a:lnTo>
                <a:lnTo>
                  <a:pt x="994" y="272"/>
                </a:lnTo>
                <a:lnTo>
                  <a:pt x="994" y="272"/>
                </a:lnTo>
                <a:lnTo>
                  <a:pt x="994" y="270"/>
                </a:lnTo>
                <a:lnTo>
                  <a:pt x="971" y="212"/>
                </a:lnTo>
                <a:lnTo>
                  <a:pt x="971" y="212"/>
                </a:lnTo>
                <a:lnTo>
                  <a:pt x="971" y="210"/>
                </a:lnTo>
                <a:lnTo>
                  <a:pt x="970" y="210"/>
                </a:lnTo>
                <a:lnTo>
                  <a:pt x="968" y="212"/>
                </a:lnTo>
                <a:lnTo>
                  <a:pt x="968" y="212"/>
                </a:lnTo>
                <a:lnTo>
                  <a:pt x="966" y="214"/>
                </a:lnTo>
                <a:lnTo>
                  <a:pt x="966" y="214"/>
                </a:lnTo>
                <a:lnTo>
                  <a:pt x="964" y="214"/>
                </a:lnTo>
                <a:lnTo>
                  <a:pt x="960" y="235"/>
                </a:lnTo>
                <a:lnTo>
                  <a:pt x="957" y="257"/>
                </a:lnTo>
                <a:lnTo>
                  <a:pt x="955" y="279"/>
                </a:lnTo>
                <a:lnTo>
                  <a:pt x="951" y="303"/>
                </a:lnTo>
                <a:lnTo>
                  <a:pt x="947" y="324"/>
                </a:lnTo>
                <a:lnTo>
                  <a:pt x="940" y="346"/>
                </a:lnTo>
                <a:lnTo>
                  <a:pt x="933" y="366"/>
                </a:lnTo>
                <a:lnTo>
                  <a:pt x="922" y="386"/>
                </a:lnTo>
                <a:lnTo>
                  <a:pt x="909" y="381"/>
                </a:lnTo>
                <a:lnTo>
                  <a:pt x="909" y="381"/>
                </a:lnTo>
                <a:lnTo>
                  <a:pt x="909" y="381"/>
                </a:lnTo>
                <a:lnTo>
                  <a:pt x="909" y="381"/>
                </a:lnTo>
                <a:lnTo>
                  <a:pt x="907" y="381"/>
                </a:lnTo>
                <a:lnTo>
                  <a:pt x="907" y="381"/>
                </a:lnTo>
                <a:lnTo>
                  <a:pt x="907" y="381"/>
                </a:lnTo>
                <a:lnTo>
                  <a:pt x="905" y="381"/>
                </a:lnTo>
                <a:lnTo>
                  <a:pt x="905" y="381"/>
                </a:lnTo>
                <a:lnTo>
                  <a:pt x="903" y="383"/>
                </a:lnTo>
                <a:lnTo>
                  <a:pt x="903" y="383"/>
                </a:lnTo>
                <a:lnTo>
                  <a:pt x="901" y="384"/>
                </a:lnTo>
                <a:lnTo>
                  <a:pt x="901" y="386"/>
                </a:lnTo>
                <a:lnTo>
                  <a:pt x="901" y="388"/>
                </a:lnTo>
                <a:lnTo>
                  <a:pt x="901" y="390"/>
                </a:lnTo>
                <a:lnTo>
                  <a:pt x="901" y="392"/>
                </a:lnTo>
                <a:lnTo>
                  <a:pt x="901" y="393"/>
                </a:lnTo>
                <a:lnTo>
                  <a:pt x="929" y="422"/>
                </a:lnTo>
                <a:lnTo>
                  <a:pt x="940" y="430"/>
                </a:lnTo>
                <a:lnTo>
                  <a:pt x="964" y="455"/>
                </a:lnTo>
                <a:lnTo>
                  <a:pt x="973" y="491"/>
                </a:lnTo>
                <a:lnTo>
                  <a:pt x="960" y="511"/>
                </a:lnTo>
                <a:lnTo>
                  <a:pt x="807" y="455"/>
                </a:lnTo>
                <a:lnTo>
                  <a:pt x="807" y="457"/>
                </a:lnTo>
                <a:lnTo>
                  <a:pt x="805" y="457"/>
                </a:lnTo>
                <a:lnTo>
                  <a:pt x="805" y="459"/>
                </a:lnTo>
                <a:lnTo>
                  <a:pt x="803" y="459"/>
                </a:lnTo>
                <a:lnTo>
                  <a:pt x="803" y="461"/>
                </a:lnTo>
                <a:lnTo>
                  <a:pt x="803" y="462"/>
                </a:lnTo>
                <a:lnTo>
                  <a:pt x="803" y="464"/>
                </a:lnTo>
                <a:lnTo>
                  <a:pt x="802" y="464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9"/>
                </a:lnTo>
                <a:lnTo>
                  <a:pt x="761" y="479"/>
                </a:lnTo>
                <a:lnTo>
                  <a:pt x="761" y="481"/>
                </a:lnTo>
                <a:lnTo>
                  <a:pt x="761" y="481"/>
                </a:lnTo>
                <a:lnTo>
                  <a:pt x="761" y="482"/>
                </a:lnTo>
                <a:lnTo>
                  <a:pt x="761" y="484"/>
                </a:lnTo>
                <a:lnTo>
                  <a:pt x="763" y="484"/>
                </a:lnTo>
                <a:lnTo>
                  <a:pt x="763" y="486"/>
                </a:lnTo>
                <a:lnTo>
                  <a:pt x="765" y="486"/>
                </a:lnTo>
                <a:lnTo>
                  <a:pt x="765" y="486"/>
                </a:lnTo>
                <a:lnTo>
                  <a:pt x="767" y="486"/>
                </a:lnTo>
                <a:lnTo>
                  <a:pt x="781" y="486"/>
                </a:lnTo>
                <a:lnTo>
                  <a:pt x="796" y="488"/>
                </a:lnTo>
                <a:lnTo>
                  <a:pt x="811" y="491"/>
                </a:lnTo>
                <a:lnTo>
                  <a:pt x="826" y="495"/>
                </a:lnTo>
                <a:lnTo>
                  <a:pt x="840" y="500"/>
                </a:lnTo>
                <a:lnTo>
                  <a:pt x="855" y="504"/>
                </a:lnTo>
                <a:lnTo>
                  <a:pt x="870" y="508"/>
                </a:lnTo>
                <a:lnTo>
                  <a:pt x="885" y="511"/>
                </a:lnTo>
                <a:lnTo>
                  <a:pt x="909" y="537"/>
                </a:lnTo>
                <a:lnTo>
                  <a:pt x="905" y="542"/>
                </a:lnTo>
                <a:lnTo>
                  <a:pt x="901" y="548"/>
                </a:lnTo>
                <a:lnTo>
                  <a:pt x="898" y="551"/>
                </a:lnTo>
                <a:lnTo>
                  <a:pt x="894" y="555"/>
                </a:lnTo>
                <a:lnTo>
                  <a:pt x="888" y="559"/>
                </a:lnTo>
                <a:lnTo>
                  <a:pt x="883" y="562"/>
                </a:lnTo>
                <a:lnTo>
                  <a:pt x="877" y="564"/>
                </a:lnTo>
                <a:lnTo>
                  <a:pt x="870" y="564"/>
                </a:lnTo>
                <a:lnTo>
                  <a:pt x="850" y="564"/>
                </a:lnTo>
                <a:lnTo>
                  <a:pt x="829" y="562"/>
                </a:lnTo>
                <a:lnTo>
                  <a:pt x="811" y="559"/>
                </a:lnTo>
                <a:lnTo>
                  <a:pt x="792" y="553"/>
                </a:lnTo>
                <a:lnTo>
                  <a:pt x="774" y="546"/>
                </a:lnTo>
                <a:lnTo>
                  <a:pt x="757" y="539"/>
                </a:lnTo>
                <a:lnTo>
                  <a:pt x="743" y="531"/>
                </a:lnTo>
                <a:lnTo>
                  <a:pt x="726" y="524"/>
                </a:lnTo>
                <a:lnTo>
                  <a:pt x="724" y="524"/>
                </a:lnTo>
                <a:lnTo>
                  <a:pt x="724" y="526"/>
                </a:lnTo>
                <a:lnTo>
                  <a:pt x="722" y="526"/>
                </a:lnTo>
                <a:lnTo>
                  <a:pt x="722" y="528"/>
                </a:lnTo>
                <a:lnTo>
                  <a:pt x="722" y="530"/>
                </a:lnTo>
                <a:lnTo>
                  <a:pt x="720" y="531"/>
                </a:lnTo>
                <a:lnTo>
                  <a:pt x="720" y="531"/>
                </a:lnTo>
                <a:lnTo>
                  <a:pt x="719" y="533"/>
                </a:lnTo>
                <a:lnTo>
                  <a:pt x="717" y="533"/>
                </a:lnTo>
                <a:lnTo>
                  <a:pt x="717" y="535"/>
                </a:lnTo>
                <a:lnTo>
                  <a:pt x="715" y="537"/>
                </a:lnTo>
                <a:lnTo>
                  <a:pt x="715" y="537"/>
                </a:lnTo>
                <a:lnTo>
                  <a:pt x="713" y="537"/>
                </a:lnTo>
                <a:lnTo>
                  <a:pt x="713" y="539"/>
                </a:lnTo>
                <a:lnTo>
                  <a:pt x="711" y="539"/>
                </a:lnTo>
                <a:lnTo>
                  <a:pt x="709" y="539"/>
                </a:lnTo>
                <a:lnTo>
                  <a:pt x="709" y="539"/>
                </a:lnTo>
                <a:lnTo>
                  <a:pt x="707" y="540"/>
                </a:lnTo>
                <a:lnTo>
                  <a:pt x="707" y="542"/>
                </a:lnTo>
                <a:lnTo>
                  <a:pt x="707" y="542"/>
                </a:lnTo>
                <a:lnTo>
                  <a:pt x="707" y="544"/>
                </a:lnTo>
                <a:lnTo>
                  <a:pt x="707" y="546"/>
                </a:lnTo>
                <a:lnTo>
                  <a:pt x="707" y="546"/>
                </a:lnTo>
                <a:lnTo>
                  <a:pt x="707" y="548"/>
                </a:lnTo>
                <a:lnTo>
                  <a:pt x="807" y="584"/>
                </a:lnTo>
                <a:lnTo>
                  <a:pt x="807" y="586"/>
                </a:lnTo>
                <a:lnTo>
                  <a:pt x="807" y="586"/>
                </a:lnTo>
                <a:lnTo>
                  <a:pt x="807" y="588"/>
                </a:lnTo>
                <a:lnTo>
                  <a:pt x="807" y="588"/>
                </a:lnTo>
                <a:lnTo>
                  <a:pt x="807" y="589"/>
                </a:lnTo>
                <a:lnTo>
                  <a:pt x="807" y="589"/>
                </a:lnTo>
                <a:lnTo>
                  <a:pt x="807" y="591"/>
                </a:lnTo>
                <a:lnTo>
                  <a:pt x="807" y="591"/>
                </a:lnTo>
                <a:lnTo>
                  <a:pt x="792" y="597"/>
                </a:lnTo>
                <a:lnTo>
                  <a:pt x="776" y="598"/>
                </a:lnTo>
                <a:lnTo>
                  <a:pt x="759" y="598"/>
                </a:lnTo>
                <a:lnTo>
                  <a:pt x="743" y="597"/>
                </a:lnTo>
                <a:lnTo>
                  <a:pt x="726" y="595"/>
                </a:lnTo>
                <a:lnTo>
                  <a:pt x="707" y="591"/>
                </a:lnTo>
                <a:lnTo>
                  <a:pt x="691" y="588"/>
                </a:lnTo>
                <a:lnTo>
                  <a:pt x="676" y="584"/>
                </a:lnTo>
                <a:lnTo>
                  <a:pt x="674" y="582"/>
                </a:lnTo>
                <a:lnTo>
                  <a:pt x="672" y="582"/>
                </a:lnTo>
                <a:lnTo>
                  <a:pt x="672" y="582"/>
                </a:lnTo>
                <a:lnTo>
                  <a:pt x="671" y="580"/>
                </a:lnTo>
                <a:lnTo>
                  <a:pt x="669" y="580"/>
                </a:lnTo>
                <a:lnTo>
                  <a:pt x="669" y="580"/>
                </a:lnTo>
                <a:lnTo>
                  <a:pt x="667" y="580"/>
                </a:lnTo>
                <a:lnTo>
                  <a:pt x="667" y="579"/>
                </a:lnTo>
                <a:lnTo>
                  <a:pt x="665" y="580"/>
                </a:lnTo>
                <a:lnTo>
                  <a:pt x="663" y="580"/>
                </a:lnTo>
                <a:lnTo>
                  <a:pt x="661" y="580"/>
                </a:lnTo>
                <a:lnTo>
                  <a:pt x="661" y="580"/>
                </a:lnTo>
                <a:lnTo>
                  <a:pt x="659" y="580"/>
                </a:lnTo>
                <a:lnTo>
                  <a:pt x="658" y="582"/>
                </a:lnTo>
                <a:lnTo>
                  <a:pt x="658" y="582"/>
                </a:lnTo>
                <a:lnTo>
                  <a:pt x="656" y="584"/>
                </a:lnTo>
                <a:lnTo>
                  <a:pt x="669" y="604"/>
                </a:lnTo>
                <a:lnTo>
                  <a:pt x="669" y="608"/>
                </a:lnTo>
                <a:lnTo>
                  <a:pt x="669" y="609"/>
                </a:lnTo>
                <a:lnTo>
                  <a:pt x="669" y="611"/>
                </a:lnTo>
                <a:lnTo>
                  <a:pt x="667" y="613"/>
                </a:lnTo>
                <a:lnTo>
                  <a:pt x="667" y="615"/>
                </a:lnTo>
                <a:lnTo>
                  <a:pt x="665" y="617"/>
                </a:lnTo>
                <a:lnTo>
                  <a:pt x="663" y="618"/>
                </a:lnTo>
                <a:lnTo>
                  <a:pt x="663" y="620"/>
                </a:lnTo>
                <a:lnTo>
                  <a:pt x="652" y="620"/>
                </a:lnTo>
                <a:lnTo>
                  <a:pt x="639" y="624"/>
                </a:lnTo>
                <a:lnTo>
                  <a:pt x="575" y="609"/>
                </a:lnTo>
                <a:lnTo>
                  <a:pt x="569" y="604"/>
                </a:lnTo>
                <a:lnTo>
                  <a:pt x="562" y="602"/>
                </a:lnTo>
                <a:lnTo>
                  <a:pt x="552" y="600"/>
                </a:lnTo>
                <a:lnTo>
                  <a:pt x="543" y="600"/>
                </a:lnTo>
                <a:lnTo>
                  <a:pt x="534" y="600"/>
                </a:lnTo>
                <a:lnTo>
                  <a:pt x="527" y="600"/>
                </a:lnTo>
                <a:lnTo>
                  <a:pt x="517" y="598"/>
                </a:lnTo>
                <a:lnTo>
                  <a:pt x="510" y="595"/>
                </a:lnTo>
                <a:lnTo>
                  <a:pt x="508" y="593"/>
                </a:lnTo>
                <a:lnTo>
                  <a:pt x="508" y="593"/>
                </a:lnTo>
                <a:lnTo>
                  <a:pt x="506" y="593"/>
                </a:lnTo>
                <a:lnTo>
                  <a:pt x="506" y="591"/>
                </a:lnTo>
                <a:lnTo>
                  <a:pt x="504" y="591"/>
                </a:lnTo>
                <a:lnTo>
                  <a:pt x="504" y="591"/>
                </a:lnTo>
                <a:lnTo>
                  <a:pt x="504" y="591"/>
                </a:lnTo>
                <a:lnTo>
                  <a:pt x="504" y="591"/>
                </a:lnTo>
                <a:lnTo>
                  <a:pt x="503" y="591"/>
                </a:lnTo>
                <a:lnTo>
                  <a:pt x="501" y="591"/>
                </a:lnTo>
                <a:lnTo>
                  <a:pt x="499" y="591"/>
                </a:lnTo>
                <a:lnTo>
                  <a:pt x="499" y="591"/>
                </a:lnTo>
                <a:lnTo>
                  <a:pt x="497" y="589"/>
                </a:lnTo>
                <a:lnTo>
                  <a:pt x="495" y="588"/>
                </a:lnTo>
                <a:lnTo>
                  <a:pt x="495" y="586"/>
                </a:lnTo>
                <a:lnTo>
                  <a:pt x="493" y="584"/>
                </a:lnTo>
                <a:lnTo>
                  <a:pt x="497" y="580"/>
                </a:lnTo>
                <a:lnTo>
                  <a:pt x="499" y="575"/>
                </a:lnTo>
                <a:lnTo>
                  <a:pt x="501" y="569"/>
                </a:lnTo>
                <a:lnTo>
                  <a:pt x="503" y="564"/>
                </a:lnTo>
                <a:lnTo>
                  <a:pt x="504" y="559"/>
                </a:lnTo>
                <a:lnTo>
                  <a:pt x="504" y="553"/>
                </a:lnTo>
                <a:lnTo>
                  <a:pt x="503" y="548"/>
                </a:lnTo>
                <a:lnTo>
                  <a:pt x="503" y="544"/>
                </a:lnTo>
                <a:lnTo>
                  <a:pt x="501" y="540"/>
                </a:lnTo>
                <a:lnTo>
                  <a:pt x="499" y="539"/>
                </a:lnTo>
                <a:lnTo>
                  <a:pt x="497" y="535"/>
                </a:lnTo>
                <a:lnTo>
                  <a:pt x="495" y="533"/>
                </a:lnTo>
                <a:lnTo>
                  <a:pt x="493" y="531"/>
                </a:lnTo>
                <a:lnTo>
                  <a:pt x="490" y="530"/>
                </a:lnTo>
                <a:lnTo>
                  <a:pt x="488" y="528"/>
                </a:lnTo>
                <a:lnTo>
                  <a:pt x="486" y="526"/>
                </a:lnTo>
                <a:lnTo>
                  <a:pt x="477" y="524"/>
                </a:lnTo>
                <a:lnTo>
                  <a:pt x="469" y="524"/>
                </a:lnTo>
                <a:lnTo>
                  <a:pt x="460" y="524"/>
                </a:lnTo>
                <a:lnTo>
                  <a:pt x="451" y="526"/>
                </a:lnTo>
                <a:lnTo>
                  <a:pt x="442" y="530"/>
                </a:lnTo>
                <a:lnTo>
                  <a:pt x="434" y="533"/>
                </a:lnTo>
                <a:lnTo>
                  <a:pt x="427" y="537"/>
                </a:lnTo>
                <a:lnTo>
                  <a:pt x="421" y="542"/>
                </a:lnTo>
                <a:lnTo>
                  <a:pt x="410" y="537"/>
                </a:lnTo>
                <a:lnTo>
                  <a:pt x="410" y="531"/>
                </a:lnTo>
                <a:lnTo>
                  <a:pt x="412" y="524"/>
                </a:lnTo>
                <a:lnTo>
                  <a:pt x="414" y="517"/>
                </a:lnTo>
                <a:lnTo>
                  <a:pt x="418" y="510"/>
                </a:lnTo>
                <a:lnTo>
                  <a:pt x="418" y="502"/>
                </a:lnTo>
                <a:lnTo>
                  <a:pt x="418" y="493"/>
                </a:lnTo>
                <a:lnTo>
                  <a:pt x="416" y="484"/>
                </a:lnTo>
                <a:lnTo>
                  <a:pt x="412" y="477"/>
                </a:lnTo>
                <a:lnTo>
                  <a:pt x="405" y="473"/>
                </a:lnTo>
                <a:lnTo>
                  <a:pt x="397" y="471"/>
                </a:lnTo>
                <a:lnTo>
                  <a:pt x="390" y="471"/>
                </a:lnTo>
                <a:lnTo>
                  <a:pt x="383" y="470"/>
                </a:lnTo>
                <a:lnTo>
                  <a:pt x="375" y="471"/>
                </a:lnTo>
                <a:lnTo>
                  <a:pt x="366" y="473"/>
                </a:lnTo>
                <a:lnTo>
                  <a:pt x="359" y="475"/>
                </a:lnTo>
                <a:lnTo>
                  <a:pt x="351" y="479"/>
                </a:lnTo>
                <a:lnTo>
                  <a:pt x="349" y="481"/>
                </a:lnTo>
                <a:lnTo>
                  <a:pt x="346" y="482"/>
                </a:lnTo>
                <a:lnTo>
                  <a:pt x="344" y="486"/>
                </a:lnTo>
                <a:lnTo>
                  <a:pt x="340" y="488"/>
                </a:lnTo>
                <a:lnTo>
                  <a:pt x="338" y="490"/>
                </a:lnTo>
                <a:lnTo>
                  <a:pt x="336" y="491"/>
                </a:lnTo>
                <a:lnTo>
                  <a:pt x="333" y="491"/>
                </a:lnTo>
                <a:lnTo>
                  <a:pt x="329" y="491"/>
                </a:lnTo>
                <a:lnTo>
                  <a:pt x="311" y="477"/>
                </a:lnTo>
                <a:lnTo>
                  <a:pt x="301" y="448"/>
                </a:lnTo>
                <a:lnTo>
                  <a:pt x="261" y="435"/>
                </a:lnTo>
                <a:lnTo>
                  <a:pt x="240" y="417"/>
                </a:lnTo>
                <a:lnTo>
                  <a:pt x="224" y="395"/>
                </a:lnTo>
                <a:lnTo>
                  <a:pt x="209" y="373"/>
                </a:lnTo>
                <a:lnTo>
                  <a:pt x="198" y="350"/>
                </a:lnTo>
                <a:lnTo>
                  <a:pt x="187" y="324"/>
                </a:lnTo>
                <a:lnTo>
                  <a:pt x="176" y="299"/>
                </a:lnTo>
                <a:lnTo>
                  <a:pt x="165" y="274"/>
                </a:lnTo>
                <a:lnTo>
                  <a:pt x="152" y="248"/>
                </a:lnTo>
                <a:lnTo>
                  <a:pt x="128" y="235"/>
                </a:lnTo>
                <a:lnTo>
                  <a:pt x="109" y="223"/>
                </a:lnTo>
                <a:lnTo>
                  <a:pt x="95" y="214"/>
                </a:lnTo>
                <a:lnTo>
                  <a:pt x="80" y="203"/>
                </a:lnTo>
                <a:lnTo>
                  <a:pt x="65" y="192"/>
                </a:lnTo>
                <a:lnTo>
                  <a:pt x="50" y="179"/>
                </a:lnTo>
                <a:lnTo>
                  <a:pt x="32" y="163"/>
                </a:lnTo>
                <a:lnTo>
                  <a:pt x="10" y="143"/>
                </a:lnTo>
                <a:lnTo>
                  <a:pt x="13" y="141"/>
                </a:lnTo>
                <a:lnTo>
                  <a:pt x="15" y="141"/>
                </a:lnTo>
                <a:lnTo>
                  <a:pt x="12" y="145"/>
                </a:lnTo>
                <a:lnTo>
                  <a:pt x="8" y="152"/>
                </a:lnTo>
                <a:lnTo>
                  <a:pt x="4" y="165"/>
                </a:lnTo>
                <a:lnTo>
                  <a:pt x="0" y="181"/>
                </a:lnTo>
                <a:lnTo>
                  <a:pt x="0" y="206"/>
                </a:lnTo>
                <a:lnTo>
                  <a:pt x="4" y="237"/>
                </a:lnTo>
                <a:lnTo>
                  <a:pt x="23" y="259"/>
                </a:lnTo>
                <a:lnTo>
                  <a:pt x="41" y="275"/>
                </a:lnTo>
                <a:lnTo>
                  <a:pt x="56" y="286"/>
                </a:lnTo>
                <a:lnTo>
                  <a:pt x="71" y="295"/>
                </a:lnTo>
                <a:lnTo>
                  <a:pt x="85" y="306"/>
                </a:lnTo>
                <a:lnTo>
                  <a:pt x="102" y="317"/>
                </a:lnTo>
                <a:lnTo>
                  <a:pt x="117" y="334"/>
                </a:lnTo>
                <a:lnTo>
                  <a:pt x="133" y="357"/>
                </a:lnTo>
                <a:lnTo>
                  <a:pt x="159" y="402"/>
                </a:lnTo>
                <a:lnTo>
                  <a:pt x="135" y="372"/>
                </a:lnTo>
                <a:lnTo>
                  <a:pt x="152" y="404"/>
                </a:lnTo>
                <a:lnTo>
                  <a:pt x="126" y="402"/>
                </a:lnTo>
                <a:lnTo>
                  <a:pt x="122" y="408"/>
                </a:lnTo>
                <a:lnTo>
                  <a:pt x="115" y="412"/>
                </a:lnTo>
                <a:lnTo>
                  <a:pt x="109" y="417"/>
                </a:lnTo>
                <a:lnTo>
                  <a:pt x="104" y="421"/>
                </a:lnTo>
                <a:lnTo>
                  <a:pt x="98" y="426"/>
                </a:lnTo>
                <a:lnTo>
                  <a:pt x="93" y="433"/>
                </a:lnTo>
                <a:lnTo>
                  <a:pt x="91" y="439"/>
                </a:lnTo>
                <a:lnTo>
                  <a:pt x="91" y="448"/>
                </a:lnTo>
                <a:lnTo>
                  <a:pt x="95" y="457"/>
                </a:lnTo>
                <a:lnTo>
                  <a:pt x="98" y="464"/>
                </a:lnTo>
                <a:lnTo>
                  <a:pt x="102" y="471"/>
                </a:lnTo>
                <a:lnTo>
                  <a:pt x="108" y="479"/>
                </a:lnTo>
                <a:lnTo>
                  <a:pt x="115" y="484"/>
                </a:lnTo>
                <a:lnTo>
                  <a:pt x="120" y="490"/>
                </a:lnTo>
                <a:lnTo>
                  <a:pt x="128" y="495"/>
                </a:lnTo>
                <a:lnTo>
                  <a:pt x="135" y="499"/>
                </a:lnTo>
                <a:lnTo>
                  <a:pt x="139" y="500"/>
                </a:lnTo>
                <a:lnTo>
                  <a:pt x="141" y="500"/>
                </a:lnTo>
                <a:lnTo>
                  <a:pt x="143" y="500"/>
                </a:lnTo>
                <a:lnTo>
                  <a:pt x="146" y="502"/>
                </a:lnTo>
                <a:lnTo>
                  <a:pt x="148" y="502"/>
                </a:lnTo>
                <a:lnTo>
                  <a:pt x="150" y="504"/>
                </a:lnTo>
                <a:lnTo>
                  <a:pt x="152" y="506"/>
                </a:lnTo>
                <a:lnTo>
                  <a:pt x="154" y="506"/>
                </a:lnTo>
                <a:lnTo>
                  <a:pt x="167" y="500"/>
                </a:lnTo>
                <a:lnTo>
                  <a:pt x="168" y="495"/>
                </a:lnTo>
                <a:lnTo>
                  <a:pt x="172" y="490"/>
                </a:lnTo>
                <a:lnTo>
                  <a:pt x="176" y="484"/>
                </a:lnTo>
                <a:lnTo>
                  <a:pt x="178" y="479"/>
                </a:lnTo>
                <a:lnTo>
                  <a:pt x="180" y="471"/>
                </a:lnTo>
                <a:lnTo>
                  <a:pt x="181" y="466"/>
                </a:lnTo>
                <a:lnTo>
                  <a:pt x="181" y="459"/>
                </a:lnTo>
                <a:lnTo>
                  <a:pt x="181" y="451"/>
                </a:lnTo>
                <a:lnTo>
                  <a:pt x="194" y="477"/>
                </a:lnTo>
                <a:lnTo>
                  <a:pt x="194" y="479"/>
                </a:lnTo>
                <a:lnTo>
                  <a:pt x="192" y="482"/>
                </a:lnTo>
                <a:lnTo>
                  <a:pt x="191" y="484"/>
                </a:lnTo>
                <a:lnTo>
                  <a:pt x="189" y="486"/>
                </a:lnTo>
                <a:lnTo>
                  <a:pt x="187" y="488"/>
                </a:lnTo>
                <a:lnTo>
                  <a:pt x="185" y="490"/>
                </a:lnTo>
                <a:lnTo>
                  <a:pt x="183" y="491"/>
                </a:lnTo>
                <a:lnTo>
                  <a:pt x="181" y="495"/>
                </a:lnTo>
                <a:lnTo>
                  <a:pt x="181" y="495"/>
                </a:lnTo>
                <a:lnTo>
                  <a:pt x="181" y="495"/>
                </a:lnTo>
                <a:lnTo>
                  <a:pt x="183" y="497"/>
                </a:lnTo>
                <a:lnTo>
                  <a:pt x="183" y="497"/>
                </a:lnTo>
                <a:lnTo>
                  <a:pt x="185" y="499"/>
                </a:lnTo>
                <a:lnTo>
                  <a:pt x="185" y="499"/>
                </a:lnTo>
                <a:lnTo>
                  <a:pt x="187" y="499"/>
                </a:lnTo>
                <a:lnTo>
                  <a:pt x="187" y="499"/>
                </a:lnTo>
                <a:lnTo>
                  <a:pt x="196" y="488"/>
                </a:lnTo>
                <a:lnTo>
                  <a:pt x="207" y="479"/>
                </a:lnTo>
                <a:lnTo>
                  <a:pt x="216" y="470"/>
                </a:lnTo>
                <a:lnTo>
                  <a:pt x="228" y="461"/>
                </a:lnTo>
                <a:lnTo>
                  <a:pt x="240" y="453"/>
                </a:lnTo>
                <a:lnTo>
                  <a:pt x="253" y="450"/>
                </a:lnTo>
                <a:lnTo>
                  <a:pt x="266" y="446"/>
                </a:lnTo>
                <a:lnTo>
                  <a:pt x="281" y="448"/>
                </a:lnTo>
                <a:lnTo>
                  <a:pt x="281" y="450"/>
                </a:lnTo>
                <a:lnTo>
                  <a:pt x="283" y="450"/>
                </a:lnTo>
                <a:lnTo>
                  <a:pt x="285" y="450"/>
                </a:lnTo>
                <a:lnTo>
                  <a:pt x="285" y="451"/>
                </a:lnTo>
                <a:lnTo>
                  <a:pt x="287" y="451"/>
                </a:lnTo>
                <a:lnTo>
                  <a:pt x="288" y="451"/>
                </a:lnTo>
                <a:lnTo>
                  <a:pt x="288" y="451"/>
                </a:lnTo>
                <a:lnTo>
                  <a:pt x="290" y="451"/>
                </a:lnTo>
                <a:lnTo>
                  <a:pt x="290" y="457"/>
                </a:lnTo>
                <a:lnTo>
                  <a:pt x="288" y="462"/>
                </a:lnTo>
                <a:lnTo>
                  <a:pt x="288" y="468"/>
                </a:lnTo>
                <a:lnTo>
                  <a:pt x="285" y="473"/>
                </a:lnTo>
                <a:lnTo>
                  <a:pt x="283" y="477"/>
                </a:lnTo>
                <a:lnTo>
                  <a:pt x="279" y="481"/>
                </a:lnTo>
                <a:lnTo>
                  <a:pt x="276" y="486"/>
                </a:lnTo>
                <a:lnTo>
                  <a:pt x="272" y="488"/>
                </a:lnTo>
                <a:lnTo>
                  <a:pt x="270" y="490"/>
                </a:lnTo>
                <a:lnTo>
                  <a:pt x="268" y="491"/>
                </a:lnTo>
                <a:lnTo>
                  <a:pt x="266" y="491"/>
                </a:lnTo>
                <a:lnTo>
                  <a:pt x="266" y="493"/>
                </a:lnTo>
                <a:lnTo>
                  <a:pt x="264" y="493"/>
                </a:lnTo>
                <a:lnTo>
                  <a:pt x="263" y="495"/>
                </a:lnTo>
                <a:lnTo>
                  <a:pt x="263" y="495"/>
                </a:lnTo>
                <a:lnTo>
                  <a:pt x="261" y="495"/>
                </a:lnTo>
                <a:lnTo>
                  <a:pt x="259" y="495"/>
                </a:lnTo>
                <a:lnTo>
                  <a:pt x="257" y="493"/>
                </a:lnTo>
                <a:lnTo>
                  <a:pt x="255" y="493"/>
                </a:lnTo>
                <a:lnTo>
                  <a:pt x="255" y="491"/>
                </a:lnTo>
                <a:lnTo>
                  <a:pt x="255" y="490"/>
                </a:lnTo>
                <a:lnTo>
                  <a:pt x="253" y="488"/>
                </a:lnTo>
                <a:lnTo>
                  <a:pt x="253" y="486"/>
                </a:lnTo>
                <a:lnTo>
                  <a:pt x="252" y="484"/>
                </a:lnTo>
                <a:lnTo>
                  <a:pt x="250" y="484"/>
                </a:lnTo>
                <a:lnTo>
                  <a:pt x="248" y="484"/>
                </a:lnTo>
                <a:lnTo>
                  <a:pt x="246" y="486"/>
                </a:lnTo>
                <a:lnTo>
                  <a:pt x="244" y="486"/>
                </a:lnTo>
                <a:lnTo>
                  <a:pt x="242" y="488"/>
                </a:lnTo>
                <a:lnTo>
                  <a:pt x="242" y="488"/>
                </a:lnTo>
                <a:lnTo>
                  <a:pt x="240" y="490"/>
                </a:lnTo>
                <a:lnTo>
                  <a:pt x="239" y="491"/>
                </a:lnTo>
                <a:lnTo>
                  <a:pt x="250" y="508"/>
                </a:lnTo>
                <a:lnTo>
                  <a:pt x="246" y="513"/>
                </a:lnTo>
                <a:lnTo>
                  <a:pt x="240" y="517"/>
                </a:lnTo>
                <a:lnTo>
                  <a:pt x="237" y="520"/>
                </a:lnTo>
                <a:lnTo>
                  <a:pt x="231" y="524"/>
                </a:lnTo>
                <a:lnTo>
                  <a:pt x="226" y="526"/>
                </a:lnTo>
                <a:lnTo>
                  <a:pt x="220" y="528"/>
                </a:lnTo>
                <a:lnTo>
                  <a:pt x="213" y="530"/>
                </a:lnTo>
                <a:lnTo>
                  <a:pt x="205" y="530"/>
                </a:lnTo>
                <a:lnTo>
                  <a:pt x="183" y="511"/>
                </a:lnTo>
                <a:lnTo>
                  <a:pt x="181" y="511"/>
                </a:lnTo>
                <a:lnTo>
                  <a:pt x="181" y="511"/>
                </a:lnTo>
                <a:lnTo>
                  <a:pt x="180" y="513"/>
                </a:lnTo>
                <a:lnTo>
                  <a:pt x="180" y="513"/>
                </a:lnTo>
                <a:lnTo>
                  <a:pt x="178" y="513"/>
                </a:lnTo>
                <a:lnTo>
                  <a:pt x="178" y="515"/>
                </a:lnTo>
                <a:lnTo>
                  <a:pt x="176" y="515"/>
                </a:lnTo>
                <a:lnTo>
                  <a:pt x="176" y="517"/>
                </a:lnTo>
                <a:lnTo>
                  <a:pt x="176" y="519"/>
                </a:lnTo>
                <a:lnTo>
                  <a:pt x="176" y="519"/>
                </a:lnTo>
                <a:lnTo>
                  <a:pt x="176" y="519"/>
                </a:lnTo>
                <a:lnTo>
                  <a:pt x="176" y="520"/>
                </a:lnTo>
                <a:lnTo>
                  <a:pt x="176" y="520"/>
                </a:lnTo>
                <a:lnTo>
                  <a:pt x="176" y="522"/>
                </a:lnTo>
                <a:lnTo>
                  <a:pt x="176" y="522"/>
                </a:lnTo>
                <a:lnTo>
                  <a:pt x="176" y="524"/>
                </a:lnTo>
                <a:lnTo>
                  <a:pt x="213" y="549"/>
                </a:lnTo>
                <a:lnTo>
                  <a:pt x="218" y="549"/>
                </a:lnTo>
                <a:lnTo>
                  <a:pt x="226" y="551"/>
                </a:lnTo>
                <a:lnTo>
                  <a:pt x="231" y="551"/>
                </a:lnTo>
                <a:lnTo>
                  <a:pt x="239" y="549"/>
                </a:lnTo>
                <a:lnTo>
                  <a:pt x="244" y="549"/>
                </a:lnTo>
                <a:lnTo>
                  <a:pt x="250" y="548"/>
                </a:lnTo>
                <a:lnTo>
                  <a:pt x="255" y="544"/>
                </a:lnTo>
                <a:lnTo>
                  <a:pt x="261" y="540"/>
                </a:lnTo>
                <a:lnTo>
                  <a:pt x="263" y="539"/>
                </a:lnTo>
                <a:lnTo>
                  <a:pt x="263" y="537"/>
                </a:lnTo>
                <a:lnTo>
                  <a:pt x="264" y="537"/>
                </a:lnTo>
                <a:lnTo>
                  <a:pt x="264" y="535"/>
                </a:lnTo>
                <a:lnTo>
                  <a:pt x="266" y="533"/>
                </a:lnTo>
                <a:lnTo>
                  <a:pt x="268" y="533"/>
                </a:lnTo>
                <a:lnTo>
                  <a:pt x="268" y="533"/>
                </a:lnTo>
                <a:lnTo>
                  <a:pt x="270" y="531"/>
                </a:lnTo>
                <a:lnTo>
                  <a:pt x="272" y="531"/>
                </a:lnTo>
                <a:lnTo>
                  <a:pt x="272" y="531"/>
                </a:lnTo>
                <a:lnTo>
                  <a:pt x="274" y="533"/>
                </a:lnTo>
                <a:lnTo>
                  <a:pt x="276" y="533"/>
                </a:lnTo>
                <a:lnTo>
                  <a:pt x="276" y="533"/>
                </a:lnTo>
                <a:lnTo>
                  <a:pt x="277" y="535"/>
                </a:lnTo>
                <a:lnTo>
                  <a:pt x="277" y="535"/>
                </a:lnTo>
                <a:lnTo>
                  <a:pt x="279" y="537"/>
                </a:lnTo>
                <a:lnTo>
                  <a:pt x="270" y="549"/>
                </a:lnTo>
                <a:lnTo>
                  <a:pt x="268" y="549"/>
                </a:lnTo>
                <a:lnTo>
                  <a:pt x="268" y="551"/>
                </a:lnTo>
                <a:lnTo>
                  <a:pt x="266" y="551"/>
                </a:lnTo>
                <a:lnTo>
                  <a:pt x="266" y="553"/>
                </a:lnTo>
                <a:lnTo>
                  <a:pt x="264" y="555"/>
                </a:lnTo>
                <a:lnTo>
                  <a:pt x="264" y="557"/>
                </a:lnTo>
                <a:lnTo>
                  <a:pt x="263" y="559"/>
                </a:lnTo>
                <a:lnTo>
                  <a:pt x="263" y="560"/>
                </a:lnTo>
                <a:lnTo>
                  <a:pt x="290" y="591"/>
                </a:lnTo>
                <a:lnTo>
                  <a:pt x="346" y="604"/>
                </a:lnTo>
                <a:lnTo>
                  <a:pt x="348" y="604"/>
                </a:lnTo>
                <a:lnTo>
                  <a:pt x="348" y="604"/>
                </a:lnTo>
                <a:lnTo>
                  <a:pt x="348" y="606"/>
                </a:lnTo>
                <a:lnTo>
                  <a:pt x="349" y="606"/>
                </a:lnTo>
                <a:lnTo>
                  <a:pt x="349" y="608"/>
                </a:lnTo>
                <a:lnTo>
                  <a:pt x="349" y="608"/>
                </a:lnTo>
                <a:lnTo>
                  <a:pt x="351" y="608"/>
                </a:lnTo>
                <a:lnTo>
                  <a:pt x="351" y="609"/>
                </a:lnTo>
                <a:lnTo>
                  <a:pt x="386" y="628"/>
                </a:lnTo>
                <a:lnTo>
                  <a:pt x="386" y="629"/>
                </a:lnTo>
                <a:lnTo>
                  <a:pt x="386" y="631"/>
                </a:lnTo>
                <a:lnTo>
                  <a:pt x="388" y="631"/>
                </a:lnTo>
                <a:lnTo>
                  <a:pt x="388" y="633"/>
                </a:lnTo>
                <a:lnTo>
                  <a:pt x="388" y="633"/>
                </a:lnTo>
                <a:lnTo>
                  <a:pt x="390" y="635"/>
                </a:lnTo>
                <a:lnTo>
                  <a:pt x="392" y="635"/>
                </a:lnTo>
                <a:lnTo>
                  <a:pt x="394" y="637"/>
                </a:lnTo>
                <a:lnTo>
                  <a:pt x="405" y="638"/>
                </a:lnTo>
                <a:lnTo>
                  <a:pt x="418" y="638"/>
                </a:lnTo>
                <a:lnTo>
                  <a:pt x="431" y="638"/>
                </a:lnTo>
                <a:lnTo>
                  <a:pt x="445" y="635"/>
                </a:lnTo>
                <a:lnTo>
                  <a:pt x="458" y="633"/>
                </a:lnTo>
                <a:lnTo>
                  <a:pt x="471" y="633"/>
                </a:lnTo>
                <a:lnTo>
                  <a:pt x="482" y="635"/>
                </a:lnTo>
                <a:lnTo>
                  <a:pt x="495" y="640"/>
                </a:lnTo>
                <a:lnTo>
                  <a:pt x="516" y="646"/>
                </a:lnTo>
                <a:lnTo>
                  <a:pt x="536" y="653"/>
                </a:lnTo>
                <a:lnTo>
                  <a:pt x="554" y="658"/>
                </a:lnTo>
                <a:lnTo>
                  <a:pt x="573" y="666"/>
                </a:lnTo>
                <a:lnTo>
                  <a:pt x="593" y="671"/>
                </a:lnTo>
                <a:lnTo>
                  <a:pt x="612" y="673"/>
                </a:lnTo>
                <a:lnTo>
                  <a:pt x="632" y="671"/>
                </a:lnTo>
                <a:lnTo>
                  <a:pt x="654" y="666"/>
                </a:lnTo>
                <a:lnTo>
                  <a:pt x="669" y="660"/>
                </a:lnTo>
                <a:lnTo>
                  <a:pt x="683" y="657"/>
                </a:lnTo>
                <a:lnTo>
                  <a:pt x="700" y="655"/>
                </a:lnTo>
                <a:lnTo>
                  <a:pt x="715" y="651"/>
                </a:lnTo>
                <a:lnTo>
                  <a:pt x="731" y="649"/>
                </a:lnTo>
                <a:lnTo>
                  <a:pt x="744" y="644"/>
                </a:lnTo>
                <a:lnTo>
                  <a:pt x="757" y="637"/>
                </a:lnTo>
                <a:lnTo>
                  <a:pt x="768" y="628"/>
                </a:lnTo>
                <a:lnTo>
                  <a:pt x="848" y="606"/>
                </a:lnTo>
                <a:lnTo>
                  <a:pt x="848" y="606"/>
                </a:lnTo>
                <a:lnTo>
                  <a:pt x="846" y="606"/>
                </a:lnTo>
                <a:lnTo>
                  <a:pt x="846" y="606"/>
                </a:lnTo>
                <a:lnTo>
                  <a:pt x="844" y="604"/>
                </a:lnTo>
                <a:lnTo>
                  <a:pt x="844" y="604"/>
                </a:lnTo>
                <a:lnTo>
                  <a:pt x="842" y="602"/>
                </a:lnTo>
                <a:lnTo>
                  <a:pt x="842" y="602"/>
                </a:lnTo>
                <a:lnTo>
                  <a:pt x="842" y="600"/>
                </a:lnTo>
                <a:lnTo>
                  <a:pt x="842" y="598"/>
                </a:lnTo>
                <a:lnTo>
                  <a:pt x="842" y="597"/>
                </a:lnTo>
                <a:lnTo>
                  <a:pt x="844" y="597"/>
                </a:lnTo>
                <a:lnTo>
                  <a:pt x="846" y="595"/>
                </a:lnTo>
                <a:lnTo>
                  <a:pt x="846" y="593"/>
                </a:lnTo>
                <a:lnTo>
                  <a:pt x="848" y="593"/>
                </a:lnTo>
                <a:lnTo>
                  <a:pt x="850" y="591"/>
                </a:lnTo>
                <a:lnTo>
                  <a:pt x="853" y="591"/>
                </a:lnTo>
                <a:lnTo>
                  <a:pt x="881" y="580"/>
                </a:lnTo>
                <a:lnTo>
                  <a:pt x="881" y="580"/>
                </a:lnTo>
                <a:lnTo>
                  <a:pt x="883" y="579"/>
                </a:lnTo>
                <a:lnTo>
                  <a:pt x="883" y="579"/>
                </a:lnTo>
                <a:lnTo>
                  <a:pt x="885" y="577"/>
                </a:lnTo>
                <a:lnTo>
                  <a:pt x="885" y="577"/>
                </a:lnTo>
                <a:lnTo>
                  <a:pt x="887" y="577"/>
                </a:lnTo>
                <a:lnTo>
                  <a:pt x="887" y="575"/>
                </a:lnTo>
                <a:lnTo>
                  <a:pt x="888" y="575"/>
                </a:lnTo>
                <a:lnTo>
                  <a:pt x="892" y="571"/>
                </a:lnTo>
                <a:lnTo>
                  <a:pt x="898" y="568"/>
                </a:lnTo>
                <a:lnTo>
                  <a:pt x="903" y="564"/>
                </a:lnTo>
                <a:lnTo>
                  <a:pt x="909" y="562"/>
                </a:lnTo>
                <a:lnTo>
                  <a:pt x="914" y="559"/>
                </a:lnTo>
                <a:lnTo>
                  <a:pt x="918" y="553"/>
                </a:lnTo>
                <a:lnTo>
                  <a:pt x="922" y="548"/>
                </a:lnTo>
                <a:lnTo>
                  <a:pt x="923" y="540"/>
                </a:lnTo>
                <a:lnTo>
                  <a:pt x="923" y="537"/>
                </a:lnTo>
                <a:lnTo>
                  <a:pt x="923" y="535"/>
                </a:lnTo>
                <a:lnTo>
                  <a:pt x="923" y="533"/>
                </a:lnTo>
                <a:lnTo>
                  <a:pt x="922" y="531"/>
                </a:lnTo>
                <a:lnTo>
                  <a:pt x="922" y="530"/>
                </a:lnTo>
                <a:lnTo>
                  <a:pt x="922" y="528"/>
                </a:lnTo>
                <a:lnTo>
                  <a:pt x="922" y="526"/>
                </a:lnTo>
                <a:lnTo>
                  <a:pt x="922" y="524"/>
                </a:lnTo>
                <a:lnTo>
                  <a:pt x="927" y="524"/>
                </a:lnTo>
                <a:lnTo>
                  <a:pt x="933" y="526"/>
                </a:lnTo>
                <a:lnTo>
                  <a:pt x="938" y="528"/>
                </a:lnTo>
                <a:lnTo>
                  <a:pt x="944" y="530"/>
                </a:lnTo>
                <a:lnTo>
                  <a:pt x="949" y="531"/>
                </a:lnTo>
                <a:lnTo>
                  <a:pt x="955" y="531"/>
                </a:lnTo>
                <a:lnTo>
                  <a:pt x="959" y="531"/>
                </a:lnTo>
                <a:lnTo>
                  <a:pt x="964" y="528"/>
                </a:lnTo>
                <a:lnTo>
                  <a:pt x="966" y="526"/>
                </a:lnTo>
                <a:lnTo>
                  <a:pt x="968" y="526"/>
                </a:lnTo>
                <a:lnTo>
                  <a:pt x="970" y="524"/>
                </a:lnTo>
                <a:lnTo>
                  <a:pt x="971" y="524"/>
                </a:lnTo>
                <a:lnTo>
                  <a:pt x="971" y="522"/>
                </a:lnTo>
                <a:lnTo>
                  <a:pt x="973" y="522"/>
                </a:lnTo>
                <a:lnTo>
                  <a:pt x="973" y="520"/>
                </a:lnTo>
                <a:lnTo>
                  <a:pt x="975" y="520"/>
                </a:lnTo>
                <a:lnTo>
                  <a:pt x="975" y="520"/>
                </a:lnTo>
                <a:lnTo>
                  <a:pt x="977" y="520"/>
                </a:lnTo>
                <a:lnTo>
                  <a:pt x="977" y="520"/>
                </a:lnTo>
                <a:lnTo>
                  <a:pt x="977" y="519"/>
                </a:lnTo>
                <a:lnTo>
                  <a:pt x="979" y="519"/>
                </a:lnTo>
                <a:lnTo>
                  <a:pt x="979" y="519"/>
                </a:lnTo>
                <a:lnTo>
                  <a:pt x="979" y="519"/>
                </a:lnTo>
                <a:lnTo>
                  <a:pt x="979" y="517"/>
                </a:lnTo>
                <a:lnTo>
                  <a:pt x="983" y="511"/>
                </a:lnTo>
                <a:lnTo>
                  <a:pt x="984" y="504"/>
                </a:lnTo>
                <a:lnTo>
                  <a:pt x="988" y="497"/>
                </a:lnTo>
                <a:lnTo>
                  <a:pt x="990" y="491"/>
                </a:lnTo>
                <a:lnTo>
                  <a:pt x="992" y="484"/>
                </a:lnTo>
                <a:lnTo>
                  <a:pt x="994" y="477"/>
                </a:lnTo>
                <a:lnTo>
                  <a:pt x="994" y="471"/>
                </a:lnTo>
                <a:lnTo>
                  <a:pt x="992" y="464"/>
                </a:lnTo>
                <a:lnTo>
                  <a:pt x="988" y="461"/>
                </a:lnTo>
                <a:lnTo>
                  <a:pt x="984" y="455"/>
                </a:lnTo>
                <a:lnTo>
                  <a:pt x="981" y="451"/>
                </a:lnTo>
                <a:lnTo>
                  <a:pt x="977" y="448"/>
                </a:lnTo>
                <a:lnTo>
                  <a:pt x="973" y="444"/>
                </a:lnTo>
                <a:lnTo>
                  <a:pt x="970" y="441"/>
                </a:lnTo>
                <a:lnTo>
                  <a:pt x="968" y="435"/>
                </a:lnTo>
                <a:lnTo>
                  <a:pt x="966" y="430"/>
                </a:lnTo>
                <a:lnTo>
                  <a:pt x="966" y="430"/>
                </a:lnTo>
                <a:lnTo>
                  <a:pt x="968" y="430"/>
                </a:lnTo>
                <a:lnTo>
                  <a:pt x="968" y="428"/>
                </a:lnTo>
                <a:lnTo>
                  <a:pt x="968" y="428"/>
                </a:lnTo>
                <a:lnTo>
                  <a:pt x="970" y="426"/>
                </a:lnTo>
                <a:lnTo>
                  <a:pt x="970" y="426"/>
                </a:lnTo>
                <a:lnTo>
                  <a:pt x="970" y="424"/>
                </a:lnTo>
                <a:lnTo>
                  <a:pt x="971" y="424"/>
                </a:lnTo>
                <a:lnTo>
                  <a:pt x="970" y="424"/>
                </a:lnTo>
                <a:lnTo>
                  <a:pt x="970" y="424"/>
                </a:lnTo>
                <a:lnTo>
                  <a:pt x="970" y="424"/>
                </a:lnTo>
                <a:lnTo>
                  <a:pt x="970" y="424"/>
                </a:lnTo>
                <a:lnTo>
                  <a:pt x="968" y="424"/>
                </a:lnTo>
                <a:lnTo>
                  <a:pt x="968" y="422"/>
                </a:lnTo>
                <a:lnTo>
                  <a:pt x="968" y="422"/>
                </a:lnTo>
                <a:lnTo>
                  <a:pt x="966" y="422"/>
                </a:lnTo>
                <a:lnTo>
                  <a:pt x="973" y="410"/>
                </a:lnTo>
                <a:lnTo>
                  <a:pt x="977" y="395"/>
                </a:lnTo>
                <a:lnTo>
                  <a:pt x="983" y="381"/>
                </a:lnTo>
                <a:lnTo>
                  <a:pt x="988" y="364"/>
                </a:lnTo>
                <a:lnTo>
                  <a:pt x="994" y="350"/>
                </a:lnTo>
                <a:lnTo>
                  <a:pt x="1001" y="335"/>
                </a:lnTo>
                <a:lnTo>
                  <a:pt x="1008" y="323"/>
                </a:lnTo>
                <a:lnTo>
                  <a:pt x="1019" y="312"/>
                </a:lnTo>
                <a:lnTo>
                  <a:pt x="1047" y="299"/>
                </a:lnTo>
                <a:lnTo>
                  <a:pt x="1073" y="286"/>
                </a:lnTo>
                <a:lnTo>
                  <a:pt x="1099" y="272"/>
                </a:lnTo>
                <a:lnTo>
                  <a:pt x="1123" y="257"/>
                </a:lnTo>
                <a:lnTo>
                  <a:pt x="1147" y="241"/>
                </a:lnTo>
                <a:lnTo>
                  <a:pt x="1171" y="225"/>
                </a:lnTo>
                <a:lnTo>
                  <a:pt x="1195" y="208"/>
                </a:lnTo>
                <a:lnTo>
                  <a:pt x="1219" y="190"/>
                </a:lnTo>
                <a:lnTo>
                  <a:pt x="1228" y="183"/>
                </a:lnTo>
                <a:lnTo>
                  <a:pt x="1235" y="177"/>
                </a:lnTo>
                <a:lnTo>
                  <a:pt x="1243" y="172"/>
                </a:lnTo>
                <a:lnTo>
                  <a:pt x="1248" y="167"/>
                </a:lnTo>
                <a:lnTo>
                  <a:pt x="1254" y="161"/>
                </a:lnTo>
                <a:lnTo>
                  <a:pt x="1259" y="157"/>
                </a:lnTo>
                <a:lnTo>
                  <a:pt x="1265" y="150"/>
                </a:lnTo>
                <a:lnTo>
                  <a:pt x="1274" y="145"/>
                </a:lnTo>
                <a:lnTo>
                  <a:pt x="12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10680" y="2266920"/>
            <a:ext cx="231840" cy="239760"/>
          </a:xfrm>
          <a:custGeom>
            <a:avLst/>
            <a:gdLst/>
            <a:ahLst/>
            <a:rect l="l" t="t" r="r" b="b"/>
            <a:pathLst>
              <a:path w="146" h="151">
                <a:moveTo>
                  <a:pt x="144" y="2"/>
                </a:moveTo>
                <a:lnTo>
                  <a:pt x="0" y="129"/>
                </a:lnTo>
                <a:lnTo>
                  <a:pt x="6" y="147"/>
                </a:lnTo>
                <a:lnTo>
                  <a:pt x="6" y="149"/>
                </a:lnTo>
                <a:lnTo>
                  <a:pt x="6" y="149"/>
                </a:lnTo>
                <a:lnTo>
                  <a:pt x="6" y="149"/>
                </a:lnTo>
                <a:lnTo>
                  <a:pt x="6" y="149"/>
                </a:lnTo>
                <a:lnTo>
                  <a:pt x="6" y="151"/>
                </a:lnTo>
                <a:lnTo>
                  <a:pt x="8" y="151"/>
                </a:lnTo>
                <a:lnTo>
                  <a:pt x="8" y="151"/>
                </a:lnTo>
                <a:lnTo>
                  <a:pt x="10" y="151"/>
                </a:lnTo>
                <a:lnTo>
                  <a:pt x="26" y="133"/>
                </a:lnTo>
                <a:lnTo>
                  <a:pt x="43" y="115"/>
                </a:lnTo>
                <a:lnTo>
                  <a:pt x="61" y="96"/>
                </a:lnTo>
                <a:lnTo>
                  <a:pt x="82" y="78"/>
                </a:lnTo>
                <a:lnTo>
                  <a:pt x="100" y="62"/>
                </a:lnTo>
                <a:lnTo>
                  <a:pt x="117" y="42"/>
                </a:lnTo>
                <a:lnTo>
                  <a:pt x="133" y="22"/>
                </a:lnTo>
                <a:lnTo>
                  <a:pt x="146" y="0"/>
                </a:lnTo>
                <a:lnTo>
                  <a:pt x="146" y="0"/>
                </a:lnTo>
                <a:lnTo>
                  <a:pt x="146" y="0"/>
                </a:lnTo>
                <a:lnTo>
                  <a:pt x="146" y="2"/>
                </a:lnTo>
                <a:lnTo>
                  <a:pt x="144" y="2"/>
                </a:lnTo>
                <a:lnTo>
                  <a:pt x="144" y="2"/>
                </a:lnTo>
                <a:lnTo>
                  <a:pt x="144" y="2"/>
                </a:lnTo>
                <a:lnTo>
                  <a:pt x="144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16880" y="2403360"/>
            <a:ext cx="104760" cy="106560"/>
          </a:xfrm>
          <a:custGeom>
            <a:avLst/>
            <a:gdLst/>
            <a:ahLst/>
            <a:rect l="l" t="t" r="r" b="b"/>
            <a:pathLst>
              <a:path w="66" h="67">
                <a:moveTo>
                  <a:pt x="63" y="1"/>
                </a:moveTo>
                <a:lnTo>
                  <a:pt x="9" y="45"/>
                </a:lnTo>
                <a:lnTo>
                  <a:pt x="7" y="45"/>
                </a:lnTo>
                <a:lnTo>
                  <a:pt x="7" y="45"/>
                </a:lnTo>
                <a:lnTo>
                  <a:pt x="5" y="45"/>
                </a:lnTo>
                <a:lnTo>
                  <a:pt x="5" y="47"/>
                </a:lnTo>
                <a:lnTo>
                  <a:pt x="4" y="47"/>
                </a:lnTo>
                <a:lnTo>
                  <a:pt x="4" y="47"/>
                </a:lnTo>
                <a:lnTo>
                  <a:pt x="2" y="47"/>
                </a:lnTo>
                <a:lnTo>
                  <a:pt x="2" y="49"/>
                </a:lnTo>
                <a:lnTo>
                  <a:pt x="2" y="49"/>
                </a:lnTo>
                <a:lnTo>
                  <a:pt x="2" y="49"/>
                </a:lnTo>
                <a:lnTo>
                  <a:pt x="2" y="50"/>
                </a:lnTo>
                <a:lnTo>
                  <a:pt x="2" y="50"/>
                </a:lnTo>
                <a:lnTo>
                  <a:pt x="2" y="52"/>
                </a:lnTo>
                <a:lnTo>
                  <a:pt x="0" y="52"/>
                </a:lnTo>
                <a:lnTo>
                  <a:pt x="0" y="54"/>
                </a:lnTo>
                <a:lnTo>
                  <a:pt x="0" y="54"/>
                </a:lnTo>
                <a:lnTo>
                  <a:pt x="9" y="67"/>
                </a:lnTo>
                <a:lnTo>
                  <a:pt x="11" y="67"/>
                </a:lnTo>
                <a:lnTo>
                  <a:pt x="13" y="65"/>
                </a:lnTo>
                <a:lnTo>
                  <a:pt x="13" y="65"/>
                </a:lnTo>
                <a:lnTo>
                  <a:pt x="15" y="63"/>
                </a:lnTo>
                <a:lnTo>
                  <a:pt x="17" y="61"/>
                </a:lnTo>
                <a:lnTo>
                  <a:pt x="17" y="61"/>
                </a:lnTo>
                <a:lnTo>
                  <a:pt x="18" y="59"/>
                </a:lnTo>
                <a:lnTo>
                  <a:pt x="18" y="56"/>
                </a:lnTo>
                <a:lnTo>
                  <a:pt x="66" y="7"/>
                </a:lnTo>
                <a:lnTo>
                  <a:pt x="66" y="5"/>
                </a:lnTo>
                <a:lnTo>
                  <a:pt x="66" y="5"/>
                </a:lnTo>
                <a:lnTo>
                  <a:pt x="66" y="5"/>
                </a:lnTo>
                <a:lnTo>
                  <a:pt x="66" y="3"/>
                </a:lnTo>
                <a:lnTo>
                  <a:pt x="66" y="3"/>
                </a:lnTo>
                <a:lnTo>
                  <a:pt x="66" y="1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5" y="0"/>
                </a:lnTo>
                <a:lnTo>
                  <a:pt x="65" y="0"/>
                </a:lnTo>
                <a:lnTo>
                  <a:pt x="65" y="1"/>
                </a:lnTo>
                <a:lnTo>
                  <a:pt x="65" y="1"/>
                </a:lnTo>
                <a:lnTo>
                  <a:pt x="63" y="1"/>
                </a:lnTo>
                <a:lnTo>
                  <a:pt x="6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35600" y="2457360"/>
            <a:ext cx="828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0" y="11"/>
                </a:lnTo>
                <a:lnTo>
                  <a:pt x="0" y="11"/>
                </a:lnTo>
                <a:lnTo>
                  <a:pt x="1" y="9"/>
                </a:lnTo>
                <a:lnTo>
                  <a:pt x="1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1280" y="263052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0" y="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45560" y="2840040"/>
            <a:ext cx="61920" cy="84240"/>
          </a:xfrm>
          <a:custGeom>
            <a:avLst/>
            <a:gdLst/>
            <a:ahLst/>
            <a:rect l="l" t="t" r="r" b="b"/>
            <a:pathLst>
              <a:path w="39" h="53">
                <a:moveTo>
                  <a:pt x="13" y="0"/>
                </a:move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0" y="6"/>
                </a:lnTo>
                <a:lnTo>
                  <a:pt x="0" y="8"/>
                </a:lnTo>
                <a:lnTo>
                  <a:pt x="13" y="40"/>
                </a:lnTo>
                <a:lnTo>
                  <a:pt x="13" y="42"/>
                </a:lnTo>
                <a:lnTo>
                  <a:pt x="15" y="44"/>
                </a:lnTo>
                <a:lnTo>
                  <a:pt x="18" y="46"/>
                </a:lnTo>
                <a:lnTo>
                  <a:pt x="20" y="48"/>
                </a:lnTo>
                <a:lnTo>
                  <a:pt x="22" y="48"/>
                </a:lnTo>
                <a:lnTo>
                  <a:pt x="26" y="49"/>
                </a:lnTo>
                <a:lnTo>
                  <a:pt x="28" y="51"/>
                </a:lnTo>
                <a:lnTo>
                  <a:pt x="31" y="53"/>
                </a:lnTo>
                <a:lnTo>
                  <a:pt x="31" y="53"/>
                </a:lnTo>
                <a:lnTo>
                  <a:pt x="33" y="51"/>
                </a:lnTo>
                <a:lnTo>
                  <a:pt x="33" y="51"/>
                </a:lnTo>
                <a:lnTo>
                  <a:pt x="35" y="51"/>
                </a:lnTo>
                <a:lnTo>
                  <a:pt x="35" y="49"/>
                </a:lnTo>
                <a:lnTo>
                  <a:pt x="37" y="49"/>
                </a:lnTo>
                <a:lnTo>
                  <a:pt x="39" y="48"/>
                </a:lnTo>
                <a:lnTo>
                  <a:pt x="39" y="48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43880" y="2840040"/>
            <a:ext cx="260280" cy="193680"/>
          </a:xfrm>
          <a:custGeom>
            <a:avLst/>
            <a:gdLst/>
            <a:ahLst/>
            <a:rect l="l" t="t" r="r" b="b"/>
            <a:pathLst>
              <a:path w="164" h="122">
                <a:moveTo>
                  <a:pt x="7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2" y="19"/>
                </a:lnTo>
                <a:lnTo>
                  <a:pt x="42" y="29"/>
                </a:lnTo>
                <a:lnTo>
                  <a:pt x="61" y="40"/>
                </a:lnTo>
                <a:lnTo>
                  <a:pt x="79" y="53"/>
                </a:lnTo>
                <a:lnTo>
                  <a:pt x="96" y="68"/>
                </a:lnTo>
                <a:lnTo>
                  <a:pt x="114" y="82"/>
                </a:lnTo>
                <a:lnTo>
                  <a:pt x="131" y="97"/>
                </a:lnTo>
                <a:lnTo>
                  <a:pt x="147" y="115"/>
                </a:lnTo>
                <a:lnTo>
                  <a:pt x="147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51" y="113"/>
                </a:lnTo>
                <a:lnTo>
                  <a:pt x="151" y="111"/>
                </a:lnTo>
                <a:lnTo>
                  <a:pt x="153" y="111"/>
                </a:lnTo>
                <a:lnTo>
                  <a:pt x="155" y="113"/>
                </a:lnTo>
                <a:lnTo>
                  <a:pt x="157" y="113"/>
                </a:lnTo>
                <a:lnTo>
                  <a:pt x="159" y="115"/>
                </a:lnTo>
                <a:lnTo>
                  <a:pt x="160" y="117"/>
                </a:lnTo>
                <a:lnTo>
                  <a:pt x="160" y="118"/>
                </a:lnTo>
                <a:lnTo>
                  <a:pt x="162" y="120"/>
                </a:lnTo>
                <a:lnTo>
                  <a:pt x="164" y="122"/>
                </a:lnTo>
                <a:lnTo>
                  <a:pt x="157" y="97"/>
                </a:lnTo>
                <a:lnTo>
                  <a:pt x="157" y="95"/>
                </a:lnTo>
                <a:lnTo>
                  <a:pt x="157" y="95"/>
                </a:lnTo>
                <a:lnTo>
                  <a:pt x="157" y="93"/>
                </a:lnTo>
                <a:lnTo>
                  <a:pt x="157" y="93"/>
                </a:lnTo>
                <a:lnTo>
                  <a:pt x="157" y="91"/>
                </a:lnTo>
                <a:lnTo>
                  <a:pt x="157" y="91"/>
                </a:lnTo>
                <a:lnTo>
                  <a:pt x="157" y="89"/>
                </a:lnTo>
                <a:lnTo>
                  <a:pt x="157" y="88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99120" y="28782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0" y="0"/>
                </a:moveTo>
                <a:lnTo>
                  <a:pt x="5" y="7"/>
                </a:lnTo>
                <a:lnTo>
                  <a:pt x="3" y="11"/>
                </a:lnTo>
                <a:lnTo>
                  <a:pt x="2" y="15"/>
                </a:lnTo>
                <a:lnTo>
                  <a:pt x="2" y="18"/>
                </a:lnTo>
                <a:lnTo>
                  <a:pt x="0" y="20"/>
                </a:lnTo>
                <a:lnTo>
                  <a:pt x="0" y="25"/>
                </a:lnTo>
                <a:lnTo>
                  <a:pt x="2" y="29"/>
                </a:lnTo>
                <a:lnTo>
                  <a:pt x="2" y="33"/>
                </a:lnTo>
                <a:lnTo>
                  <a:pt x="3" y="36"/>
                </a:lnTo>
                <a:lnTo>
                  <a:pt x="5" y="38"/>
                </a:lnTo>
                <a:lnTo>
                  <a:pt x="9" y="40"/>
                </a:lnTo>
                <a:lnTo>
                  <a:pt x="11" y="42"/>
                </a:lnTo>
                <a:lnTo>
                  <a:pt x="13" y="44"/>
                </a:lnTo>
                <a:lnTo>
                  <a:pt x="13" y="45"/>
                </a:lnTo>
                <a:lnTo>
                  <a:pt x="14" y="47"/>
                </a:lnTo>
                <a:lnTo>
                  <a:pt x="16" y="49"/>
                </a:lnTo>
                <a:lnTo>
                  <a:pt x="18" y="49"/>
                </a:lnTo>
                <a:lnTo>
                  <a:pt x="18" y="49"/>
                </a:lnTo>
                <a:lnTo>
                  <a:pt x="20" y="47"/>
                </a:lnTo>
                <a:lnTo>
                  <a:pt x="20" y="47"/>
                </a:lnTo>
                <a:lnTo>
                  <a:pt x="20" y="45"/>
                </a:lnTo>
                <a:lnTo>
                  <a:pt x="20" y="45"/>
                </a:lnTo>
                <a:lnTo>
                  <a:pt x="22" y="44"/>
                </a:lnTo>
                <a:lnTo>
                  <a:pt x="22" y="44"/>
                </a:lnTo>
                <a:lnTo>
                  <a:pt x="22" y="42"/>
                </a:lnTo>
                <a:lnTo>
                  <a:pt x="24" y="42"/>
                </a:lnTo>
                <a:lnTo>
                  <a:pt x="24" y="42"/>
                </a:lnTo>
                <a:lnTo>
                  <a:pt x="24" y="40"/>
                </a:lnTo>
                <a:lnTo>
                  <a:pt x="26" y="40"/>
                </a:lnTo>
                <a:lnTo>
                  <a:pt x="26" y="40"/>
                </a:lnTo>
                <a:lnTo>
                  <a:pt x="27" y="40"/>
                </a:lnTo>
                <a:lnTo>
                  <a:pt x="27" y="40"/>
                </a:lnTo>
                <a:lnTo>
                  <a:pt x="29" y="38"/>
                </a:lnTo>
                <a:lnTo>
                  <a:pt x="31" y="40"/>
                </a:lnTo>
                <a:lnTo>
                  <a:pt x="33" y="40"/>
                </a:lnTo>
                <a:lnTo>
                  <a:pt x="35" y="40"/>
                </a:lnTo>
                <a:lnTo>
                  <a:pt x="37" y="42"/>
                </a:lnTo>
                <a:lnTo>
                  <a:pt x="38" y="44"/>
                </a:lnTo>
                <a:lnTo>
                  <a:pt x="40" y="45"/>
                </a:lnTo>
                <a:lnTo>
                  <a:pt x="42" y="47"/>
                </a:lnTo>
                <a:lnTo>
                  <a:pt x="44" y="49"/>
                </a:lnTo>
                <a:lnTo>
                  <a:pt x="46" y="49"/>
                </a:lnTo>
                <a:lnTo>
                  <a:pt x="48" y="47"/>
                </a:lnTo>
                <a:lnTo>
                  <a:pt x="50" y="47"/>
                </a:lnTo>
                <a:lnTo>
                  <a:pt x="51" y="45"/>
                </a:lnTo>
                <a:lnTo>
                  <a:pt x="53" y="44"/>
                </a:lnTo>
                <a:lnTo>
                  <a:pt x="55" y="42"/>
                </a:lnTo>
                <a:lnTo>
                  <a:pt x="55" y="38"/>
                </a:lnTo>
                <a:lnTo>
                  <a:pt x="57" y="36"/>
                </a:lnTo>
                <a:lnTo>
                  <a:pt x="37" y="5"/>
                </a:lnTo>
                <a:lnTo>
                  <a:pt x="37" y="5"/>
                </a:lnTo>
                <a:lnTo>
                  <a:pt x="37" y="5"/>
                </a:lnTo>
                <a:lnTo>
                  <a:pt x="35" y="5"/>
                </a:lnTo>
                <a:lnTo>
                  <a:pt x="35" y="5"/>
                </a:lnTo>
                <a:lnTo>
                  <a:pt x="35" y="5"/>
                </a:lnTo>
                <a:lnTo>
                  <a:pt x="33" y="5"/>
                </a:lnTo>
                <a:lnTo>
                  <a:pt x="33" y="5"/>
                </a:lnTo>
                <a:lnTo>
                  <a:pt x="31" y="5"/>
                </a:lnTo>
                <a:lnTo>
                  <a:pt x="29" y="5"/>
                </a:lnTo>
                <a:lnTo>
                  <a:pt x="29" y="4"/>
                </a:lnTo>
                <a:lnTo>
                  <a:pt x="27" y="4"/>
                </a:lnTo>
                <a:lnTo>
                  <a:pt x="26" y="2"/>
                </a:lnTo>
                <a:lnTo>
                  <a:pt x="26" y="2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74040" y="2948040"/>
            <a:ext cx="230040" cy="183960"/>
          </a:xfrm>
          <a:custGeom>
            <a:avLst/>
            <a:gdLst/>
            <a:ahLst/>
            <a:rect l="l" t="t" r="r" b="b"/>
            <a:pathLst>
              <a:path w="145" h="116">
                <a:moveTo>
                  <a:pt x="7" y="0"/>
                </a:move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14" y="12"/>
                </a:lnTo>
                <a:lnTo>
                  <a:pt x="29" y="23"/>
                </a:lnTo>
                <a:lnTo>
                  <a:pt x="44" y="32"/>
                </a:lnTo>
                <a:lnTo>
                  <a:pt x="60" y="43"/>
                </a:lnTo>
                <a:lnTo>
                  <a:pt x="75" y="56"/>
                </a:lnTo>
                <a:lnTo>
                  <a:pt x="90" y="69"/>
                </a:lnTo>
                <a:lnTo>
                  <a:pt x="103" y="83"/>
                </a:lnTo>
                <a:lnTo>
                  <a:pt x="114" y="98"/>
                </a:lnTo>
                <a:lnTo>
                  <a:pt x="118" y="101"/>
                </a:lnTo>
                <a:lnTo>
                  <a:pt x="120" y="103"/>
                </a:lnTo>
                <a:lnTo>
                  <a:pt x="123" y="105"/>
                </a:lnTo>
                <a:lnTo>
                  <a:pt x="125" y="108"/>
                </a:lnTo>
                <a:lnTo>
                  <a:pt x="127" y="110"/>
                </a:lnTo>
                <a:lnTo>
                  <a:pt x="131" y="112"/>
                </a:lnTo>
                <a:lnTo>
                  <a:pt x="132" y="114"/>
                </a:lnTo>
                <a:lnTo>
                  <a:pt x="136" y="116"/>
                </a:lnTo>
                <a:lnTo>
                  <a:pt x="136" y="116"/>
                </a:lnTo>
                <a:lnTo>
                  <a:pt x="138" y="116"/>
                </a:lnTo>
                <a:lnTo>
                  <a:pt x="138" y="116"/>
                </a:lnTo>
                <a:lnTo>
                  <a:pt x="140" y="116"/>
                </a:lnTo>
                <a:lnTo>
                  <a:pt x="142" y="116"/>
                </a:lnTo>
                <a:lnTo>
                  <a:pt x="142" y="116"/>
                </a:lnTo>
                <a:lnTo>
                  <a:pt x="144" y="116"/>
                </a:lnTo>
                <a:lnTo>
                  <a:pt x="145" y="116"/>
                </a:lnTo>
                <a:lnTo>
                  <a:pt x="140" y="101"/>
                </a:lnTo>
                <a:lnTo>
                  <a:pt x="131" y="88"/>
                </a:lnTo>
                <a:lnTo>
                  <a:pt x="120" y="76"/>
                </a:lnTo>
                <a:lnTo>
                  <a:pt x="105" y="63"/>
                </a:lnTo>
                <a:lnTo>
                  <a:pt x="92" y="52"/>
                </a:lnTo>
                <a:lnTo>
                  <a:pt x="77" y="43"/>
                </a:lnTo>
                <a:lnTo>
                  <a:pt x="62" y="34"/>
                </a:lnTo>
                <a:lnTo>
                  <a:pt x="51" y="25"/>
                </a:lnTo>
                <a:lnTo>
                  <a:pt x="44" y="21"/>
                </a:lnTo>
                <a:lnTo>
                  <a:pt x="38" y="18"/>
                </a:lnTo>
                <a:lnTo>
                  <a:pt x="33" y="16"/>
                </a:lnTo>
                <a:lnTo>
                  <a:pt x="29" y="12"/>
                </a:lnTo>
                <a:lnTo>
                  <a:pt x="24" y="9"/>
                </a:lnTo>
                <a:lnTo>
                  <a:pt x="18" y="5"/>
                </a:lnTo>
                <a:lnTo>
                  <a:pt x="12" y="3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73800" y="2979720"/>
            <a:ext cx="200160" cy="155520"/>
          </a:xfrm>
          <a:custGeom>
            <a:avLst/>
            <a:gdLst/>
            <a:ahLst/>
            <a:rect l="l" t="t" r="r" b="b"/>
            <a:pathLst>
              <a:path w="126" h="98">
                <a:moveTo>
                  <a:pt x="102" y="0"/>
                </a:moveTo>
                <a:lnTo>
                  <a:pt x="91" y="1"/>
                </a:lnTo>
                <a:lnTo>
                  <a:pt x="80" y="5"/>
                </a:lnTo>
                <a:lnTo>
                  <a:pt x="70" y="10"/>
                </a:lnTo>
                <a:lnTo>
                  <a:pt x="61" y="18"/>
                </a:lnTo>
                <a:lnTo>
                  <a:pt x="52" y="25"/>
                </a:lnTo>
                <a:lnTo>
                  <a:pt x="43" y="32"/>
                </a:lnTo>
                <a:lnTo>
                  <a:pt x="33" y="41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22" y="50"/>
                </a:lnTo>
                <a:lnTo>
                  <a:pt x="22" y="50"/>
                </a:lnTo>
                <a:lnTo>
                  <a:pt x="22" y="52"/>
                </a:lnTo>
                <a:lnTo>
                  <a:pt x="22" y="54"/>
                </a:lnTo>
                <a:lnTo>
                  <a:pt x="21" y="54"/>
                </a:lnTo>
                <a:lnTo>
                  <a:pt x="21" y="56"/>
                </a:lnTo>
                <a:lnTo>
                  <a:pt x="19" y="58"/>
                </a:lnTo>
                <a:lnTo>
                  <a:pt x="19" y="58"/>
                </a:lnTo>
                <a:lnTo>
                  <a:pt x="17" y="59"/>
                </a:lnTo>
                <a:lnTo>
                  <a:pt x="15" y="59"/>
                </a:lnTo>
                <a:lnTo>
                  <a:pt x="15" y="59"/>
                </a:lnTo>
                <a:lnTo>
                  <a:pt x="13" y="59"/>
                </a:lnTo>
                <a:lnTo>
                  <a:pt x="11" y="59"/>
                </a:lnTo>
                <a:lnTo>
                  <a:pt x="11" y="61"/>
                </a:lnTo>
                <a:lnTo>
                  <a:pt x="0" y="74"/>
                </a:lnTo>
                <a:lnTo>
                  <a:pt x="0" y="74"/>
                </a:lnTo>
                <a:lnTo>
                  <a:pt x="0" y="74"/>
                </a:lnTo>
                <a:lnTo>
                  <a:pt x="0" y="76"/>
                </a:lnTo>
                <a:lnTo>
                  <a:pt x="0" y="76"/>
                </a:lnTo>
                <a:lnTo>
                  <a:pt x="0" y="78"/>
                </a:lnTo>
                <a:lnTo>
                  <a:pt x="0" y="78"/>
                </a:lnTo>
                <a:lnTo>
                  <a:pt x="0" y="79"/>
                </a:lnTo>
                <a:lnTo>
                  <a:pt x="2" y="79"/>
                </a:lnTo>
                <a:lnTo>
                  <a:pt x="15" y="94"/>
                </a:lnTo>
                <a:lnTo>
                  <a:pt x="24" y="98"/>
                </a:lnTo>
                <a:lnTo>
                  <a:pt x="32" y="98"/>
                </a:lnTo>
                <a:lnTo>
                  <a:pt x="41" y="98"/>
                </a:lnTo>
                <a:lnTo>
                  <a:pt x="48" y="96"/>
                </a:lnTo>
                <a:lnTo>
                  <a:pt x="56" y="94"/>
                </a:lnTo>
                <a:lnTo>
                  <a:pt x="63" y="88"/>
                </a:lnTo>
                <a:lnTo>
                  <a:pt x="69" y="85"/>
                </a:lnTo>
                <a:lnTo>
                  <a:pt x="74" y="79"/>
                </a:lnTo>
                <a:lnTo>
                  <a:pt x="74" y="79"/>
                </a:lnTo>
                <a:lnTo>
                  <a:pt x="74" y="78"/>
                </a:lnTo>
                <a:lnTo>
                  <a:pt x="74" y="78"/>
                </a:lnTo>
                <a:lnTo>
                  <a:pt x="74" y="76"/>
                </a:lnTo>
                <a:lnTo>
                  <a:pt x="72" y="76"/>
                </a:lnTo>
                <a:lnTo>
                  <a:pt x="72" y="76"/>
                </a:lnTo>
                <a:lnTo>
                  <a:pt x="70" y="76"/>
                </a:lnTo>
                <a:lnTo>
                  <a:pt x="70" y="76"/>
                </a:lnTo>
                <a:lnTo>
                  <a:pt x="59" y="56"/>
                </a:lnTo>
                <a:lnTo>
                  <a:pt x="59" y="56"/>
                </a:lnTo>
                <a:lnTo>
                  <a:pt x="59" y="54"/>
                </a:lnTo>
                <a:lnTo>
                  <a:pt x="59" y="54"/>
                </a:lnTo>
                <a:lnTo>
                  <a:pt x="59" y="52"/>
                </a:lnTo>
                <a:lnTo>
                  <a:pt x="59" y="50"/>
                </a:lnTo>
                <a:lnTo>
                  <a:pt x="61" y="50"/>
                </a:lnTo>
                <a:lnTo>
                  <a:pt x="61" y="49"/>
                </a:lnTo>
                <a:lnTo>
                  <a:pt x="63" y="49"/>
                </a:lnTo>
                <a:lnTo>
                  <a:pt x="63" y="47"/>
                </a:lnTo>
                <a:lnTo>
                  <a:pt x="65" y="47"/>
                </a:lnTo>
                <a:lnTo>
                  <a:pt x="67" y="47"/>
                </a:lnTo>
                <a:lnTo>
                  <a:pt x="69" y="45"/>
                </a:lnTo>
                <a:lnTo>
                  <a:pt x="70" y="45"/>
                </a:lnTo>
                <a:lnTo>
                  <a:pt x="72" y="45"/>
                </a:lnTo>
                <a:lnTo>
                  <a:pt x="74" y="45"/>
                </a:lnTo>
                <a:lnTo>
                  <a:pt x="76" y="45"/>
                </a:lnTo>
                <a:lnTo>
                  <a:pt x="76" y="47"/>
                </a:lnTo>
                <a:lnTo>
                  <a:pt x="78" y="47"/>
                </a:lnTo>
                <a:lnTo>
                  <a:pt x="78" y="47"/>
                </a:lnTo>
                <a:lnTo>
                  <a:pt x="78" y="49"/>
                </a:lnTo>
                <a:lnTo>
                  <a:pt x="78" y="49"/>
                </a:lnTo>
                <a:lnTo>
                  <a:pt x="80" y="50"/>
                </a:lnTo>
                <a:lnTo>
                  <a:pt x="80" y="50"/>
                </a:lnTo>
                <a:lnTo>
                  <a:pt x="81" y="50"/>
                </a:lnTo>
                <a:lnTo>
                  <a:pt x="83" y="50"/>
                </a:lnTo>
                <a:lnTo>
                  <a:pt x="83" y="50"/>
                </a:lnTo>
                <a:lnTo>
                  <a:pt x="85" y="50"/>
                </a:lnTo>
                <a:lnTo>
                  <a:pt x="85" y="50"/>
                </a:lnTo>
                <a:lnTo>
                  <a:pt x="87" y="50"/>
                </a:lnTo>
                <a:lnTo>
                  <a:pt x="87" y="50"/>
                </a:lnTo>
                <a:lnTo>
                  <a:pt x="89" y="50"/>
                </a:lnTo>
                <a:lnTo>
                  <a:pt x="91" y="50"/>
                </a:lnTo>
                <a:lnTo>
                  <a:pt x="93" y="50"/>
                </a:lnTo>
                <a:lnTo>
                  <a:pt x="93" y="50"/>
                </a:lnTo>
                <a:lnTo>
                  <a:pt x="94" y="49"/>
                </a:lnTo>
                <a:lnTo>
                  <a:pt x="94" y="47"/>
                </a:lnTo>
                <a:lnTo>
                  <a:pt x="96" y="45"/>
                </a:lnTo>
                <a:lnTo>
                  <a:pt x="96" y="43"/>
                </a:lnTo>
                <a:lnTo>
                  <a:pt x="98" y="41"/>
                </a:lnTo>
                <a:lnTo>
                  <a:pt x="98" y="39"/>
                </a:lnTo>
                <a:lnTo>
                  <a:pt x="126" y="18"/>
                </a:lnTo>
                <a:lnTo>
                  <a:pt x="126" y="16"/>
                </a:lnTo>
                <a:lnTo>
                  <a:pt x="124" y="16"/>
                </a:lnTo>
                <a:lnTo>
                  <a:pt x="124" y="14"/>
                </a:lnTo>
                <a:lnTo>
                  <a:pt x="124" y="14"/>
                </a:lnTo>
                <a:lnTo>
                  <a:pt x="124" y="12"/>
                </a:lnTo>
                <a:lnTo>
                  <a:pt x="124" y="10"/>
                </a:lnTo>
                <a:lnTo>
                  <a:pt x="124" y="10"/>
                </a:lnTo>
                <a:lnTo>
                  <a:pt x="124" y="9"/>
                </a:lnTo>
                <a:lnTo>
                  <a:pt x="122" y="9"/>
                </a:lnTo>
                <a:lnTo>
                  <a:pt x="122" y="9"/>
                </a:lnTo>
                <a:lnTo>
                  <a:pt x="122" y="7"/>
                </a:lnTo>
                <a:lnTo>
                  <a:pt x="122" y="7"/>
                </a:lnTo>
                <a:lnTo>
                  <a:pt x="120" y="7"/>
                </a:lnTo>
                <a:lnTo>
                  <a:pt x="120" y="7"/>
                </a:lnTo>
                <a:lnTo>
                  <a:pt x="120" y="5"/>
                </a:lnTo>
                <a:lnTo>
                  <a:pt x="118" y="5"/>
                </a:lnTo>
                <a:lnTo>
                  <a:pt x="102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12040" y="3065400"/>
            <a:ext cx="181080" cy="127080"/>
          </a:xfrm>
          <a:custGeom>
            <a:avLst/>
            <a:gdLst/>
            <a:ahLst/>
            <a:rect l="l" t="t" r="r" b="b"/>
            <a:pathLst>
              <a:path w="114" h="80">
                <a:moveTo>
                  <a:pt x="100" y="0"/>
                </a:moveTo>
                <a:lnTo>
                  <a:pt x="85" y="2"/>
                </a:lnTo>
                <a:lnTo>
                  <a:pt x="72" y="5"/>
                </a:lnTo>
                <a:lnTo>
                  <a:pt x="59" y="13"/>
                </a:lnTo>
                <a:lnTo>
                  <a:pt x="48" y="22"/>
                </a:lnTo>
                <a:lnTo>
                  <a:pt x="37" y="33"/>
                </a:lnTo>
                <a:lnTo>
                  <a:pt x="26" y="42"/>
                </a:lnTo>
                <a:lnTo>
                  <a:pt x="15" y="53"/>
                </a:lnTo>
                <a:lnTo>
                  <a:pt x="4" y="62"/>
                </a:lnTo>
                <a:lnTo>
                  <a:pt x="4" y="62"/>
                </a:lnTo>
                <a:lnTo>
                  <a:pt x="2" y="63"/>
                </a:lnTo>
                <a:lnTo>
                  <a:pt x="2" y="63"/>
                </a:lnTo>
                <a:lnTo>
                  <a:pt x="2" y="65"/>
                </a:lnTo>
                <a:lnTo>
                  <a:pt x="2" y="65"/>
                </a:lnTo>
                <a:lnTo>
                  <a:pt x="0" y="67"/>
                </a:lnTo>
                <a:lnTo>
                  <a:pt x="0" y="67"/>
                </a:lnTo>
                <a:lnTo>
                  <a:pt x="0" y="67"/>
                </a:lnTo>
                <a:lnTo>
                  <a:pt x="0" y="67"/>
                </a:lnTo>
                <a:lnTo>
                  <a:pt x="0" y="69"/>
                </a:lnTo>
                <a:lnTo>
                  <a:pt x="0" y="69"/>
                </a:lnTo>
                <a:lnTo>
                  <a:pt x="2" y="69"/>
                </a:lnTo>
                <a:lnTo>
                  <a:pt x="2" y="71"/>
                </a:lnTo>
                <a:lnTo>
                  <a:pt x="2" y="71"/>
                </a:lnTo>
                <a:lnTo>
                  <a:pt x="2" y="73"/>
                </a:lnTo>
                <a:lnTo>
                  <a:pt x="4" y="73"/>
                </a:lnTo>
                <a:lnTo>
                  <a:pt x="7" y="76"/>
                </a:lnTo>
                <a:lnTo>
                  <a:pt x="13" y="78"/>
                </a:lnTo>
                <a:lnTo>
                  <a:pt x="18" y="80"/>
                </a:lnTo>
                <a:lnTo>
                  <a:pt x="26" y="80"/>
                </a:lnTo>
                <a:lnTo>
                  <a:pt x="31" y="80"/>
                </a:lnTo>
                <a:lnTo>
                  <a:pt x="37" y="78"/>
                </a:lnTo>
                <a:lnTo>
                  <a:pt x="44" y="76"/>
                </a:lnTo>
                <a:lnTo>
                  <a:pt x="48" y="73"/>
                </a:lnTo>
                <a:lnTo>
                  <a:pt x="50" y="71"/>
                </a:lnTo>
                <a:lnTo>
                  <a:pt x="54" y="71"/>
                </a:lnTo>
                <a:lnTo>
                  <a:pt x="55" y="69"/>
                </a:lnTo>
                <a:lnTo>
                  <a:pt x="57" y="69"/>
                </a:lnTo>
                <a:lnTo>
                  <a:pt x="57" y="67"/>
                </a:lnTo>
                <a:lnTo>
                  <a:pt x="59" y="67"/>
                </a:lnTo>
                <a:lnTo>
                  <a:pt x="61" y="65"/>
                </a:lnTo>
                <a:lnTo>
                  <a:pt x="63" y="63"/>
                </a:lnTo>
                <a:lnTo>
                  <a:pt x="55" y="51"/>
                </a:lnTo>
                <a:lnTo>
                  <a:pt x="61" y="40"/>
                </a:lnTo>
                <a:lnTo>
                  <a:pt x="61" y="38"/>
                </a:lnTo>
                <a:lnTo>
                  <a:pt x="61" y="38"/>
                </a:lnTo>
                <a:lnTo>
                  <a:pt x="61" y="38"/>
                </a:lnTo>
                <a:lnTo>
                  <a:pt x="63" y="38"/>
                </a:lnTo>
                <a:lnTo>
                  <a:pt x="63" y="38"/>
                </a:lnTo>
                <a:lnTo>
                  <a:pt x="65" y="36"/>
                </a:lnTo>
                <a:lnTo>
                  <a:pt x="65" y="36"/>
                </a:lnTo>
                <a:lnTo>
                  <a:pt x="66" y="36"/>
                </a:lnTo>
                <a:lnTo>
                  <a:pt x="83" y="42"/>
                </a:lnTo>
                <a:lnTo>
                  <a:pt x="89" y="40"/>
                </a:lnTo>
                <a:lnTo>
                  <a:pt x="94" y="36"/>
                </a:lnTo>
                <a:lnTo>
                  <a:pt x="100" y="33"/>
                </a:lnTo>
                <a:lnTo>
                  <a:pt x="105" y="29"/>
                </a:lnTo>
                <a:lnTo>
                  <a:pt x="109" y="25"/>
                </a:lnTo>
                <a:lnTo>
                  <a:pt x="113" y="20"/>
                </a:lnTo>
                <a:lnTo>
                  <a:pt x="114" y="14"/>
                </a:lnTo>
                <a:lnTo>
                  <a:pt x="114" y="9"/>
                </a:lnTo>
                <a:lnTo>
                  <a:pt x="113" y="7"/>
                </a:lnTo>
                <a:lnTo>
                  <a:pt x="111" y="5"/>
                </a:lnTo>
                <a:lnTo>
                  <a:pt x="111" y="5"/>
                </a:lnTo>
                <a:lnTo>
                  <a:pt x="109" y="4"/>
                </a:lnTo>
                <a:lnTo>
                  <a:pt x="107" y="2"/>
                </a:lnTo>
                <a:lnTo>
                  <a:pt x="105" y="2"/>
                </a:lnTo>
                <a:lnTo>
                  <a:pt x="103" y="0"/>
                </a:lnTo>
                <a:lnTo>
                  <a:pt x="100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2DAF-A1E6-49B8-A9FF-80390D574E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95160" y="101520"/>
            <a:ext cx="782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Human Resources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Conducting an Int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371600"/>
            <a:ext cx="61722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During the Interview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ank the interviewee for agreeing to the inter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 the purpose of the interview and give a general comment about the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 asking each question and, if possible, extend answers with more questions based on the information gi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-3967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ou are unsure of a response, ask for clarification or reformulate the ques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33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243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768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24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5288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26240" y="1523880"/>
            <a:ext cx="21891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75560" y="1531800"/>
            <a:ext cx="2128680" cy="2190960"/>
          </a:xfrm>
          <a:custGeom>
            <a:avLst/>
            <a:gdLst/>
            <a:ahLst/>
            <a:rect l="l" t="t" r="r" b="b"/>
            <a:pathLst>
              <a:path w="1341" h="1380">
                <a:moveTo>
                  <a:pt x="0" y="1202"/>
                </a:moveTo>
                <a:lnTo>
                  <a:pt x="11" y="1149"/>
                </a:lnTo>
                <a:lnTo>
                  <a:pt x="21" y="1095"/>
                </a:lnTo>
                <a:lnTo>
                  <a:pt x="26" y="1040"/>
                </a:lnTo>
                <a:lnTo>
                  <a:pt x="30" y="986"/>
                </a:lnTo>
                <a:lnTo>
                  <a:pt x="30" y="933"/>
                </a:lnTo>
                <a:lnTo>
                  <a:pt x="30" y="879"/>
                </a:lnTo>
                <a:lnTo>
                  <a:pt x="28" y="824"/>
                </a:lnTo>
                <a:lnTo>
                  <a:pt x="26" y="770"/>
                </a:lnTo>
                <a:lnTo>
                  <a:pt x="37" y="726"/>
                </a:lnTo>
                <a:lnTo>
                  <a:pt x="39" y="681"/>
                </a:lnTo>
                <a:lnTo>
                  <a:pt x="34" y="636"/>
                </a:lnTo>
                <a:lnTo>
                  <a:pt x="28" y="592"/>
                </a:lnTo>
                <a:lnTo>
                  <a:pt x="23" y="549"/>
                </a:lnTo>
                <a:lnTo>
                  <a:pt x="23" y="507"/>
                </a:lnTo>
                <a:lnTo>
                  <a:pt x="30" y="467"/>
                </a:lnTo>
                <a:lnTo>
                  <a:pt x="50" y="431"/>
                </a:lnTo>
                <a:lnTo>
                  <a:pt x="63" y="391"/>
                </a:lnTo>
                <a:lnTo>
                  <a:pt x="69" y="351"/>
                </a:lnTo>
                <a:lnTo>
                  <a:pt x="67" y="311"/>
                </a:lnTo>
                <a:lnTo>
                  <a:pt x="59" y="271"/>
                </a:lnTo>
                <a:lnTo>
                  <a:pt x="50" y="229"/>
                </a:lnTo>
                <a:lnTo>
                  <a:pt x="41" y="189"/>
                </a:lnTo>
                <a:lnTo>
                  <a:pt x="35" y="149"/>
                </a:lnTo>
                <a:lnTo>
                  <a:pt x="35" y="111"/>
                </a:lnTo>
                <a:lnTo>
                  <a:pt x="35" y="102"/>
                </a:lnTo>
                <a:lnTo>
                  <a:pt x="37" y="91"/>
                </a:lnTo>
                <a:lnTo>
                  <a:pt x="37" y="82"/>
                </a:lnTo>
                <a:lnTo>
                  <a:pt x="39" y="73"/>
                </a:lnTo>
                <a:lnTo>
                  <a:pt x="39" y="64"/>
                </a:lnTo>
                <a:lnTo>
                  <a:pt x="37" y="57"/>
                </a:lnTo>
                <a:lnTo>
                  <a:pt x="35" y="48"/>
                </a:lnTo>
                <a:lnTo>
                  <a:pt x="34" y="40"/>
                </a:lnTo>
                <a:lnTo>
                  <a:pt x="35" y="11"/>
                </a:lnTo>
                <a:lnTo>
                  <a:pt x="65" y="2"/>
                </a:lnTo>
                <a:lnTo>
                  <a:pt x="93" y="0"/>
                </a:lnTo>
                <a:lnTo>
                  <a:pt x="120" y="6"/>
                </a:lnTo>
                <a:lnTo>
                  <a:pt x="150" y="13"/>
                </a:lnTo>
                <a:lnTo>
                  <a:pt x="178" y="24"/>
                </a:lnTo>
                <a:lnTo>
                  <a:pt x="205" y="31"/>
                </a:lnTo>
                <a:lnTo>
                  <a:pt x="233" y="37"/>
                </a:lnTo>
                <a:lnTo>
                  <a:pt x="263" y="35"/>
                </a:lnTo>
                <a:lnTo>
                  <a:pt x="311" y="20"/>
                </a:lnTo>
                <a:lnTo>
                  <a:pt x="359" y="15"/>
                </a:lnTo>
                <a:lnTo>
                  <a:pt x="405" y="15"/>
                </a:lnTo>
                <a:lnTo>
                  <a:pt x="453" y="17"/>
                </a:lnTo>
                <a:lnTo>
                  <a:pt x="501" y="20"/>
                </a:lnTo>
                <a:lnTo>
                  <a:pt x="547" y="22"/>
                </a:lnTo>
                <a:lnTo>
                  <a:pt x="595" y="22"/>
                </a:lnTo>
                <a:lnTo>
                  <a:pt x="643" y="17"/>
                </a:lnTo>
                <a:lnTo>
                  <a:pt x="683" y="33"/>
                </a:lnTo>
                <a:lnTo>
                  <a:pt x="724" y="40"/>
                </a:lnTo>
                <a:lnTo>
                  <a:pt x="766" y="42"/>
                </a:lnTo>
                <a:lnTo>
                  <a:pt x="807" y="37"/>
                </a:lnTo>
                <a:lnTo>
                  <a:pt x="850" y="29"/>
                </a:lnTo>
                <a:lnTo>
                  <a:pt x="892" y="22"/>
                </a:lnTo>
                <a:lnTo>
                  <a:pt x="934" y="15"/>
                </a:lnTo>
                <a:lnTo>
                  <a:pt x="975" y="11"/>
                </a:lnTo>
                <a:lnTo>
                  <a:pt x="999" y="11"/>
                </a:lnTo>
                <a:lnTo>
                  <a:pt x="1021" y="13"/>
                </a:lnTo>
                <a:lnTo>
                  <a:pt x="1043" y="15"/>
                </a:lnTo>
                <a:lnTo>
                  <a:pt x="1066" y="17"/>
                </a:lnTo>
                <a:lnTo>
                  <a:pt x="1088" y="19"/>
                </a:lnTo>
                <a:lnTo>
                  <a:pt x="1110" y="20"/>
                </a:lnTo>
                <a:lnTo>
                  <a:pt x="1130" y="22"/>
                </a:lnTo>
                <a:lnTo>
                  <a:pt x="1150" y="20"/>
                </a:lnTo>
                <a:lnTo>
                  <a:pt x="1174" y="28"/>
                </a:lnTo>
                <a:lnTo>
                  <a:pt x="1197" y="31"/>
                </a:lnTo>
                <a:lnTo>
                  <a:pt x="1219" y="29"/>
                </a:lnTo>
                <a:lnTo>
                  <a:pt x="1241" y="26"/>
                </a:lnTo>
                <a:lnTo>
                  <a:pt x="1265" y="20"/>
                </a:lnTo>
                <a:lnTo>
                  <a:pt x="1287" y="15"/>
                </a:lnTo>
                <a:lnTo>
                  <a:pt x="1309" y="8"/>
                </a:lnTo>
                <a:lnTo>
                  <a:pt x="1331" y="4"/>
                </a:lnTo>
                <a:lnTo>
                  <a:pt x="1333" y="17"/>
                </a:lnTo>
                <a:lnTo>
                  <a:pt x="1331" y="29"/>
                </a:lnTo>
                <a:lnTo>
                  <a:pt x="1328" y="44"/>
                </a:lnTo>
                <a:lnTo>
                  <a:pt x="1322" y="59"/>
                </a:lnTo>
                <a:lnTo>
                  <a:pt x="1317" y="75"/>
                </a:lnTo>
                <a:lnTo>
                  <a:pt x="1311" y="91"/>
                </a:lnTo>
                <a:lnTo>
                  <a:pt x="1309" y="106"/>
                </a:lnTo>
                <a:lnTo>
                  <a:pt x="1311" y="122"/>
                </a:lnTo>
                <a:lnTo>
                  <a:pt x="1311" y="151"/>
                </a:lnTo>
                <a:lnTo>
                  <a:pt x="1313" y="180"/>
                </a:lnTo>
                <a:lnTo>
                  <a:pt x="1313" y="207"/>
                </a:lnTo>
                <a:lnTo>
                  <a:pt x="1313" y="236"/>
                </a:lnTo>
                <a:lnTo>
                  <a:pt x="1311" y="264"/>
                </a:lnTo>
                <a:lnTo>
                  <a:pt x="1311" y="293"/>
                </a:lnTo>
                <a:lnTo>
                  <a:pt x="1313" y="320"/>
                </a:lnTo>
                <a:lnTo>
                  <a:pt x="1313" y="349"/>
                </a:lnTo>
                <a:lnTo>
                  <a:pt x="1317" y="371"/>
                </a:lnTo>
                <a:lnTo>
                  <a:pt x="1320" y="391"/>
                </a:lnTo>
                <a:lnTo>
                  <a:pt x="1326" y="412"/>
                </a:lnTo>
                <a:lnTo>
                  <a:pt x="1331" y="432"/>
                </a:lnTo>
                <a:lnTo>
                  <a:pt x="1337" y="452"/>
                </a:lnTo>
                <a:lnTo>
                  <a:pt x="1341" y="470"/>
                </a:lnTo>
                <a:lnTo>
                  <a:pt x="1341" y="490"/>
                </a:lnTo>
                <a:lnTo>
                  <a:pt x="1339" y="510"/>
                </a:lnTo>
                <a:lnTo>
                  <a:pt x="1322" y="556"/>
                </a:lnTo>
                <a:lnTo>
                  <a:pt x="1317" y="599"/>
                </a:lnTo>
                <a:lnTo>
                  <a:pt x="1318" y="645"/>
                </a:lnTo>
                <a:lnTo>
                  <a:pt x="1322" y="690"/>
                </a:lnTo>
                <a:lnTo>
                  <a:pt x="1326" y="735"/>
                </a:lnTo>
                <a:lnTo>
                  <a:pt x="1328" y="781"/>
                </a:lnTo>
                <a:lnTo>
                  <a:pt x="1322" y="824"/>
                </a:lnTo>
                <a:lnTo>
                  <a:pt x="1309" y="870"/>
                </a:lnTo>
                <a:lnTo>
                  <a:pt x="1309" y="886"/>
                </a:lnTo>
                <a:lnTo>
                  <a:pt x="1307" y="904"/>
                </a:lnTo>
                <a:lnTo>
                  <a:pt x="1306" y="921"/>
                </a:lnTo>
                <a:lnTo>
                  <a:pt x="1304" y="939"/>
                </a:lnTo>
                <a:lnTo>
                  <a:pt x="1300" y="955"/>
                </a:lnTo>
                <a:lnTo>
                  <a:pt x="1296" y="971"/>
                </a:lnTo>
                <a:lnTo>
                  <a:pt x="1294" y="990"/>
                </a:lnTo>
                <a:lnTo>
                  <a:pt x="1291" y="1006"/>
                </a:lnTo>
                <a:lnTo>
                  <a:pt x="1287" y="1031"/>
                </a:lnTo>
                <a:lnTo>
                  <a:pt x="1287" y="1057"/>
                </a:lnTo>
                <a:lnTo>
                  <a:pt x="1289" y="1082"/>
                </a:lnTo>
                <a:lnTo>
                  <a:pt x="1294" y="1108"/>
                </a:lnTo>
                <a:lnTo>
                  <a:pt x="1300" y="1133"/>
                </a:lnTo>
                <a:lnTo>
                  <a:pt x="1304" y="1158"/>
                </a:lnTo>
                <a:lnTo>
                  <a:pt x="1304" y="1186"/>
                </a:lnTo>
                <a:lnTo>
                  <a:pt x="1300" y="1211"/>
                </a:lnTo>
                <a:lnTo>
                  <a:pt x="1302" y="1229"/>
                </a:lnTo>
                <a:lnTo>
                  <a:pt x="1302" y="1247"/>
                </a:lnTo>
                <a:lnTo>
                  <a:pt x="1302" y="1265"/>
                </a:lnTo>
                <a:lnTo>
                  <a:pt x="1302" y="1284"/>
                </a:lnTo>
                <a:lnTo>
                  <a:pt x="1302" y="1302"/>
                </a:lnTo>
                <a:lnTo>
                  <a:pt x="1304" y="1318"/>
                </a:lnTo>
                <a:lnTo>
                  <a:pt x="1306" y="1336"/>
                </a:lnTo>
                <a:lnTo>
                  <a:pt x="1311" y="1353"/>
                </a:lnTo>
                <a:lnTo>
                  <a:pt x="1293" y="1358"/>
                </a:lnTo>
                <a:lnTo>
                  <a:pt x="1274" y="1362"/>
                </a:lnTo>
                <a:lnTo>
                  <a:pt x="1256" y="1363"/>
                </a:lnTo>
                <a:lnTo>
                  <a:pt x="1235" y="1363"/>
                </a:lnTo>
                <a:lnTo>
                  <a:pt x="1215" y="1363"/>
                </a:lnTo>
                <a:lnTo>
                  <a:pt x="1195" y="1363"/>
                </a:lnTo>
                <a:lnTo>
                  <a:pt x="1174" y="1365"/>
                </a:lnTo>
                <a:lnTo>
                  <a:pt x="1154" y="1367"/>
                </a:lnTo>
                <a:lnTo>
                  <a:pt x="1125" y="1362"/>
                </a:lnTo>
                <a:lnTo>
                  <a:pt x="1093" y="1356"/>
                </a:lnTo>
                <a:lnTo>
                  <a:pt x="1064" y="1354"/>
                </a:lnTo>
                <a:lnTo>
                  <a:pt x="1032" y="1351"/>
                </a:lnTo>
                <a:lnTo>
                  <a:pt x="1003" y="1351"/>
                </a:lnTo>
                <a:lnTo>
                  <a:pt x="971" y="1353"/>
                </a:lnTo>
                <a:lnTo>
                  <a:pt x="942" y="1358"/>
                </a:lnTo>
                <a:lnTo>
                  <a:pt x="914" y="1363"/>
                </a:lnTo>
                <a:lnTo>
                  <a:pt x="883" y="1369"/>
                </a:lnTo>
                <a:lnTo>
                  <a:pt x="851" y="1374"/>
                </a:lnTo>
                <a:lnTo>
                  <a:pt x="820" y="1378"/>
                </a:lnTo>
                <a:lnTo>
                  <a:pt x="789" y="1380"/>
                </a:lnTo>
                <a:lnTo>
                  <a:pt x="759" y="1380"/>
                </a:lnTo>
                <a:lnTo>
                  <a:pt x="728" y="1376"/>
                </a:lnTo>
                <a:lnTo>
                  <a:pt x="698" y="1372"/>
                </a:lnTo>
                <a:lnTo>
                  <a:pt x="669" y="1365"/>
                </a:lnTo>
                <a:lnTo>
                  <a:pt x="589" y="1356"/>
                </a:lnTo>
                <a:lnTo>
                  <a:pt x="512" y="1356"/>
                </a:lnTo>
                <a:lnTo>
                  <a:pt x="434" y="1362"/>
                </a:lnTo>
                <a:lnTo>
                  <a:pt x="357" y="1369"/>
                </a:lnTo>
                <a:lnTo>
                  <a:pt x="281" y="1376"/>
                </a:lnTo>
                <a:lnTo>
                  <a:pt x="203" y="1380"/>
                </a:lnTo>
                <a:lnTo>
                  <a:pt x="128" y="1374"/>
                </a:lnTo>
                <a:lnTo>
                  <a:pt x="50" y="1360"/>
                </a:lnTo>
                <a:lnTo>
                  <a:pt x="45" y="1358"/>
                </a:lnTo>
                <a:lnTo>
                  <a:pt x="39" y="1358"/>
                </a:lnTo>
                <a:lnTo>
                  <a:pt x="34" y="1358"/>
                </a:lnTo>
                <a:lnTo>
                  <a:pt x="30" y="1358"/>
                </a:lnTo>
                <a:lnTo>
                  <a:pt x="24" y="1360"/>
                </a:lnTo>
                <a:lnTo>
                  <a:pt x="21" y="1360"/>
                </a:lnTo>
                <a:lnTo>
                  <a:pt x="15" y="1360"/>
                </a:lnTo>
                <a:lnTo>
                  <a:pt x="11" y="1358"/>
                </a:lnTo>
                <a:lnTo>
                  <a:pt x="17" y="1340"/>
                </a:lnTo>
                <a:lnTo>
                  <a:pt x="21" y="1320"/>
                </a:lnTo>
                <a:lnTo>
                  <a:pt x="23" y="1300"/>
                </a:lnTo>
                <a:lnTo>
                  <a:pt x="21" y="1280"/>
                </a:lnTo>
                <a:lnTo>
                  <a:pt x="19" y="1260"/>
                </a:lnTo>
                <a:lnTo>
                  <a:pt x="15" y="1240"/>
                </a:lnTo>
                <a:lnTo>
                  <a:pt x="8" y="1222"/>
                </a:lnTo>
                <a:lnTo>
                  <a:pt x="0" y="1202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08680" y="1584360"/>
            <a:ext cx="2051280" cy="2111400"/>
          </a:xfrm>
          <a:custGeom>
            <a:avLst/>
            <a:gdLst/>
            <a:ahLst/>
            <a:rect l="l" t="t" r="r" b="b"/>
            <a:pathLst>
              <a:path w="1292" h="1330">
                <a:moveTo>
                  <a:pt x="3" y="1165"/>
                </a:moveTo>
                <a:lnTo>
                  <a:pt x="16" y="1098"/>
                </a:lnTo>
                <a:lnTo>
                  <a:pt x="24" y="1027"/>
                </a:lnTo>
                <a:lnTo>
                  <a:pt x="27" y="958"/>
                </a:lnTo>
                <a:lnTo>
                  <a:pt x="27" y="888"/>
                </a:lnTo>
                <a:lnTo>
                  <a:pt x="27" y="819"/>
                </a:lnTo>
                <a:lnTo>
                  <a:pt x="27" y="748"/>
                </a:lnTo>
                <a:lnTo>
                  <a:pt x="29" y="677"/>
                </a:lnTo>
                <a:lnTo>
                  <a:pt x="35" y="606"/>
                </a:lnTo>
                <a:lnTo>
                  <a:pt x="33" y="599"/>
                </a:lnTo>
                <a:lnTo>
                  <a:pt x="31" y="592"/>
                </a:lnTo>
                <a:lnTo>
                  <a:pt x="29" y="586"/>
                </a:lnTo>
                <a:lnTo>
                  <a:pt x="27" y="579"/>
                </a:lnTo>
                <a:lnTo>
                  <a:pt x="26" y="572"/>
                </a:lnTo>
                <a:lnTo>
                  <a:pt x="26" y="566"/>
                </a:lnTo>
                <a:lnTo>
                  <a:pt x="24" y="561"/>
                </a:lnTo>
                <a:lnTo>
                  <a:pt x="24" y="555"/>
                </a:lnTo>
                <a:lnTo>
                  <a:pt x="35" y="530"/>
                </a:lnTo>
                <a:lnTo>
                  <a:pt x="27" y="490"/>
                </a:lnTo>
                <a:lnTo>
                  <a:pt x="31" y="448"/>
                </a:lnTo>
                <a:lnTo>
                  <a:pt x="44" y="408"/>
                </a:lnTo>
                <a:lnTo>
                  <a:pt x="57" y="369"/>
                </a:lnTo>
                <a:lnTo>
                  <a:pt x="70" y="327"/>
                </a:lnTo>
                <a:lnTo>
                  <a:pt x="75" y="287"/>
                </a:lnTo>
                <a:lnTo>
                  <a:pt x="72" y="245"/>
                </a:lnTo>
                <a:lnTo>
                  <a:pt x="53" y="203"/>
                </a:lnTo>
                <a:lnTo>
                  <a:pt x="51" y="178"/>
                </a:lnTo>
                <a:lnTo>
                  <a:pt x="50" y="153"/>
                </a:lnTo>
                <a:lnTo>
                  <a:pt x="48" y="127"/>
                </a:lnTo>
                <a:lnTo>
                  <a:pt x="46" y="102"/>
                </a:lnTo>
                <a:lnTo>
                  <a:pt x="42" y="76"/>
                </a:lnTo>
                <a:lnTo>
                  <a:pt x="40" y="51"/>
                </a:lnTo>
                <a:lnTo>
                  <a:pt x="38" y="26"/>
                </a:lnTo>
                <a:lnTo>
                  <a:pt x="38" y="2"/>
                </a:lnTo>
                <a:lnTo>
                  <a:pt x="75" y="6"/>
                </a:lnTo>
                <a:lnTo>
                  <a:pt x="112" y="11"/>
                </a:lnTo>
                <a:lnTo>
                  <a:pt x="151" y="18"/>
                </a:lnTo>
                <a:lnTo>
                  <a:pt x="190" y="26"/>
                </a:lnTo>
                <a:lnTo>
                  <a:pt x="229" y="29"/>
                </a:lnTo>
                <a:lnTo>
                  <a:pt x="267" y="27"/>
                </a:lnTo>
                <a:lnTo>
                  <a:pt x="308" y="20"/>
                </a:lnTo>
                <a:lnTo>
                  <a:pt x="349" y="4"/>
                </a:lnTo>
                <a:lnTo>
                  <a:pt x="362" y="6"/>
                </a:lnTo>
                <a:lnTo>
                  <a:pt x="374" y="7"/>
                </a:lnTo>
                <a:lnTo>
                  <a:pt x="387" y="11"/>
                </a:lnTo>
                <a:lnTo>
                  <a:pt x="400" y="11"/>
                </a:lnTo>
                <a:lnTo>
                  <a:pt x="413" y="13"/>
                </a:lnTo>
                <a:lnTo>
                  <a:pt x="426" y="15"/>
                </a:lnTo>
                <a:lnTo>
                  <a:pt x="439" y="16"/>
                </a:lnTo>
                <a:lnTo>
                  <a:pt x="452" y="18"/>
                </a:lnTo>
                <a:lnTo>
                  <a:pt x="483" y="22"/>
                </a:lnTo>
                <a:lnTo>
                  <a:pt x="515" y="22"/>
                </a:lnTo>
                <a:lnTo>
                  <a:pt x="544" y="18"/>
                </a:lnTo>
                <a:lnTo>
                  <a:pt x="576" y="16"/>
                </a:lnTo>
                <a:lnTo>
                  <a:pt x="605" y="16"/>
                </a:lnTo>
                <a:lnTo>
                  <a:pt x="637" y="18"/>
                </a:lnTo>
                <a:lnTo>
                  <a:pt x="664" y="24"/>
                </a:lnTo>
                <a:lnTo>
                  <a:pt x="694" y="35"/>
                </a:lnTo>
                <a:lnTo>
                  <a:pt x="718" y="35"/>
                </a:lnTo>
                <a:lnTo>
                  <a:pt x="742" y="33"/>
                </a:lnTo>
                <a:lnTo>
                  <a:pt x="764" y="29"/>
                </a:lnTo>
                <a:lnTo>
                  <a:pt x="788" y="26"/>
                </a:lnTo>
                <a:lnTo>
                  <a:pt x="810" y="22"/>
                </a:lnTo>
                <a:lnTo>
                  <a:pt x="834" y="18"/>
                </a:lnTo>
                <a:lnTo>
                  <a:pt x="856" y="13"/>
                </a:lnTo>
                <a:lnTo>
                  <a:pt x="878" y="7"/>
                </a:lnTo>
                <a:lnTo>
                  <a:pt x="895" y="4"/>
                </a:lnTo>
                <a:lnTo>
                  <a:pt x="912" y="2"/>
                </a:lnTo>
                <a:lnTo>
                  <a:pt x="928" y="2"/>
                </a:lnTo>
                <a:lnTo>
                  <a:pt x="947" y="4"/>
                </a:lnTo>
                <a:lnTo>
                  <a:pt x="963" y="6"/>
                </a:lnTo>
                <a:lnTo>
                  <a:pt x="978" y="6"/>
                </a:lnTo>
                <a:lnTo>
                  <a:pt x="995" y="4"/>
                </a:lnTo>
                <a:lnTo>
                  <a:pt x="1011" y="0"/>
                </a:lnTo>
                <a:lnTo>
                  <a:pt x="1032" y="4"/>
                </a:lnTo>
                <a:lnTo>
                  <a:pt x="1052" y="7"/>
                </a:lnTo>
                <a:lnTo>
                  <a:pt x="1072" y="9"/>
                </a:lnTo>
                <a:lnTo>
                  <a:pt x="1091" y="11"/>
                </a:lnTo>
                <a:lnTo>
                  <a:pt x="1111" y="13"/>
                </a:lnTo>
                <a:lnTo>
                  <a:pt x="1131" y="15"/>
                </a:lnTo>
                <a:lnTo>
                  <a:pt x="1150" y="16"/>
                </a:lnTo>
                <a:lnTo>
                  <a:pt x="1170" y="22"/>
                </a:lnTo>
                <a:lnTo>
                  <a:pt x="1183" y="20"/>
                </a:lnTo>
                <a:lnTo>
                  <a:pt x="1196" y="18"/>
                </a:lnTo>
                <a:lnTo>
                  <a:pt x="1207" y="16"/>
                </a:lnTo>
                <a:lnTo>
                  <a:pt x="1220" y="15"/>
                </a:lnTo>
                <a:lnTo>
                  <a:pt x="1233" y="11"/>
                </a:lnTo>
                <a:lnTo>
                  <a:pt x="1244" y="9"/>
                </a:lnTo>
                <a:lnTo>
                  <a:pt x="1257" y="7"/>
                </a:lnTo>
                <a:lnTo>
                  <a:pt x="1270" y="4"/>
                </a:lnTo>
                <a:lnTo>
                  <a:pt x="1270" y="4"/>
                </a:lnTo>
                <a:lnTo>
                  <a:pt x="1272" y="4"/>
                </a:lnTo>
                <a:lnTo>
                  <a:pt x="1272" y="4"/>
                </a:lnTo>
                <a:lnTo>
                  <a:pt x="1273" y="2"/>
                </a:lnTo>
                <a:lnTo>
                  <a:pt x="1275" y="2"/>
                </a:lnTo>
                <a:lnTo>
                  <a:pt x="1277" y="2"/>
                </a:lnTo>
                <a:lnTo>
                  <a:pt x="1277" y="2"/>
                </a:lnTo>
                <a:lnTo>
                  <a:pt x="1279" y="2"/>
                </a:lnTo>
                <a:lnTo>
                  <a:pt x="1268" y="60"/>
                </a:lnTo>
                <a:lnTo>
                  <a:pt x="1262" y="118"/>
                </a:lnTo>
                <a:lnTo>
                  <a:pt x="1261" y="176"/>
                </a:lnTo>
                <a:lnTo>
                  <a:pt x="1262" y="234"/>
                </a:lnTo>
                <a:lnTo>
                  <a:pt x="1266" y="292"/>
                </a:lnTo>
                <a:lnTo>
                  <a:pt x="1273" y="350"/>
                </a:lnTo>
                <a:lnTo>
                  <a:pt x="1283" y="410"/>
                </a:lnTo>
                <a:lnTo>
                  <a:pt x="1292" y="468"/>
                </a:lnTo>
                <a:lnTo>
                  <a:pt x="1273" y="512"/>
                </a:lnTo>
                <a:lnTo>
                  <a:pt x="1266" y="557"/>
                </a:lnTo>
                <a:lnTo>
                  <a:pt x="1266" y="603"/>
                </a:lnTo>
                <a:lnTo>
                  <a:pt x="1272" y="650"/>
                </a:lnTo>
                <a:lnTo>
                  <a:pt x="1275" y="695"/>
                </a:lnTo>
                <a:lnTo>
                  <a:pt x="1279" y="741"/>
                </a:lnTo>
                <a:lnTo>
                  <a:pt x="1275" y="786"/>
                </a:lnTo>
                <a:lnTo>
                  <a:pt x="1261" y="830"/>
                </a:lnTo>
                <a:lnTo>
                  <a:pt x="1248" y="888"/>
                </a:lnTo>
                <a:lnTo>
                  <a:pt x="1242" y="947"/>
                </a:lnTo>
                <a:lnTo>
                  <a:pt x="1244" y="1006"/>
                </a:lnTo>
                <a:lnTo>
                  <a:pt x="1248" y="1064"/>
                </a:lnTo>
                <a:lnTo>
                  <a:pt x="1253" y="1122"/>
                </a:lnTo>
                <a:lnTo>
                  <a:pt x="1257" y="1180"/>
                </a:lnTo>
                <a:lnTo>
                  <a:pt x="1259" y="1238"/>
                </a:lnTo>
                <a:lnTo>
                  <a:pt x="1253" y="1296"/>
                </a:lnTo>
                <a:lnTo>
                  <a:pt x="1233" y="1298"/>
                </a:lnTo>
                <a:lnTo>
                  <a:pt x="1214" y="1301"/>
                </a:lnTo>
                <a:lnTo>
                  <a:pt x="1194" y="1305"/>
                </a:lnTo>
                <a:lnTo>
                  <a:pt x="1174" y="1307"/>
                </a:lnTo>
                <a:lnTo>
                  <a:pt x="1153" y="1309"/>
                </a:lnTo>
                <a:lnTo>
                  <a:pt x="1133" y="1309"/>
                </a:lnTo>
                <a:lnTo>
                  <a:pt x="1113" y="1305"/>
                </a:lnTo>
                <a:lnTo>
                  <a:pt x="1094" y="1300"/>
                </a:lnTo>
                <a:lnTo>
                  <a:pt x="1093" y="1298"/>
                </a:lnTo>
                <a:lnTo>
                  <a:pt x="1093" y="1296"/>
                </a:lnTo>
                <a:lnTo>
                  <a:pt x="1093" y="1296"/>
                </a:lnTo>
                <a:lnTo>
                  <a:pt x="1091" y="1294"/>
                </a:lnTo>
                <a:lnTo>
                  <a:pt x="1089" y="1292"/>
                </a:lnTo>
                <a:lnTo>
                  <a:pt x="1089" y="1290"/>
                </a:lnTo>
                <a:lnTo>
                  <a:pt x="1087" y="1289"/>
                </a:lnTo>
                <a:lnTo>
                  <a:pt x="1085" y="1287"/>
                </a:lnTo>
                <a:lnTo>
                  <a:pt x="1063" y="1285"/>
                </a:lnTo>
                <a:lnTo>
                  <a:pt x="1046" y="1296"/>
                </a:lnTo>
                <a:lnTo>
                  <a:pt x="1015" y="1292"/>
                </a:lnTo>
                <a:lnTo>
                  <a:pt x="985" y="1292"/>
                </a:lnTo>
                <a:lnTo>
                  <a:pt x="958" y="1296"/>
                </a:lnTo>
                <a:lnTo>
                  <a:pt x="928" y="1300"/>
                </a:lnTo>
                <a:lnTo>
                  <a:pt x="901" y="1305"/>
                </a:lnTo>
                <a:lnTo>
                  <a:pt x="871" y="1312"/>
                </a:lnTo>
                <a:lnTo>
                  <a:pt x="841" y="1318"/>
                </a:lnTo>
                <a:lnTo>
                  <a:pt x="812" y="1321"/>
                </a:lnTo>
                <a:lnTo>
                  <a:pt x="768" y="1321"/>
                </a:lnTo>
                <a:lnTo>
                  <a:pt x="723" y="1320"/>
                </a:lnTo>
                <a:lnTo>
                  <a:pt x="679" y="1316"/>
                </a:lnTo>
                <a:lnTo>
                  <a:pt x="637" y="1312"/>
                </a:lnTo>
                <a:lnTo>
                  <a:pt x="592" y="1309"/>
                </a:lnTo>
                <a:lnTo>
                  <a:pt x="550" y="1305"/>
                </a:lnTo>
                <a:lnTo>
                  <a:pt x="506" y="1303"/>
                </a:lnTo>
                <a:lnTo>
                  <a:pt x="463" y="1305"/>
                </a:lnTo>
                <a:lnTo>
                  <a:pt x="426" y="1300"/>
                </a:lnTo>
                <a:lnTo>
                  <a:pt x="389" y="1301"/>
                </a:lnTo>
                <a:lnTo>
                  <a:pt x="354" y="1307"/>
                </a:lnTo>
                <a:lnTo>
                  <a:pt x="319" y="1314"/>
                </a:lnTo>
                <a:lnTo>
                  <a:pt x="284" y="1321"/>
                </a:lnTo>
                <a:lnTo>
                  <a:pt x="249" y="1329"/>
                </a:lnTo>
                <a:lnTo>
                  <a:pt x="214" y="1330"/>
                </a:lnTo>
                <a:lnTo>
                  <a:pt x="177" y="1327"/>
                </a:lnTo>
                <a:lnTo>
                  <a:pt x="158" y="1329"/>
                </a:lnTo>
                <a:lnTo>
                  <a:pt x="138" y="1327"/>
                </a:lnTo>
                <a:lnTo>
                  <a:pt x="120" y="1323"/>
                </a:lnTo>
                <a:lnTo>
                  <a:pt x="103" y="1318"/>
                </a:lnTo>
                <a:lnTo>
                  <a:pt x="85" y="1312"/>
                </a:lnTo>
                <a:lnTo>
                  <a:pt x="66" y="1307"/>
                </a:lnTo>
                <a:lnTo>
                  <a:pt x="48" y="1303"/>
                </a:lnTo>
                <a:lnTo>
                  <a:pt x="27" y="1300"/>
                </a:lnTo>
                <a:lnTo>
                  <a:pt x="26" y="1283"/>
                </a:lnTo>
                <a:lnTo>
                  <a:pt x="26" y="1265"/>
                </a:lnTo>
                <a:lnTo>
                  <a:pt x="24" y="1249"/>
                </a:lnTo>
                <a:lnTo>
                  <a:pt x="22" y="1232"/>
                </a:lnTo>
                <a:lnTo>
                  <a:pt x="20" y="1216"/>
                </a:lnTo>
                <a:lnTo>
                  <a:pt x="14" y="1200"/>
                </a:lnTo>
                <a:lnTo>
                  <a:pt x="9" y="1185"/>
                </a:lnTo>
                <a:lnTo>
                  <a:pt x="0" y="1169"/>
                </a:lnTo>
                <a:lnTo>
                  <a:pt x="0" y="1169"/>
                </a:lnTo>
                <a:lnTo>
                  <a:pt x="2" y="1169"/>
                </a:lnTo>
                <a:lnTo>
                  <a:pt x="2" y="1169"/>
                </a:lnTo>
                <a:lnTo>
                  <a:pt x="2" y="1167"/>
                </a:lnTo>
                <a:lnTo>
                  <a:pt x="2" y="1167"/>
                </a:lnTo>
                <a:lnTo>
                  <a:pt x="2" y="1167"/>
                </a:lnTo>
                <a:lnTo>
                  <a:pt x="2" y="1165"/>
                </a:lnTo>
                <a:lnTo>
                  <a:pt x="3" y="1165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0640" y="1884240"/>
            <a:ext cx="1658880" cy="1359000"/>
          </a:xfrm>
          <a:custGeom>
            <a:avLst/>
            <a:gdLst/>
            <a:ahLst/>
            <a:rect l="l" t="t" r="r" b="b"/>
            <a:pathLst>
              <a:path w="1045" h="856">
                <a:moveTo>
                  <a:pt x="26" y="0"/>
                </a:moveTo>
                <a:lnTo>
                  <a:pt x="218" y="131"/>
                </a:lnTo>
                <a:lnTo>
                  <a:pt x="336" y="229"/>
                </a:lnTo>
                <a:lnTo>
                  <a:pt x="430" y="296"/>
                </a:lnTo>
                <a:lnTo>
                  <a:pt x="499" y="305"/>
                </a:lnTo>
                <a:lnTo>
                  <a:pt x="556" y="296"/>
                </a:lnTo>
                <a:lnTo>
                  <a:pt x="606" y="321"/>
                </a:lnTo>
                <a:lnTo>
                  <a:pt x="543" y="383"/>
                </a:lnTo>
                <a:lnTo>
                  <a:pt x="475" y="444"/>
                </a:lnTo>
                <a:lnTo>
                  <a:pt x="473" y="477"/>
                </a:lnTo>
                <a:lnTo>
                  <a:pt x="526" y="484"/>
                </a:lnTo>
                <a:lnTo>
                  <a:pt x="597" y="457"/>
                </a:lnTo>
                <a:lnTo>
                  <a:pt x="650" y="401"/>
                </a:lnTo>
                <a:lnTo>
                  <a:pt x="726" y="446"/>
                </a:lnTo>
                <a:lnTo>
                  <a:pt x="859" y="532"/>
                </a:lnTo>
                <a:lnTo>
                  <a:pt x="921" y="586"/>
                </a:lnTo>
                <a:lnTo>
                  <a:pt x="973" y="602"/>
                </a:lnTo>
                <a:lnTo>
                  <a:pt x="1045" y="677"/>
                </a:lnTo>
                <a:lnTo>
                  <a:pt x="1036" y="711"/>
                </a:lnTo>
                <a:lnTo>
                  <a:pt x="1017" y="731"/>
                </a:lnTo>
                <a:lnTo>
                  <a:pt x="958" y="713"/>
                </a:lnTo>
                <a:lnTo>
                  <a:pt x="973" y="746"/>
                </a:lnTo>
                <a:lnTo>
                  <a:pt x="932" y="784"/>
                </a:lnTo>
                <a:lnTo>
                  <a:pt x="772" y="835"/>
                </a:lnTo>
                <a:lnTo>
                  <a:pt x="624" y="856"/>
                </a:lnTo>
                <a:lnTo>
                  <a:pt x="338" y="715"/>
                </a:lnTo>
                <a:lnTo>
                  <a:pt x="353" y="655"/>
                </a:lnTo>
                <a:lnTo>
                  <a:pt x="301" y="646"/>
                </a:lnTo>
                <a:lnTo>
                  <a:pt x="157" y="486"/>
                </a:lnTo>
                <a:lnTo>
                  <a:pt x="0" y="330"/>
                </a:lnTo>
                <a:lnTo>
                  <a:pt x="2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50200" y="1951200"/>
            <a:ext cx="1222200" cy="880920"/>
          </a:xfrm>
          <a:custGeom>
            <a:avLst/>
            <a:gdLst/>
            <a:ahLst/>
            <a:rect l="l" t="t" r="r" b="b"/>
            <a:pathLst>
              <a:path w="770" h="555">
                <a:moveTo>
                  <a:pt x="749" y="0"/>
                </a:moveTo>
                <a:lnTo>
                  <a:pt x="749" y="0"/>
                </a:lnTo>
                <a:lnTo>
                  <a:pt x="748" y="0"/>
                </a:lnTo>
                <a:lnTo>
                  <a:pt x="748" y="0"/>
                </a:lnTo>
                <a:lnTo>
                  <a:pt x="746" y="0"/>
                </a:lnTo>
                <a:lnTo>
                  <a:pt x="746" y="0"/>
                </a:lnTo>
                <a:lnTo>
                  <a:pt x="744" y="0"/>
                </a:lnTo>
                <a:lnTo>
                  <a:pt x="744" y="0"/>
                </a:lnTo>
                <a:lnTo>
                  <a:pt x="744" y="0"/>
                </a:lnTo>
                <a:lnTo>
                  <a:pt x="722" y="25"/>
                </a:lnTo>
                <a:lnTo>
                  <a:pt x="698" y="49"/>
                </a:lnTo>
                <a:lnTo>
                  <a:pt x="674" y="74"/>
                </a:lnTo>
                <a:lnTo>
                  <a:pt x="646" y="98"/>
                </a:lnTo>
                <a:lnTo>
                  <a:pt x="620" y="121"/>
                </a:lnTo>
                <a:lnTo>
                  <a:pt x="593" y="143"/>
                </a:lnTo>
                <a:lnTo>
                  <a:pt x="567" y="163"/>
                </a:lnTo>
                <a:lnTo>
                  <a:pt x="541" y="181"/>
                </a:lnTo>
                <a:lnTo>
                  <a:pt x="526" y="194"/>
                </a:lnTo>
                <a:lnTo>
                  <a:pt x="508" y="203"/>
                </a:lnTo>
                <a:lnTo>
                  <a:pt x="489" y="206"/>
                </a:lnTo>
                <a:lnTo>
                  <a:pt x="471" y="210"/>
                </a:lnTo>
                <a:lnTo>
                  <a:pt x="450" y="212"/>
                </a:lnTo>
                <a:lnTo>
                  <a:pt x="430" y="214"/>
                </a:lnTo>
                <a:lnTo>
                  <a:pt x="410" y="216"/>
                </a:lnTo>
                <a:lnTo>
                  <a:pt x="391" y="219"/>
                </a:lnTo>
                <a:lnTo>
                  <a:pt x="369" y="225"/>
                </a:lnTo>
                <a:lnTo>
                  <a:pt x="345" y="228"/>
                </a:lnTo>
                <a:lnTo>
                  <a:pt x="323" y="230"/>
                </a:lnTo>
                <a:lnTo>
                  <a:pt x="301" y="234"/>
                </a:lnTo>
                <a:lnTo>
                  <a:pt x="279" y="236"/>
                </a:lnTo>
                <a:lnTo>
                  <a:pt x="257" y="237"/>
                </a:lnTo>
                <a:lnTo>
                  <a:pt x="233" y="239"/>
                </a:lnTo>
                <a:lnTo>
                  <a:pt x="210" y="243"/>
                </a:lnTo>
                <a:lnTo>
                  <a:pt x="183" y="252"/>
                </a:lnTo>
                <a:lnTo>
                  <a:pt x="159" y="266"/>
                </a:lnTo>
                <a:lnTo>
                  <a:pt x="138" y="285"/>
                </a:lnTo>
                <a:lnTo>
                  <a:pt x="118" y="306"/>
                </a:lnTo>
                <a:lnTo>
                  <a:pt x="100" y="328"/>
                </a:lnTo>
                <a:lnTo>
                  <a:pt x="81" y="348"/>
                </a:lnTo>
                <a:lnTo>
                  <a:pt x="59" y="364"/>
                </a:lnTo>
                <a:lnTo>
                  <a:pt x="33" y="377"/>
                </a:lnTo>
                <a:lnTo>
                  <a:pt x="26" y="384"/>
                </a:lnTo>
                <a:lnTo>
                  <a:pt x="20" y="392"/>
                </a:lnTo>
                <a:lnTo>
                  <a:pt x="15" y="397"/>
                </a:lnTo>
                <a:lnTo>
                  <a:pt x="9" y="404"/>
                </a:lnTo>
                <a:lnTo>
                  <a:pt x="6" y="412"/>
                </a:lnTo>
                <a:lnTo>
                  <a:pt x="2" y="419"/>
                </a:lnTo>
                <a:lnTo>
                  <a:pt x="0" y="428"/>
                </a:lnTo>
                <a:lnTo>
                  <a:pt x="0" y="437"/>
                </a:lnTo>
                <a:lnTo>
                  <a:pt x="22" y="455"/>
                </a:lnTo>
                <a:lnTo>
                  <a:pt x="41" y="457"/>
                </a:lnTo>
                <a:lnTo>
                  <a:pt x="59" y="457"/>
                </a:lnTo>
                <a:lnTo>
                  <a:pt x="79" y="455"/>
                </a:lnTo>
                <a:lnTo>
                  <a:pt x="98" y="450"/>
                </a:lnTo>
                <a:lnTo>
                  <a:pt x="114" y="444"/>
                </a:lnTo>
                <a:lnTo>
                  <a:pt x="133" y="437"/>
                </a:lnTo>
                <a:lnTo>
                  <a:pt x="148" y="426"/>
                </a:lnTo>
                <a:lnTo>
                  <a:pt x="162" y="415"/>
                </a:lnTo>
                <a:lnTo>
                  <a:pt x="166" y="410"/>
                </a:lnTo>
                <a:lnTo>
                  <a:pt x="170" y="404"/>
                </a:lnTo>
                <a:lnTo>
                  <a:pt x="174" y="399"/>
                </a:lnTo>
                <a:lnTo>
                  <a:pt x="177" y="393"/>
                </a:lnTo>
                <a:lnTo>
                  <a:pt x="181" y="388"/>
                </a:lnTo>
                <a:lnTo>
                  <a:pt x="185" y="383"/>
                </a:lnTo>
                <a:lnTo>
                  <a:pt x="188" y="379"/>
                </a:lnTo>
                <a:lnTo>
                  <a:pt x="192" y="373"/>
                </a:lnTo>
                <a:lnTo>
                  <a:pt x="277" y="426"/>
                </a:lnTo>
                <a:lnTo>
                  <a:pt x="286" y="426"/>
                </a:lnTo>
                <a:lnTo>
                  <a:pt x="293" y="428"/>
                </a:lnTo>
                <a:lnTo>
                  <a:pt x="301" y="432"/>
                </a:lnTo>
                <a:lnTo>
                  <a:pt x="310" y="435"/>
                </a:lnTo>
                <a:lnTo>
                  <a:pt x="317" y="439"/>
                </a:lnTo>
                <a:lnTo>
                  <a:pt x="325" y="442"/>
                </a:lnTo>
                <a:lnTo>
                  <a:pt x="332" y="446"/>
                </a:lnTo>
                <a:lnTo>
                  <a:pt x="340" y="450"/>
                </a:lnTo>
                <a:lnTo>
                  <a:pt x="353" y="459"/>
                </a:lnTo>
                <a:lnTo>
                  <a:pt x="367" y="468"/>
                </a:lnTo>
                <a:lnTo>
                  <a:pt x="380" y="477"/>
                </a:lnTo>
                <a:lnTo>
                  <a:pt x="395" y="488"/>
                </a:lnTo>
                <a:lnTo>
                  <a:pt x="410" y="497"/>
                </a:lnTo>
                <a:lnTo>
                  <a:pt x="423" y="508"/>
                </a:lnTo>
                <a:lnTo>
                  <a:pt x="436" y="519"/>
                </a:lnTo>
                <a:lnTo>
                  <a:pt x="447" y="530"/>
                </a:lnTo>
                <a:lnTo>
                  <a:pt x="450" y="531"/>
                </a:lnTo>
                <a:lnTo>
                  <a:pt x="452" y="533"/>
                </a:lnTo>
                <a:lnTo>
                  <a:pt x="456" y="537"/>
                </a:lnTo>
                <a:lnTo>
                  <a:pt x="460" y="539"/>
                </a:lnTo>
                <a:lnTo>
                  <a:pt x="463" y="540"/>
                </a:lnTo>
                <a:lnTo>
                  <a:pt x="465" y="544"/>
                </a:lnTo>
                <a:lnTo>
                  <a:pt x="467" y="548"/>
                </a:lnTo>
                <a:lnTo>
                  <a:pt x="469" y="553"/>
                </a:lnTo>
                <a:lnTo>
                  <a:pt x="471" y="555"/>
                </a:lnTo>
                <a:lnTo>
                  <a:pt x="473" y="555"/>
                </a:lnTo>
                <a:lnTo>
                  <a:pt x="474" y="555"/>
                </a:lnTo>
                <a:lnTo>
                  <a:pt x="476" y="555"/>
                </a:lnTo>
                <a:lnTo>
                  <a:pt x="478" y="553"/>
                </a:lnTo>
                <a:lnTo>
                  <a:pt x="480" y="553"/>
                </a:lnTo>
                <a:lnTo>
                  <a:pt x="482" y="551"/>
                </a:lnTo>
                <a:lnTo>
                  <a:pt x="484" y="551"/>
                </a:lnTo>
                <a:lnTo>
                  <a:pt x="485" y="551"/>
                </a:lnTo>
                <a:lnTo>
                  <a:pt x="485" y="550"/>
                </a:lnTo>
                <a:lnTo>
                  <a:pt x="485" y="550"/>
                </a:lnTo>
                <a:lnTo>
                  <a:pt x="485" y="550"/>
                </a:lnTo>
                <a:lnTo>
                  <a:pt x="487" y="550"/>
                </a:lnTo>
                <a:lnTo>
                  <a:pt x="487" y="550"/>
                </a:lnTo>
                <a:lnTo>
                  <a:pt x="487" y="548"/>
                </a:lnTo>
                <a:lnTo>
                  <a:pt x="485" y="548"/>
                </a:lnTo>
                <a:lnTo>
                  <a:pt x="478" y="537"/>
                </a:lnTo>
                <a:lnTo>
                  <a:pt x="471" y="526"/>
                </a:lnTo>
                <a:lnTo>
                  <a:pt x="463" y="517"/>
                </a:lnTo>
                <a:lnTo>
                  <a:pt x="456" y="506"/>
                </a:lnTo>
                <a:lnTo>
                  <a:pt x="447" y="495"/>
                </a:lnTo>
                <a:lnTo>
                  <a:pt x="437" y="486"/>
                </a:lnTo>
                <a:lnTo>
                  <a:pt x="428" y="477"/>
                </a:lnTo>
                <a:lnTo>
                  <a:pt x="417" y="468"/>
                </a:lnTo>
                <a:lnTo>
                  <a:pt x="469" y="446"/>
                </a:lnTo>
                <a:lnTo>
                  <a:pt x="469" y="446"/>
                </a:lnTo>
                <a:lnTo>
                  <a:pt x="471" y="444"/>
                </a:lnTo>
                <a:lnTo>
                  <a:pt x="471" y="444"/>
                </a:lnTo>
                <a:lnTo>
                  <a:pt x="471" y="444"/>
                </a:lnTo>
                <a:lnTo>
                  <a:pt x="473" y="442"/>
                </a:lnTo>
                <a:lnTo>
                  <a:pt x="473" y="442"/>
                </a:lnTo>
                <a:lnTo>
                  <a:pt x="473" y="441"/>
                </a:lnTo>
                <a:lnTo>
                  <a:pt x="474" y="441"/>
                </a:lnTo>
                <a:lnTo>
                  <a:pt x="500" y="432"/>
                </a:lnTo>
                <a:lnTo>
                  <a:pt x="500" y="430"/>
                </a:lnTo>
                <a:lnTo>
                  <a:pt x="502" y="430"/>
                </a:lnTo>
                <a:lnTo>
                  <a:pt x="502" y="428"/>
                </a:lnTo>
                <a:lnTo>
                  <a:pt x="502" y="426"/>
                </a:lnTo>
                <a:lnTo>
                  <a:pt x="504" y="424"/>
                </a:lnTo>
                <a:lnTo>
                  <a:pt x="504" y="424"/>
                </a:lnTo>
                <a:lnTo>
                  <a:pt x="504" y="422"/>
                </a:lnTo>
                <a:lnTo>
                  <a:pt x="504" y="421"/>
                </a:lnTo>
                <a:lnTo>
                  <a:pt x="504" y="421"/>
                </a:lnTo>
                <a:lnTo>
                  <a:pt x="504" y="421"/>
                </a:lnTo>
                <a:lnTo>
                  <a:pt x="504" y="419"/>
                </a:lnTo>
                <a:lnTo>
                  <a:pt x="504" y="419"/>
                </a:lnTo>
                <a:lnTo>
                  <a:pt x="502" y="419"/>
                </a:lnTo>
                <a:lnTo>
                  <a:pt x="502" y="419"/>
                </a:lnTo>
                <a:lnTo>
                  <a:pt x="500" y="419"/>
                </a:lnTo>
                <a:lnTo>
                  <a:pt x="500" y="417"/>
                </a:lnTo>
                <a:lnTo>
                  <a:pt x="495" y="421"/>
                </a:lnTo>
                <a:lnTo>
                  <a:pt x="491" y="424"/>
                </a:lnTo>
                <a:lnTo>
                  <a:pt x="485" y="428"/>
                </a:lnTo>
                <a:lnTo>
                  <a:pt x="480" y="430"/>
                </a:lnTo>
                <a:lnTo>
                  <a:pt x="474" y="433"/>
                </a:lnTo>
                <a:lnTo>
                  <a:pt x="469" y="435"/>
                </a:lnTo>
                <a:lnTo>
                  <a:pt x="463" y="435"/>
                </a:lnTo>
                <a:lnTo>
                  <a:pt x="456" y="435"/>
                </a:lnTo>
                <a:lnTo>
                  <a:pt x="456" y="435"/>
                </a:lnTo>
                <a:lnTo>
                  <a:pt x="456" y="433"/>
                </a:lnTo>
                <a:lnTo>
                  <a:pt x="454" y="433"/>
                </a:lnTo>
                <a:lnTo>
                  <a:pt x="454" y="433"/>
                </a:lnTo>
                <a:lnTo>
                  <a:pt x="452" y="433"/>
                </a:lnTo>
                <a:lnTo>
                  <a:pt x="450" y="432"/>
                </a:lnTo>
                <a:lnTo>
                  <a:pt x="450" y="432"/>
                </a:lnTo>
                <a:lnTo>
                  <a:pt x="449" y="432"/>
                </a:lnTo>
                <a:lnTo>
                  <a:pt x="391" y="439"/>
                </a:lnTo>
                <a:lnTo>
                  <a:pt x="378" y="435"/>
                </a:lnTo>
                <a:lnTo>
                  <a:pt x="378" y="435"/>
                </a:lnTo>
                <a:lnTo>
                  <a:pt x="378" y="435"/>
                </a:lnTo>
                <a:lnTo>
                  <a:pt x="377" y="437"/>
                </a:lnTo>
                <a:lnTo>
                  <a:pt x="377" y="437"/>
                </a:lnTo>
                <a:lnTo>
                  <a:pt x="377" y="437"/>
                </a:lnTo>
                <a:lnTo>
                  <a:pt x="375" y="437"/>
                </a:lnTo>
                <a:lnTo>
                  <a:pt x="375" y="437"/>
                </a:lnTo>
                <a:lnTo>
                  <a:pt x="375" y="439"/>
                </a:lnTo>
                <a:lnTo>
                  <a:pt x="373" y="439"/>
                </a:lnTo>
                <a:lnTo>
                  <a:pt x="373" y="437"/>
                </a:lnTo>
                <a:lnTo>
                  <a:pt x="371" y="437"/>
                </a:lnTo>
                <a:lnTo>
                  <a:pt x="371" y="437"/>
                </a:lnTo>
                <a:lnTo>
                  <a:pt x="371" y="435"/>
                </a:lnTo>
                <a:lnTo>
                  <a:pt x="371" y="435"/>
                </a:lnTo>
                <a:lnTo>
                  <a:pt x="369" y="433"/>
                </a:lnTo>
                <a:lnTo>
                  <a:pt x="369" y="433"/>
                </a:lnTo>
                <a:lnTo>
                  <a:pt x="354" y="430"/>
                </a:lnTo>
                <a:lnTo>
                  <a:pt x="340" y="424"/>
                </a:lnTo>
                <a:lnTo>
                  <a:pt x="325" y="419"/>
                </a:lnTo>
                <a:lnTo>
                  <a:pt x="312" y="412"/>
                </a:lnTo>
                <a:lnTo>
                  <a:pt x="299" y="404"/>
                </a:lnTo>
                <a:lnTo>
                  <a:pt x="286" y="395"/>
                </a:lnTo>
                <a:lnTo>
                  <a:pt x="275" y="388"/>
                </a:lnTo>
                <a:lnTo>
                  <a:pt x="264" y="377"/>
                </a:lnTo>
                <a:lnTo>
                  <a:pt x="260" y="375"/>
                </a:lnTo>
                <a:lnTo>
                  <a:pt x="257" y="373"/>
                </a:lnTo>
                <a:lnTo>
                  <a:pt x="253" y="370"/>
                </a:lnTo>
                <a:lnTo>
                  <a:pt x="249" y="368"/>
                </a:lnTo>
                <a:lnTo>
                  <a:pt x="245" y="364"/>
                </a:lnTo>
                <a:lnTo>
                  <a:pt x="240" y="361"/>
                </a:lnTo>
                <a:lnTo>
                  <a:pt x="236" y="357"/>
                </a:lnTo>
                <a:lnTo>
                  <a:pt x="231" y="355"/>
                </a:lnTo>
                <a:lnTo>
                  <a:pt x="229" y="353"/>
                </a:lnTo>
                <a:lnTo>
                  <a:pt x="229" y="352"/>
                </a:lnTo>
                <a:lnTo>
                  <a:pt x="227" y="350"/>
                </a:lnTo>
                <a:lnTo>
                  <a:pt x="227" y="348"/>
                </a:lnTo>
                <a:lnTo>
                  <a:pt x="225" y="346"/>
                </a:lnTo>
                <a:lnTo>
                  <a:pt x="225" y="344"/>
                </a:lnTo>
                <a:lnTo>
                  <a:pt x="223" y="343"/>
                </a:lnTo>
                <a:lnTo>
                  <a:pt x="222" y="339"/>
                </a:lnTo>
                <a:lnTo>
                  <a:pt x="179" y="370"/>
                </a:lnTo>
                <a:lnTo>
                  <a:pt x="177" y="379"/>
                </a:lnTo>
                <a:lnTo>
                  <a:pt x="174" y="386"/>
                </a:lnTo>
                <a:lnTo>
                  <a:pt x="168" y="392"/>
                </a:lnTo>
                <a:lnTo>
                  <a:pt x="161" y="397"/>
                </a:lnTo>
                <a:lnTo>
                  <a:pt x="155" y="402"/>
                </a:lnTo>
                <a:lnTo>
                  <a:pt x="148" y="406"/>
                </a:lnTo>
                <a:lnTo>
                  <a:pt x="140" y="412"/>
                </a:lnTo>
                <a:lnTo>
                  <a:pt x="133" y="415"/>
                </a:lnTo>
                <a:lnTo>
                  <a:pt x="124" y="421"/>
                </a:lnTo>
                <a:lnTo>
                  <a:pt x="113" y="424"/>
                </a:lnTo>
                <a:lnTo>
                  <a:pt x="102" y="428"/>
                </a:lnTo>
                <a:lnTo>
                  <a:pt x="90" y="432"/>
                </a:lnTo>
                <a:lnTo>
                  <a:pt x="79" y="433"/>
                </a:lnTo>
                <a:lnTo>
                  <a:pt x="68" y="435"/>
                </a:lnTo>
                <a:lnTo>
                  <a:pt x="59" y="435"/>
                </a:lnTo>
                <a:lnTo>
                  <a:pt x="48" y="435"/>
                </a:lnTo>
                <a:lnTo>
                  <a:pt x="46" y="435"/>
                </a:lnTo>
                <a:lnTo>
                  <a:pt x="44" y="433"/>
                </a:lnTo>
                <a:lnTo>
                  <a:pt x="42" y="432"/>
                </a:lnTo>
                <a:lnTo>
                  <a:pt x="42" y="430"/>
                </a:lnTo>
                <a:lnTo>
                  <a:pt x="42" y="428"/>
                </a:lnTo>
                <a:lnTo>
                  <a:pt x="41" y="424"/>
                </a:lnTo>
                <a:lnTo>
                  <a:pt x="41" y="422"/>
                </a:lnTo>
                <a:lnTo>
                  <a:pt x="39" y="421"/>
                </a:lnTo>
                <a:lnTo>
                  <a:pt x="48" y="408"/>
                </a:lnTo>
                <a:lnTo>
                  <a:pt x="57" y="397"/>
                </a:lnTo>
                <a:lnTo>
                  <a:pt x="68" y="388"/>
                </a:lnTo>
                <a:lnTo>
                  <a:pt x="79" y="379"/>
                </a:lnTo>
                <a:lnTo>
                  <a:pt x="90" y="368"/>
                </a:lnTo>
                <a:lnTo>
                  <a:pt x="102" y="359"/>
                </a:lnTo>
                <a:lnTo>
                  <a:pt x="111" y="348"/>
                </a:lnTo>
                <a:lnTo>
                  <a:pt x="120" y="337"/>
                </a:lnTo>
                <a:lnTo>
                  <a:pt x="138" y="304"/>
                </a:lnTo>
                <a:lnTo>
                  <a:pt x="164" y="283"/>
                </a:lnTo>
                <a:lnTo>
                  <a:pt x="196" y="270"/>
                </a:lnTo>
                <a:lnTo>
                  <a:pt x="229" y="263"/>
                </a:lnTo>
                <a:lnTo>
                  <a:pt x="266" y="259"/>
                </a:lnTo>
                <a:lnTo>
                  <a:pt x="303" y="254"/>
                </a:lnTo>
                <a:lnTo>
                  <a:pt x="340" y="248"/>
                </a:lnTo>
                <a:lnTo>
                  <a:pt x="375" y="239"/>
                </a:lnTo>
                <a:lnTo>
                  <a:pt x="386" y="237"/>
                </a:lnTo>
                <a:lnTo>
                  <a:pt x="399" y="237"/>
                </a:lnTo>
                <a:lnTo>
                  <a:pt x="412" y="239"/>
                </a:lnTo>
                <a:lnTo>
                  <a:pt x="423" y="241"/>
                </a:lnTo>
                <a:lnTo>
                  <a:pt x="436" y="243"/>
                </a:lnTo>
                <a:lnTo>
                  <a:pt x="447" y="245"/>
                </a:lnTo>
                <a:lnTo>
                  <a:pt x="460" y="245"/>
                </a:lnTo>
                <a:lnTo>
                  <a:pt x="471" y="243"/>
                </a:lnTo>
                <a:lnTo>
                  <a:pt x="509" y="234"/>
                </a:lnTo>
                <a:lnTo>
                  <a:pt x="545" y="217"/>
                </a:lnTo>
                <a:lnTo>
                  <a:pt x="576" y="196"/>
                </a:lnTo>
                <a:lnTo>
                  <a:pt x="605" y="170"/>
                </a:lnTo>
                <a:lnTo>
                  <a:pt x="633" y="143"/>
                </a:lnTo>
                <a:lnTo>
                  <a:pt x="661" y="116"/>
                </a:lnTo>
                <a:lnTo>
                  <a:pt x="690" y="89"/>
                </a:lnTo>
                <a:lnTo>
                  <a:pt x="720" y="65"/>
                </a:lnTo>
                <a:lnTo>
                  <a:pt x="727" y="59"/>
                </a:lnTo>
                <a:lnTo>
                  <a:pt x="733" y="52"/>
                </a:lnTo>
                <a:lnTo>
                  <a:pt x="738" y="45"/>
                </a:lnTo>
                <a:lnTo>
                  <a:pt x="746" y="38"/>
                </a:lnTo>
                <a:lnTo>
                  <a:pt x="751" y="32"/>
                </a:lnTo>
                <a:lnTo>
                  <a:pt x="757" y="25"/>
                </a:lnTo>
                <a:lnTo>
                  <a:pt x="764" y="18"/>
                </a:lnTo>
                <a:lnTo>
                  <a:pt x="770" y="10"/>
                </a:lnTo>
                <a:lnTo>
                  <a:pt x="768" y="9"/>
                </a:lnTo>
                <a:lnTo>
                  <a:pt x="766" y="7"/>
                </a:lnTo>
                <a:lnTo>
                  <a:pt x="764" y="5"/>
                </a:lnTo>
                <a:lnTo>
                  <a:pt x="762" y="3"/>
                </a:lnTo>
                <a:lnTo>
                  <a:pt x="759" y="3"/>
                </a:lnTo>
                <a:lnTo>
                  <a:pt x="755" y="1"/>
                </a:lnTo>
                <a:lnTo>
                  <a:pt x="751" y="1"/>
                </a:lnTo>
                <a:lnTo>
                  <a:pt x="7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4760" y="1913040"/>
            <a:ext cx="812880" cy="469800"/>
          </a:xfrm>
          <a:custGeom>
            <a:avLst/>
            <a:gdLst/>
            <a:ahLst/>
            <a:rect l="l" t="t" r="r" b="b"/>
            <a:pathLst>
              <a:path w="512" h="296">
                <a:moveTo>
                  <a:pt x="32" y="0"/>
                </a:moveTo>
                <a:lnTo>
                  <a:pt x="28" y="2"/>
                </a:lnTo>
                <a:lnTo>
                  <a:pt x="24" y="2"/>
                </a:lnTo>
                <a:lnTo>
                  <a:pt x="21" y="4"/>
                </a:lnTo>
                <a:lnTo>
                  <a:pt x="17" y="4"/>
                </a:lnTo>
                <a:lnTo>
                  <a:pt x="13" y="4"/>
                </a:lnTo>
                <a:lnTo>
                  <a:pt x="9" y="4"/>
                </a:lnTo>
                <a:lnTo>
                  <a:pt x="6" y="2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17" y="25"/>
                </a:lnTo>
                <a:lnTo>
                  <a:pt x="45" y="47"/>
                </a:lnTo>
                <a:lnTo>
                  <a:pt x="76" y="74"/>
                </a:lnTo>
                <a:lnTo>
                  <a:pt x="113" y="102"/>
                </a:lnTo>
                <a:lnTo>
                  <a:pt x="150" y="129"/>
                </a:lnTo>
                <a:lnTo>
                  <a:pt x="183" y="154"/>
                </a:lnTo>
                <a:lnTo>
                  <a:pt x="213" y="178"/>
                </a:lnTo>
                <a:lnTo>
                  <a:pt x="235" y="194"/>
                </a:lnTo>
                <a:lnTo>
                  <a:pt x="251" y="211"/>
                </a:lnTo>
                <a:lnTo>
                  <a:pt x="270" y="225"/>
                </a:lnTo>
                <a:lnTo>
                  <a:pt x="288" y="240"/>
                </a:lnTo>
                <a:lnTo>
                  <a:pt x="307" y="254"/>
                </a:lnTo>
                <a:lnTo>
                  <a:pt x="325" y="267"/>
                </a:lnTo>
                <a:lnTo>
                  <a:pt x="345" y="278"/>
                </a:lnTo>
                <a:lnTo>
                  <a:pt x="368" y="289"/>
                </a:lnTo>
                <a:lnTo>
                  <a:pt x="390" y="296"/>
                </a:lnTo>
                <a:lnTo>
                  <a:pt x="397" y="296"/>
                </a:lnTo>
                <a:lnTo>
                  <a:pt x="403" y="294"/>
                </a:lnTo>
                <a:lnTo>
                  <a:pt x="410" y="294"/>
                </a:lnTo>
                <a:lnTo>
                  <a:pt x="417" y="292"/>
                </a:lnTo>
                <a:lnTo>
                  <a:pt x="423" y="290"/>
                </a:lnTo>
                <a:lnTo>
                  <a:pt x="430" y="290"/>
                </a:lnTo>
                <a:lnTo>
                  <a:pt x="436" y="289"/>
                </a:lnTo>
                <a:lnTo>
                  <a:pt x="443" y="287"/>
                </a:lnTo>
                <a:lnTo>
                  <a:pt x="451" y="289"/>
                </a:lnTo>
                <a:lnTo>
                  <a:pt x="458" y="289"/>
                </a:lnTo>
                <a:lnTo>
                  <a:pt x="467" y="289"/>
                </a:lnTo>
                <a:lnTo>
                  <a:pt x="475" y="289"/>
                </a:lnTo>
                <a:lnTo>
                  <a:pt x="482" y="290"/>
                </a:lnTo>
                <a:lnTo>
                  <a:pt x="489" y="290"/>
                </a:lnTo>
                <a:lnTo>
                  <a:pt x="497" y="292"/>
                </a:lnTo>
                <a:lnTo>
                  <a:pt x="504" y="294"/>
                </a:lnTo>
                <a:lnTo>
                  <a:pt x="504" y="292"/>
                </a:lnTo>
                <a:lnTo>
                  <a:pt x="506" y="292"/>
                </a:lnTo>
                <a:lnTo>
                  <a:pt x="506" y="292"/>
                </a:lnTo>
                <a:lnTo>
                  <a:pt x="508" y="290"/>
                </a:lnTo>
                <a:lnTo>
                  <a:pt x="510" y="290"/>
                </a:lnTo>
                <a:lnTo>
                  <a:pt x="510" y="290"/>
                </a:lnTo>
                <a:lnTo>
                  <a:pt x="512" y="289"/>
                </a:lnTo>
                <a:lnTo>
                  <a:pt x="512" y="287"/>
                </a:lnTo>
                <a:lnTo>
                  <a:pt x="504" y="283"/>
                </a:lnTo>
                <a:lnTo>
                  <a:pt x="497" y="279"/>
                </a:lnTo>
                <a:lnTo>
                  <a:pt x="488" y="278"/>
                </a:lnTo>
                <a:lnTo>
                  <a:pt x="478" y="276"/>
                </a:lnTo>
                <a:lnTo>
                  <a:pt x="469" y="276"/>
                </a:lnTo>
                <a:lnTo>
                  <a:pt x="458" y="276"/>
                </a:lnTo>
                <a:lnTo>
                  <a:pt x="449" y="276"/>
                </a:lnTo>
                <a:lnTo>
                  <a:pt x="440" y="276"/>
                </a:lnTo>
                <a:lnTo>
                  <a:pt x="421" y="279"/>
                </a:lnTo>
                <a:lnTo>
                  <a:pt x="405" y="279"/>
                </a:lnTo>
                <a:lnTo>
                  <a:pt x="388" y="278"/>
                </a:lnTo>
                <a:lnTo>
                  <a:pt x="371" y="272"/>
                </a:lnTo>
                <a:lnTo>
                  <a:pt x="357" y="267"/>
                </a:lnTo>
                <a:lnTo>
                  <a:pt x="344" y="258"/>
                </a:lnTo>
                <a:lnTo>
                  <a:pt x="331" y="249"/>
                </a:lnTo>
                <a:lnTo>
                  <a:pt x="318" y="240"/>
                </a:lnTo>
                <a:lnTo>
                  <a:pt x="316" y="238"/>
                </a:lnTo>
                <a:lnTo>
                  <a:pt x="316" y="236"/>
                </a:lnTo>
                <a:lnTo>
                  <a:pt x="314" y="236"/>
                </a:lnTo>
                <a:lnTo>
                  <a:pt x="314" y="234"/>
                </a:lnTo>
                <a:lnTo>
                  <a:pt x="312" y="234"/>
                </a:lnTo>
                <a:lnTo>
                  <a:pt x="312" y="232"/>
                </a:lnTo>
                <a:lnTo>
                  <a:pt x="312" y="232"/>
                </a:lnTo>
                <a:lnTo>
                  <a:pt x="310" y="232"/>
                </a:lnTo>
                <a:lnTo>
                  <a:pt x="310" y="232"/>
                </a:lnTo>
                <a:lnTo>
                  <a:pt x="309" y="230"/>
                </a:lnTo>
                <a:lnTo>
                  <a:pt x="309" y="230"/>
                </a:lnTo>
                <a:lnTo>
                  <a:pt x="307" y="229"/>
                </a:lnTo>
                <a:lnTo>
                  <a:pt x="307" y="229"/>
                </a:lnTo>
                <a:lnTo>
                  <a:pt x="305" y="227"/>
                </a:lnTo>
                <a:lnTo>
                  <a:pt x="305" y="227"/>
                </a:lnTo>
                <a:lnTo>
                  <a:pt x="303" y="227"/>
                </a:lnTo>
                <a:lnTo>
                  <a:pt x="281" y="207"/>
                </a:lnTo>
                <a:lnTo>
                  <a:pt x="248" y="183"/>
                </a:lnTo>
                <a:lnTo>
                  <a:pt x="209" y="152"/>
                </a:lnTo>
                <a:lnTo>
                  <a:pt x="168" y="122"/>
                </a:lnTo>
                <a:lnTo>
                  <a:pt x="126" y="89"/>
                </a:lnTo>
                <a:lnTo>
                  <a:pt x="91" y="58"/>
                </a:lnTo>
                <a:lnTo>
                  <a:pt x="61" y="29"/>
                </a:lnTo>
                <a:lnTo>
                  <a:pt x="43" y="7"/>
                </a:lnTo>
                <a:lnTo>
                  <a:pt x="43" y="5"/>
                </a:lnTo>
                <a:lnTo>
                  <a:pt x="43" y="5"/>
                </a:lnTo>
                <a:lnTo>
                  <a:pt x="41" y="4"/>
                </a:lnTo>
                <a:lnTo>
                  <a:pt x="41" y="4"/>
                </a:lnTo>
                <a:lnTo>
                  <a:pt x="39" y="2"/>
                </a:lnTo>
                <a:lnTo>
                  <a:pt x="37" y="2"/>
                </a:lnTo>
                <a:lnTo>
                  <a:pt x="37" y="0"/>
                </a:lnTo>
                <a:lnTo>
                  <a:pt x="35" y="0"/>
                </a:lnTo>
                <a:lnTo>
                  <a:pt x="35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31000" y="2216160"/>
            <a:ext cx="2057400" cy="1068480"/>
          </a:xfrm>
          <a:custGeom>
            <a:avLst/>
            <a:gdLst/>
            <a:ahLst/>
            <a:rect l="l" t="t" r="r" b="b"/>
            <a:pathLst>
              <a:path w="1296" h="673">
                <a:moveTo>
                  <a:pt x="1296" y="0"/>
                </a:moveTo>
                <a:lnTo>
                  <a:pt x="1283" y="29"/>
                </a:lnTo>
                <a:lnTo>
                  <a:pt x="1263" y="58"/>
                </a:lnTo>
                <a:lnTo>
                  <a:pt x="1237" y="87"/>
                </a:lnTo>
                <a:lnTo>
                  <a:pt x="1210" y="116"/>
                </a:lnTo>
                <a:lnTo>
                  <a:pt x="1178" y="143"/>
                </a:lnTo>
                <a:lnTo>
                  <a:pt x="1145" y="170"/>
                </a:lnTo>
                <a:lnTo>
                  <a:pt x="1114" y="197"/>
                </a:lnTo>
                <a:lnTo>
                  <a:pt x="1084" y="221"/>
                </a:lnTo>
                <a:lnTo>
                  <a:pt x="1073" y="228"/>
                </a:lnTo>
                <a:lnTo>
                  <a:pt x="1064" y="235"/>
                </a:lnTo>
                <a:lnTo>
                  <a:pt x="1055" y="243"/>
                </a:lnTo>
                <a:lnTo>
                  <a:pt x="1043" y="250"/>
                </a:lnTo>
                <a:lnTo>
                  <a:pt x="1034" y="257"/>
                </a:lnTo>
                <a:lnTo>
                  <a:pt x="1023" y="265"/>
                </a:lnTo>
                <a:lnTo>
                  <a:pt x="1012" y="268"/>
                </a:lnTo>
                <a:lnTo>
                  <a:pt x="999" y="274"/>
                </a:lnTo>
                <a:lnTo>
                  <a:pt x="999" y="274"/>
                </a:lnTo>
                <a:lnTo>
                  <a:pt x="997" y="272"/>
                </a:lnTo>
                <a:lnTo>
                  <a:pt x="997" y="272"/>
                </a:lnTo>
                <a:lnTo>
                  <a:pt x="995" y="272"/>
                </a:lnTo>
                <a:lnTo>
                  <a:pt x="995" y="272"/>
                </a:lnTo>
                <a:lnTo>
                  <a:pt x="994" y="272"/>
                </a:lnTo>
                <a:lnTo>
                  <a:pt x="994" y="272"/>
                </a:lnTo>
                <a:lnTo>
                  <a:pt x="994" y="270"/>
                </a:lnTo>
                <a:lnTo>
                  <a:pt x="971" y="212"/>
                </a:lnTo>
                <a:lnTo>
                  <a:pt x="971" y="212"/>
                </a:lnTo>
                <a:lnTo>
                  <a:pt x="971" y="210"/>
                </a:lnTo>
                <a:lnTo>
                  <a:pt x="970" y="210"/>
                </a:lnTo>
                <a:lnTo>
                  <a:pt x="968" y="212"/>
                </a:lnTo>
                <a:lnTo>
                  <a:pt x="968" y="212"/>
                </a:lnTo>
                <a:lnTo>
                  <a:pt x="966" y="214"/>
                </a:lnTo>
                <a:lnTo>
                  <a:pt x="966" y="214"/>
                </a:lnTo>
                <a:lnTo>
                  <a:pt x="964" y="214"/>
                </a:lnTo>
                <a:lnTo>
                  <a:pt x="960" y="235"/>
                </a:lnTo>
                <a:lnTo>
                  <a:pt x="957" y="257"/>
                </a:lnTo>
                <a:lnTo>
                  <a:pt x="955" y="279"/>
                </a:lnTo>
                <a:lnTo>
                  <a:pt x="951" y="303"/>
                </a:lnTo>
                <a:lnTo>
                  <a:pt x="947" y="324"/>
                </a:lnTo>
                <a:lnTo>
                  <a:pt x="940" y="346"/>
                </a:lnTo>
                <a:lnTo>
                  <a:pt x="933" y="366"/>
                </a:lnTo>
                <a:lnTo>
                  <a:pt x="922" y="386"/>
                </a:lnTo>
                <a:lnTo>
                  <a:pt x="909" y="381"/>
                </a:lnTo>
                <a:lnTo>
                  <a:pt x="909" y="381"/>
                </a:lnTo>
                <a:lnTo>
                  <a:pt x="909" y="381"/>
                </a:lnTo>
                <a:lnTo>
                  <a:pt x="909" y="381"/>
                </a:lnTo>
                <a:lnTo>
                  <a:pt x="907" y="381"/>
                </a:lnTo>
                <a:lnTo>
                  <a:pt x="907" y="381"/>
                </a:lnTo>
                <a:lnTo>
                  <a:pt x="907" y="381"/>
                </a:lnTo>
                <a:lnTo>
                  <a:pt x="905" y="381"/>
                </a:lnTo>
                <a:lnTo>
                  <a:pt x="905" y="381"/>
                </a:lnTo>
                <a:lnTo>
                  <a:pt x="903" y="383"/>
                </a:lnTo>
                <a:lnTo>
                  <a:pt x="903" y="383"/>
                </a:lnTo>
                <a:lnTo>
                  <a:pt x="901" y="384"/>
                </a:lnTo>
                <a:lnTo>
                  <a:pt x="901" y="386"/>
                </a:lnTo>
                <a:lnTo>
                  <a:pt x="901" y="388"/>
                </a:lnTo>
                <a:lnTo>
                  <a:pt x="901" y="390"/>
                </a:lnTo>
                <a:lnTo>
                  <a:pt x="901" y="392"/>
                </a:lnTo>
                <a:lnTo>
                  <a:pt x="901" y="393"/>
                </a:lnTo>
                <a:lnTo>
                  <a:pt x="929" y="422"/>
                </a:lnTo>
                <a:lnTo>
                  <a:pt x="940" y="430"/>
                </a:lnTo>
                <a:lnTo>
                  <a:pt x="964" y="455"/>
                </a:lnTo>
                <a:lnTo>
                  <a:pt x="973" y="491"/>
                </a:lnTo>
                <a:lnTo>
                  <a:pt x="960" y="511"/>
                </a:lnTo>
                <a:lnTo>
                  <a:pt x="807" y="455"/>
                </a:lnTo>
                <a:lnTo>
                  <a:pt x="807" y="457"/>
                </a:lnTo>
                <a:lnTo>
                  <a:pt x="805" y="457"/>
                </a:lnTo>
                <a:lnTo>
                  <a:pt x="805" y="459"/>
                </a:lnTo>
                <a:lnTo>
                  <a:pt x="803" y="459"/>
                </a:lnTo>
                <a:lnTo>
                  <a:pt x="803" y="461"/>
                </a:lnTo>
                <a:lnTo>
                  <a:pt x="803" y="462"/>
                </a:lnTo>
                <a:lnTo>
                  <a:pt x="803" y="464"/>
                </a:lnTo>
                <a:lnTo>
                  <a:pt x="802" y="464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7"/>
                </a:lnTo>
                <a:lnTo>
                  <a:pt x="763" y="479"/>
                </a:lnTo>
                <a:lnTo>
                  <a:pt x="761" y="479"/>
                </a:lnTo>
                <a:lnTo>
                  <a:pt x="761" y="481"/>
                </a:lnTo>
                <a:lnTo>
                  <a:pt x="761" y="481"/>
                </a:lnTo>
                <a:lnTo>
                  <a:pt x="761" y="482"/>
                </a:lnTo>
                <a:lnTo>
                  <a:pt x="761" y="484"/>
                </a:lnTo>
                <a:lnTo>
                  <a:pt x="763" y="484"/>
                </a:lnTo>
                <a:lnTo>
                  <a:pt x="763" y="486"/>
                </a:lnTo>
                <a:lnTo>
                  <a:pt x="765" y="486"/>
                </a:lnTo>
                <a:lnTo>
                  <a:pt x="765" y="486"/>
                </a:lnTo>
                <a:lnTo>
                  <a:pt x="767" y="486"/>
                </a:lnTo>
                <a:lnTo>
                  <a:pt x="781" y="486"/>
                </a:lnTo>
                <a:lnTo>
                  <a:pt x="796" y="488"/>
                </a:lnTo>
                <a:lnTo>
                  <a:pt x="811" y="491"/>
                </a:lnTo>
                <a:lnTo>
                  <a:pt x="826" y="495"/>
                </a:lnTo>
                <a:lnTo>
                  <a:pt x="840" y="500"/>
                </a:lnTo>
                <a:lnTo>
                  <a:pt x="855" y="504"/>
                </a:lnTo>
                <a:lnTo>
                  <a:pt x="870" y="508"/>
                </a:lnTo>
                <a:lnTo>
                  <a:pt x="885" y="511"/>
                </a:lnTo>
                <a:lnTo>
                  <a:pt x="909" y="537"/>
                </a:lnTo>
                <a:lnTo>
                  <a:pt x="905" y="542"/>
                </a:lnTo>
                <a:lnTo>
                  <a:pt x="901" y="548"/>
                </a:lnTo>
                <a:lnTo>
                  <a:pt x="898" y="551"/>
                </a:lnTo>
                <a:lnTo>
                  <a:pt x="894" y="555"/>
                </a:lnTo>
                <a:lnTo>
                  <a:pt x="888" y="559"/>
                </a:lnTo>
                <a:lnTo>
                  <a:pt x="883" y="562"/>
                </a:lnTo>
                <a:lnTo>
                  <a:pt x="877" y="564"/>
                </a:lnTo>
                <a:lnTo>
                  <a:pt x="870" y="564"/>
                </a:lnTo>
                <a:lnTo>
                  <a:pt x="850" y="564"/>
                </a:lnTo>
                <a:lnTo>
                  <a:pt x="829" y="562"/>
                </a:lnTo>
                <a:lnTo>
                  <a:pt x="811" y="559"/>
                </a:lnTo>
                <a:lnTo>
                  <a:pt x="792" y="553"/>
                </a:lnTo>
                <a:lnTo>
                  <a:pt x="774" y="546"/>
                </a:lnTo>
                <a:lnTo>
                  <a:pt x="757" y="539"/>
                </a:lnTo>
                <a:lnTo>
                  <a:pt x="743" y="531"/>
                </a:lnTo>
                <a:lnTo>
                  <a:pt x="726" y="524"/>
                </a:lnTo>
                <a:lnTo>
                  <a:pt x="724" y="524"/>
                </a:lnTo>
                <a:lnTo>
                  <a:pt x="724" y="526"/>
                </a:lnTo>
                <a:lnTo>
                  <a:pt x="722" y="526"/>
                </a:lnTo>
                <a:lnTo>
                  <a:pt x="722" y="528"/>
                </a:lnTo>
                <a:lnTo>
                  <a:pt x="722" y="530"/>
                </a:lnTo>
                <a:lnTo>
                  <a:pt x="720" y="531"/>
                </a:lnTo>
                <a:lnTo>
                  <a:pt x="720" y="531"/>
                </a:lnTo>
                <a:lnTo>
                  <a:pt x="719" y="533"/>
                </a:lnTo>
                <a:lnTo>
                  <a:pt x="717" y="533"/>
                </a:lnTo>
                <a:lnTo>
                  <a:pt x="717" y="535"/>
                </a:lnTo>
                <a:lnTo>
                  <a:pt x="715" y="537"/>
                </a:lnTo>
                <a:lnTo>
                  <a:pt x="715" y="537"/>
                </a:lnTo>
                <a:lnTo>
                  <a:pt x="713" y="537"/>
                </a:lnTo>
                <a:lnTo>
                  <a:pt x="713" y="539"/>
                </a:lnTo>
                <a:lnTo>
                  <a:pt x="711" y="539"/>
                </a:lnTo>
                <a:lnTo>
                  <a:pt x="709" y="539"/>
                </a:lnTo>
                <a:lnTo>
                  <a:pt x="709" y="539"/>
                </a:lnTo>
                <a:lnTo>
                  <a:pt x="707" y="540"/>
                </a:lnTo>
                <a:lnTo>
                  <a:pt x="707" y="542"/>
                </a:lnTo>
                <a:lnTo>
                  <a:pt x="707" y="542"/>
                </a:lnTo>
                <a:lnTo>
                  <a:pt x="707" y="544"/>
                </a:lnTo>
                <a:lnTo>
                  <a:pt x="707" y="546"/>
                </a:lnTo>
                <a:lnTo>
                  <a:pt x="707" y="546"/>
                </a:lnTo>
                <a:lnTo>
                  <a:pt x="707" y="548"/>
                </a:lnTo>
                <a:lnTo>
                  <a:pt x="807" y="584"/>
                </a:lnTo>
                <a:lnTo>
                  <a:pt x="807" y="586"/>
                </a:lnTo>
                <a:lnTo>
                  <a:pt x="807" y="586"/>
                </a:lnTo>
                <a:lnTo>
                  <a:pt x="807" y="588"/>
                </a:lnTo>
                <a:lnTo>
                  <a:pt x="807" y="588"/>
                </a:lnTo>
                <a:lnTo>
                  <a:pt x="807" y="589"/>
                </a:lnTo>
                <a:lnTo>
                  <a:pt x="807" y="589"/>
                </a:lnTo>
                <a:lnTo>
                  <a:pt x="807" y="591"/>
                </a:lnTo>
                <a:lnTo>
                  <a:pt x="807" y="591"/>
                </a:lnTo>
                <a:lnTo>
                  <a:pt x="792" y="597"/>
                </a:lnTo>
                <a:lnTo>
                  <a:pt x="776" y="598"/>
                </a:lnTo>
                <a:lnTo>
                  <a:pt x="759" y="598"/>
                </a:lnTo>
                <a:lnTo>
                  <a:pt x="743" y="597"/>
                </a:lnTo>
                <a:lnTo>
                  <a:pt x="726" y="595"/>
                </a:lnTo>
                <a:lnTo>
                  <a:pt x="707" y="591"/>
                </a:lnTo>
                <a:lnTo>
                  <a:pt x="691" y="588"/>
                </a:lnTo>
                <a:lnTo>
                  <a:pt x="676" y="584"/>
                </a:lnTo>
                <a:lnTo>
                  <a:pt x="674" y="582"/>
                </a:lnTo>
                <a:lnTo>
                  <a:pt x="672" y="582"/>
                </a:lnTo>
                <a:lnTo>
                  <a:pt x="672" y="582"/>
                </a:lnTo>
                <a:lnTo>
                  <a:pt x="671" y="580"/>
                </a:lnTo>
                <a:lnTo>
                  <a:pt x="669" y="580"/>
                </a:lnTo>
                <a:lnTo>
                  <a:pt x="669" y="580"/>
                </a:lnTo>
                <a:lnTo>
                  <a:pt x="667" y="580"/>
                </a:lnTo>
                <a:lnTo>
                  <a:pt x="667" y="579"/>
                </a:lnTo>
                <a:lnTo>
                  <a:pt x="665" y="580"/>
                </a:lnTo>
                <a:lnTo>
                  <a:pt x="663" y="580"/>
                </a:lnTo>
                <a:lnTo>
                  <a:pt x="661" y="580"/>
                </a:lnTo>
                <a:lnTo>
                  <a:pt x="661" y="580"/>
                </a:lnTo>
                <a:lnTo>
                  <a:pt x="659" y="580"/>
                </a:lnTo>
                <a:lnTo>
                  <a:pt x="658" y="582"/>
                </a:lnTo>
                <a:lnTo>
                  <a:pt x="658" y="582"/>
                </a:lnTo>
                <a:lnTo>
                  <a:pt x="656" y="584"/>
                </a:lnTo>
                <a:lnTo>
                  <a:pt x="669" y="604"/>
                </a:lnTo>
                <a:lnTo>
                  <a:pt x="669" y="608"/>
                </a:lnTo>
                <a:lnTo>
                  <a:pt x="669" y="609"/>
                </a:lnTo>
                <a:lnTo>
                  <a:pt x="669" y="611"/>
                </a:lnTo>
                <a:lnTo>
                  <a:pt x="667" y="613"/>
                </a:lnTo>
                <a:lnTo>
                  <a:pt x="667" y="615"/>
                </a:lnTo>
                <a:lnTo>
                  <a:pt x="665" y="617"/>
                </a:lnTo>
                <a:lnTo>
                  <a:pt x="663" y="618"/>
                </a:lnTo>
                <a:lnTo>
                  <a:pt x="663" y="620"/>
                </a:lnTo>
                <a:lnTo>
                  <a:pt x="652" y="620"/>
                </a:lnTo>
                <a:lnTo>
                  <a:pt x="639" y="624"/>
                </a:lnTo>
                <a:lnTo>
                  <a:pt x="575" y="609"/>
                </a:lnTo>
                <a:lnTo>
                  <a:pt x="569" y="604"/>
                </a:lnTo>
                <a:lnTo>
                  <a:pt x="562" y="602"/>
                </a:lnTo>
                <a:lnTo>
                  <a:pt x="552" y="600"/>
                </a:lnTo>
                <a:lnTo>
                  <a:pt x="543" y="600"/>
                </a:lnTo>
                <a:lnTo>
                  <a:pt x="534" y="600"/>
                </a:lnTo>
                <a:lnTo>
                  <a:pt x="527" y="600"/>
                </a:lnTo>
                <a:lnTo>
                  <a:pt x="517" y="598"/>
                </a:lnTo>
                <a:lnTo>
                  <a:pt x="510" y="595"/>
                </a:lnTo>
                <a:lnTo>
                  <a:pt x="508" y="593"/>
                </a:lnTo>
                <a:lnTo>
                  <a:pt x="508" y="593"/>
                </a:lnTo>
                <a:lnTo>
                  <a:pt x="506" y="593"/>
                </a:lnTo>
                <a:lnTo>
                  <a:pt x="506" y="591"/>
                </a:lnTo>
                <a:lnTo>
                  <a:pt x="504" y="591"/>
                </a:lnTo>
                <a:lnTo>
                  <a:pt x="504" y="591"/>
                </a:lnTo>
                <a:lnTo>
                  <a:pt x="504" y="591"/>
                </a:lnTo>
                <a:lnTo>
                  <a:pt x="504" y="591"/>
                </a:lnTo>
                <a:lnTo>
                  <a:pt x="503" y="591"/>
                </a:lnTo>
                <a:lnTo>
                  <a:pt x="501" y="591"/>
                </a:lnTo>
                <a:lnTo>
                  <a:pt x="499" y="591"/>
                </a:lnTo>
                <a:lnTo>
                  <a:pt x="499" y="591"/>
                </a:lnTo>
                <a:lnTo>
                  <a:pt x="497" y="589"/>
                </a:lnTo>
                <a:lnTo>
                  <a:pt x="495" y="588"/>
                </a:lnTo>
                <a:lnTo>
                  <a:pt x="495" y="586"/>
                </a:lnTo>
                <a:lnTo>
                  <a:pt x="493" y="584"/>
                </a:lnTo>
                <a:lnTo>
                  <a:pt x="497" y="580"/>
                </a:lnTo>
                <a:lnTo>
                  <a:pt x="499" y="575"/>
                </a:lnTo>
                <a:lnTo>
                  <a:pt x="501" y="569"/>
                </a:lnTo>
                <a:lnTo>
                  <a:pt x="503" y="564"/>
                </a:lnTo>
                <a:lnTo>
                  <a:pt x="504" y="559"/>
                </a:lnTo>
                <a:lnTo>
                  <a:pt x="504" y="553"/>
                </a:lnTo>
                <a:lnTo>
                  <a:pt x="503" y="548"/>
                </a:lnTo>
                <a:lnTo>
                  <a:pt x="503" y="544"/>
                </a:lnTo>
                <a:lnTo>
                  <a:pt x="501" y="540"/>
                </a:lnTo>
                <a:lnTo>
                  <a:pt x="499" y="539"/>
                </a:lnTo>
                <a:lnTo>
                  <a:pt x="497" y="535"/>
                </a:lnTo>
                <a:lnTo>
                  <a:pt x="495" y="533"/>
                </a:lnTo>
                <a:lnTo>
                  <a:pt x="493" y="531"/>
                </a:lnTo>
                <a:lnTo>
                  <a:pt x="490" y="530"/>
                </a:lnTo>
                <a:lnTo>
                  <a:pt x="488" y="528"/>
                </a:lnTo>
                <a:lnTo>
                  <a:pt x="486" y="526"/>
                </a:lnTo>
                <a:lnTo>
                  <a:pt x="477" y="524"/>
                </a:lnTo>
                <a:lnTo>
                  <a:pt x="469" y="524"/>
                </a:lnTo>
                <a:lnTo>
                  <a:pt x="460" y="524"/>
                </a:lnTo>
                <a:lnTo>
                  <a:pt x="451" y="526"/>
                </a:lnTo>
                <a:lnTo>
                  <a:pt x="442" y="530"/>
                </a:lnTo>
                <a:lnTo>
                  <a:pt x="434" y="533"/>
                </a:lnTo>
                <a:lnTo>
                  <a:pt x="427" y="537"/>
                </a:lnTo>
                <a:lnTo>
                  <a:pt x="421" y="542"/>
                </a:lnTo>
                <a:lnTo>
                  <a:pt x="410" y="537"/>
                </a:lnTo>
                <a:lnTo>
                  <a:pt x="410" y="531"/>
                </a:lnTo>
                <a:lnTo>
                  <a:pt x="412" y="524"/>
                </a:lnTo>
                <a:lnTo>
                  <a:pt x="414" y="517"/>
                </a:lnTo>
                <a:lnTo>
                  <a:pt x="418" y="510"/>
                </a:lnTo>
                <a:lnTo>
                  <a:pt x="418" y="502"/>
                </a:lnTo>
                <a:lnTo>
                  <a:pt x="418" y="493"/>
                </a:lnTo>
                <a:lnTo>
                  <a:pt x="416" y="484"/>
                </a:lnTo>
                <a:lnTo>
                  <a:pt x="412" y="477"/>
                </a:lnTo>
                <a:lnTo>
                  <a:pt x="405" y="473"/>
                </a:lnTo>
                <a:lnTo>
                  <a:pt x="397" y="471"/>
                </a:lnTo>
                <a:lnTo>
                  <a:pt x="390" y="471"/>
                </a:lnTo>
                <a:lnTo>
                  <a:pt x="383" y="470"/>
                </a:lnTo>
                <a:lnTo>
                  <a:pt x="375" y="471"/>
                </a:lnTo>
                <a:lnTo>
                  <a:pt x="366" y="473"/>
                </a:lnTo>
                <a:lnTo>
                  <a:pt x="359" y="475"/>
                </a:lnTo>
                <a:lnTo>
                  <a:pt x="351" y="479"/>
                </a:lnTo>
                <a:lnTo>
                  <a:pt x="349" y="481"/>
                </a:lnTo>
                <a:lnTo>
                  <a:pt x="346" y="482"/>
                </a:lnTo>
                <a:lnTo>
                  <a:pt x="344" y="486"/>
                </a:lnTo>
                <a:lnTo>
                  <a:pt x="340" y="488"/>
                </a:lnTo>
                <a:lnTo>
                  <a:pt x="338" y="490"/>
                </a:lnTo>
                <a:lnTo>
                  <a:pt x="336" y="491"/>
                </a:lnTo>
                <a:lnTo>
                  <a:pt x="333" y="491"/>
                </a:lnTo>
                <a:lnTo>
                  <a:pt x="329" y="491"/>
                </a:lnTo>
                <a:lnTo>
                  <a:pt x="311" y="477"/>
                </a:lnTo>
                <a:lnTo>
                  <a:pt x="301" y="448"/>
                </a:lnTo>
                <a:lnTo>
                  <a:pt x="261" y="435"/>
                </a:lnTo>
                <a:lnTo>
                  <a:pt x="240" y="417"/>
                </a:lnTo>
                <a:lnTo>
                  <a:pt x="224" y="395"/>
                </a:lnTo>
                <a:lnTo>
                  <a:pt x="209" y="373"/>
                </a:lnTo>
                <a:lnTo>
                  <a:pt x="198" y="350"/>
                </a:lnTo>
                <a:lnTo>
                  <a:pt x="187" y="324"/>
                </a:lnTo>
                <a:lnTo>
                  <a:pt x="176" y="299"/>
                </a:lnTo>
                <a:lnTo>
                  <a:pt x="165" y="274"/>
                </a:lnTo>
                <a:lnTo>
                  <a:pt x="152" y="248"/>
                </a:lnTo>
                <a:lnTo>
                  <a:pt x="128" y="235"/>
                </a:lnTo>
                <a:lnTo>
                  <a:pt x="109" y="223"/>
                </a:lnTo>
                <a:lnTo>
                  <a:pt x="95" y="214"/>
                </a:lnTo>
                <a:lnTo>
                  <a:pt x="80" y="203"/>
                </a:lnTo>
                <a:lnTo>
                  <a:pt x="65" y="192"/>
                </a:lnTo>
                <a:lnTo>
                  <a:pt x="50" y="179"/>
                </a:lnTo>
                <a:lnTo>
                  <a:pt x="32" y="163"/>
                </a:lnTo>
                <a:lnTo>
                  <a:pt x="10" y="143"/>
                </a:lnTo>
                <a:lnTo>
                  <a:pt x="13" y="141"/>
                </a:lnTo>
                <a:lnTo>
                  <a:pt x="15" y="141"/>
                </a:lnTo>
                <a:lnTo>
                  <a:pt x="12" y="145"/>
                </a:lnTo>
                <a:lnTo>
                  <a:pt x="8" y="152"/>
                </a:lnTo>
                <a:lnTo>
                  <a:pt x="4" y="165"/>
                </a:lnTo>
                <a:lnTo>
                  <a:pt x="0" y="181"/>
                </a:lnTo>
                <a:lnTo>
                  <a:pt x="0" y="206"/>
                </a:lnTo>
                <a:lnTo>
                  <a:pt x="4" y="237"/>
                </a:lnTo>
                <a:lnTo>
                  <a:pt x="23" y="259"/>
                </a:lnTo>
                <a:lnTo>
                  <a:pt x="41" y="275"/>
                </a:lnTo>
                <a:lnTo>
                  <a:pt x="56" y="286"/>
                </a:lnTo>
                <a:lnTo>
                  <a:pt x="71" y="295"/>
                </a:lnTo>
                <a:lnTo>
                  <a:pt x="85" y="306"/>
                </a:lnTo>
                <a:lnTo>
                  <a:pt x="102" y="317"/>
                </a:lnTo>
                <a:lnTo>
                  <a:pt x="117" y="334"/>
                </a:lnTo>
                <a:lnTo>
                  <a:pt x="133" y="357"/>
                </a:lnTo>
                <a:lnTo>
                  <a:pt x="159" y="402"/>
                </a:lnTo>
                <a:lnTo>
                  <a:pt x="135" y="372"/>
                </a:lnTo>
                <a:lnTo>
                  <a:pt x="152" y="404"/>
                </a:lnTo>
                <a:lnTo>
                  <a:pt x="126" y="402"/>
                </a:lnTo>
                <a:lnTo>
                  <a:pt x="122" y="408"/>
                </a:lnTo>
                <a:lnTo>
                  <a:pt x="115" y="412"/>
                </a:lnTo>
                <a:lnTo>
                  <a:pt x="109" y="417"/>
                </a:lnTo>
                <a:lnTo>
                  <a:pt x="104" y="421"/>
                </a:lnTo>
                <a:lnTo>
                  <a:pt x="98" y="426"/>
                </a:lnTo>
                <a:lnTo>
                  <a:pt x="93" y="433"/>
                </a:lnTo>
                <a:lnTo>
                  <a:pt x="91" y="439"/>
                </a:lnTo>
                <a:lnTo>
                  <a:pt x="91" y="448"/>
                </a:lnTo>
                <a:lnTo>
                  <a:pt x="95" y="457"/>
                </a:lnTo>
                <a:lnTo>
                  <a:pt x="98" y="464"/>
                </a:lnTo>
                <a:lnTo>
                  <a:pt x="102" y="471"/>
                </a:lnTo>
                <a:lnTo>
                  <a:pt x="108" y="479"/>
                </a:lnTo>
                <a:lnTo>
                  <a:pt x="115" y="484"/>
                </a:lnTo>
                <a:lnTo>
                  <a:pt x="120" y="490"/>
                </a:lnTo>
                <a:lnTo>
                  <a:pt x="128" y="495"/>
                </a:lnTo>
                <a:lnTo>
                  <a:pt x="135" y="499"/>
                </a:lnTo>
                <a:lnTo>
                  <a:pt x="139" y="500"/>
                </a:lnTo>
                <a:lnTo>
                  <a:pt x="141" y="500"/>
                </a:lnTo>
                <a:lnTo>
                  <a:pt x="143" y="500"/>
                </a:lnTo>
                <a:lnTo>
                  <a:pt x="146" y="502"/>
                </a:lnTo>
                <a:lnTo>
                  <a:pt x="148" y="502"/>
                </a:lnTo>
                <a:lnTo>
                  <a:pt x="150" y="504"/>
                </a:lnTo>
                <a:lnTo>
                  <a:pt x="152" y="506"/>
                </a:lnTo>
                <a:lnTo>
                  <a:pt x="154" y="506"/>
                </a:lnTo>
                <a:lnTo>
                  <a:pt x="167" y="500"/>
                </a:lnTo>
                <a:lnTo>
                  <a:pt x="168" y="495"/>
                </a:lnTo>
                <a:lnTo>
                  <a:pt x="172" y="490"/>
                </a:lnTo>
                <a:lnTo>
                  <a:pt x="176" y="484"/>
                </a:lnTo>
                <a:lnTo>
                  <a:pt x="178" y="479"/>
                </a:lnTo>
                <a:lnTo>
                  <a:pt x="180" y="471"/>
                </a:lnTo>
                <a:lnTo>
                  <a:pt x="181" y="466"/>
                </a:lnTo>
                <a:lnTo>
                  <a:pt x="181" y="459"/>
                </a:lnTo>
                <a:lnTo>
                  <a:pt x="181" y="451"/>
                </a:lnTo>
                <a:lnTo>
                  <a:pt x="194" y="477"/>
                </a:lnTo>
                <a:lnTo>
                  <a:pt x="194" y="479"/>
                </a:lnTo>
                <a:lnTo>
                  <a:pt x="192" y="482"/>
                </a:lnTo>
                <a:lnTo>
                  <a:pt x="191" y="484"/>
                </a:lnTo>
                <a:lnTo>
                  <a:pt x="189" y="486"/>
                </a:lnTo>
                <a:lnTo>
                  <a:pt x="187" y="488"/>
                </a:lnTo>
                <a:lnTo>
                  <a:pt x="185" y="490"/>
                </a:lnTo>
                <a:lnTo>
                  <a:pt x="183" y="491"/>
                </a:lnTo>
                <a:lnTo>
                  <a:pt x="181" y="495"/>
                </a:lnTo>
                <a:lnTo>
                  <a:pt x="181" y="495"/>
                </a:lnTo>
                <a:lnTo>
                  <a:pt x="181" y="495"/>
                </a:lnTo>
                <a:lnTo>
                  <a:pt x="183" y="497"/>
                </a:lnTo>
                <a:lnTo>
                  <a:pt x="183" y="497"/>
                </a:lnTo>
                <a:lnTo>
                  <a:pt x="185" y="499"/>
                </a:lnTo>
                <a:lnTo>
                  <a:pt x="185" y="499"/>
                </a:lnTo>
                <a:lnTo>
                  <a:pt x="187" y="499"/>
                </a:lnTo>
                <a:lnTo>
                  <a:pt x="187" y="499"/>
                </a:lnTo>
                <a:lnTo>
                  <a:pt x="196" y="488"/>
                </a:lnTo>
                <a:lnTo>
                  <a:pt x="207" y="479"/>
                </a:lnTo>
                <a:lnTo>
                  <a:pt x="216" y="470"/>
                </a:lnTo>
                <a:lnTo>
                  <a:pt x="228" y="461"/>
                </a:lnTo>
                <a:lnTo>
                  <a:pt x="240" y="453"/>
                </a:lnTo>
                <a:lnTo>
                  <a:pt x="253" y="450"/>
                </a:lnTo>
                <a:lnTo>
                  <a:pt x="266" y="446"/>
                </a:lnTo>
                <a:lnTo>
                  <a:pt x="281" y="448"/>
                </a:lnTo>
                <a:lnTo>
                  <a:pt x="281" y="450"/>
                </a:lnTo>
                <a:lnTo>
                  <a:pt x="283" y="450"/>
                </a:lnTo>
                <a:lnTo>
                  <a:pt x="285" y="450"/>
                </a:lnTo>
                <a:lnTo>
                  <a:pt x="285" y="451"/>
                </a:lnTo>
                <a:lnTo>
                  <a:pt x="287" y="451"/>
                </a:lnTo>
                <a:lnTo>
                  <a:pt x="288" y="451"/>
                </a:lnTo>
                <a:lnTo>
                  <a:pt x="288" y="451"/>
                </a:lnTo>
                <a:lnTo>
                  <a:pt x="290" y="451"/>
                </a:lnTo>
                <a:lnTo>
                  <a:pt x="290" y="457"/>
                </a:lnTo>
                <a:lnTo>
                  <a:pt x="288" y="462"/>
                </a:lnTo>
                <a:lnTo>
                  <a:pt x="288" y="468"/>
                </a:lnTo>
                <a:lnTo>
                  <a:pt x="285" y="473"/>
                </a:lnTo>
                <a:lnTo>
                  <a:pt x="283" y="477"/>
                </a:lnTo>
                <a:lnTo>
                  <a:pt x="279" y="481"/>
                </a:lnTo>
                <a:lnTo>
                  <a:pt x="276" y="486"/>
                </a:lnTo>
                <a:lnTo>
                  <a:pt x="272" y="488"/>
                </a:lnTo>
                <a:lnTo>
                  <a:pt x="270" y="490"/>
                </a:lnTo>
                <a:lnTo>
                  <a:pt x="268" y="491"/>
                </a:lnTo>
                <a:lnTo>
                  <a:pt x="266" y="491"/>
                </a:lnTo>
                <a:lnTo>
                  <a:pt x="266" y="493"/>
                </a:lnTo>
                <a:lnTo>
                  <a:pt x="264" y="493"/>
                </a:lnTo>
                <a:lnTo>
                  <a:pt x="263" y="495"/>
                </a:lnTo>
                <a:lnTo>
                  <a:pt x="263" y="495"/>
                </a:lnTo>
                <a:lnTo>
                  <a:pt x="261" y="495"/>
                </a:lnTo>
                <a:lnTo>
                  <a:pt x="259" y="495"/>
                </a:lnTo>
                <a:lnTo>
                  <a:pt x="257" y="493"/>
                </a:lnTo>
                <a:lnTo>
                  <a:pt x="255" y="493"/>
                </a:lnTo>
                <a:lnTo>
                  <a:pt x="255" y="491"/>
                </a:lnTo>
                <a:lnTo>
                  <a:pt x="255" y="490"/>
                </a:lnTo>
                <a:lnTo>
                  <a:pt x="253" y="488"/>
                </a:lnTo>
                <a:lnTo>
                  <a:pt x="253" y="486"/>
                </a:lnTo>
                <a:lnTo>
                  <a:pt x="252" y="484"/>
                </a:lnTo>
                <a:lnTo>
                  <a:pt x="250" y="484"/>
                </a:lnTo>
                <a:lnTo>
                  <a:pt x="248" y="484"/>
                </a:lnTo>
                <a:lnTo>
                  <a:pt x="246" y="486"/>
                </a:lnTo>
                <a:lnTo>
                  <a:pt x="244" y="486"/>
                </a:lnTo>
                <a:lnTo>
                  <a:pt x="242" y="488"/>
                </a:lnTo>
                <a:lnTo>
                  <a:pt x="242" y="488"/>
                </a:lnTo>
                <a:lnTo>
                  <a:pt x="240" y="490"/>
                </a:lnTo>
                <a:lnTo>
                  <a:pt x="239" y="491"/>
                </a:lnTo>
                <a:lnTo>
                  <a:pt x="250" y="508"/>
                </a:lnTo>
                <a:lnTo>
                  <a:pt x="246" y="513"/>
                </a:lnTo>
                <a:lnTo>
                  <a:pt x="240" y="517"/>
                </a:lnTo>
                <a:lnTo>
                  <a:pt x="237" y="520"/>
                </a:lnTo>
                <a:lnTo>
                  <a:pt x="231" y="524"/>
                </a:lnTo>
                <a:lnTo>
                  <a:pt x="226" y="526"/>
                </a:lnTo>
                <a:lnTo>
                  <a:pt x="220" y="528"/>
                </a:lnTo>
                <a:lnTo>
                  <a:pt x="213" y="530"/>
                </a:lnTo>
                <a:lnTo>
                  <a:pt x="205" y="530"/>
                </a:lnTo>
                <a:lnTo>
                  <a:pt x="183" y="511"/>
                </a:lnTo>
                <a:lnTo>
                  <a:pt x="181" y="511"/>
                </a:lnTo>
                <a:lnTo>
                  <a:pt x="181" y="511"/>
                </a:lnTo>
                <a:lnTo>
                  <a:pt x="180" y="513"/>
                </a:lnTo>
                <a:lnTo>
                  <a:pt x="180" y="513"/>
                </a:lnTo>
                <a:lnTo>
                  <a:pt x="178" y="513"/>
                </a:lnTo>
                <a:lnTo>
                  <a:pt x="178" y="515"/>
                </a:lnTo>
                <a:lnTo>
                  <a:pt x="176" y="515"/>
                </a:lnTo>
                <a:lnTo>
                  <a:pt x="176" y="517"/>
                </a:lnTo>
                <a:lnTo>
                  <a:pt x="176" y="519"/>
                </a:lnTo>
                <a:lnTo>
                  <a:pt x="176" y="519"/>
                </a:lnTo>
                <a:lnTo>
                  <a:pt x="176" y="519"/>
                </a:lnTo>
                <a:lnTo>
                  <a:pt x="176" y="520"/>
                </a:lnTo>
                <a:lnTo>
                  <a:pt x="176" y="520"/>
                </a:lnTo>
                <a:lnTo>
                  <a:pt x="176" y="522"/>
                </a:lnTo>
                <a:lnTo>
                  <a:pt x="176" y="522"/>
                </a:lnTo>
                <a:lnTo>
                  <a:pt x="176" y="524"/>
                </a:lnTo>
                <a:lnTo>
                  <a:pt x="213" y="549"/>
                </a:lnTo>
                <a:lnTo>
                  <a:pt x="218" y="549"/>
                </a:lnTo>
                <a:lnTo>
                  <a:pt x="226" y="551"/>
                </a:lnTo>
                <a:lnTo>
                  <a:pt x="231" y="551"/>
                </a:lnTo>
                <a:lnTo>
                  <a:pt x="239" y="549"/>
                </a:lnTo>
                <a:lnTo>
                  <a:pt x="244" y="549"/>
                </a:lnTo>
                <a:lnTo>
                  <a:pt x="250" y="548"/>
                </a:lnTo>
                <a:lnTo>
                  <a:pt x="255" y="544"/>
                </a:lnTo>
                <a:lnTo>
                  <a:pt x="261" y="540"/>
                </a:lnTo>
                <a:lnTo>
                  <a:pt x="263" y="539"/>
                </a:lnTo>
                <a:lnTo>
                  <a:pt x="263" y="537"/>
                </a:lnTo>
                <a:lnTo>
                  <a:pt x="264" y="537"/>
                </a:lnTo>
                <a:lnTo>
                  <a:pt x="264" y="535"/>
                </a:lnTo>
                <a:lnTo>
                  <a:pt x="266" y="533"/>
                </a:lnTo>
                <a:lnTo>
                  <a:pt x="268" y="533"/>
                </a:lnTo>
                <a:lnTo>
                  <a:pt x="268" y="533"/>
                </a:lnTo>
                <a:lnTo>
                  <a:pt x="270" y="531"/>
                </a:lnTo>
                <a:lnTo>
                  <a:pt x="272" y="531"/>
                </a:lnTo>
                <a:lnTo>
                  <a:pt x="272" y="531"/>
                </a:lnTo>
                <a:lnTo>
                  <a:pt x="274" y="533"/>
                </a:lnTo>
                <a:lnTo>
                  <a:pt x="276" y="533"/>
                </a:lnTo>
                <a:lnTo>
                  <a:pt x="276" y="533"/>
                </a:lnTo>
                <a:lnTo>
                  <a:pt x="277" y="535"/>
                </a:lnTo>
                <a:lnTo>
                  <a:pt x="277" y="535"/>
                </a:lnTo>
                <a:lnTo>
                  <a:pt x="279" y="537"/>
                </a:lnTo>
                <a:lnTo>
                  <a:pt x="270" y="549"/>
                </a:lnTo>
                <a:lnTo>
                  <a:pt x="268" y="549"/>
                </a:lnTo>
                <a:lnTo>
                  <a:pt x="268" y="551"/>
                </a:lnTo>
                <a:lnTo>
                  <a:pt x="266" y="551"/>
                </a:lnTo>
                <a:lnTo>
                  <a:pt x="266" y="553"/>
                </a:lnTo>
                <a:lnTo>
                  <a:pt x="264" y="555"/>
                </a:lnTo>
                <a:lnTo>
                  <a:pt x="264" y="557"/>
                </a:lnTo>
                <a:lnTo>
                  <a:pt x="263" y="559"/>
                </a:lnTo>
                <a:lnTo>
                  <a:pt x="263" y="560"/>
                </a:lnTo>
                <a:lnTo>
                  <a:pt x="290" y="591"/>
                </a:lnTo>
                <a:lnTo>
                  <a:pt x="346" y="604"/>
                </a:lnTo>
                <a:lnTo>
                  <a:pt x="348" y="604"/>
                </a:lnTo>
                <a:lnTo>
                  <a:pt x="348" y="604"/>
                </a:lnTo>
                <a:lnTo>
                  <a:pt x="348" y="606"/>
                </a:lnTo>
                <a:lnTo>
                  <a:pt x="349" y="606"/>
                </a:lnTo>
                <a:lnTo>
                  <a:pt x="349" y="608"/>
                </a:lnTo>
                <a:lnTo>
                  <a:pt x="349" y="608"/>
                </a:lnTo>
                <a:lnTo>
                  <a:pt x="351" y="608"/>
                </a:lnTo>
                <a:lnTo>
                  <a:pt x="351" y="609"/>
                </a:lnTo>
                <a:lnTo>
                  <a:pt x="386" y="628"/>
                </a:lnTo>
                <a:lnTo>
                  <a:pt x="386" y="629"/>
                </a:lnTo>
                <a:lnTo>
                  <a:pt x="386" y="631"/>
                </a:lnTo>
                <a:lnTo>
                  <a:pt x="388" y="631"/>
                </a:lnTo>
                <a:lnTo>
                  <a:pt x="388" y="633"/>
                </a:lnTo>
                <a:lnTo>
                  <a:pt x="388" y="633"/>
                </a:lnTo>
                <a:lnTo>
                  <a:pt x="390" y="635"/>
                </a:lnTo>
                <a:lnTo>
                  <a:pt x="392" y="635"/>
                </a:lnTo>
                <a:lnTo>
                  <a:pt x="394" y="637"/>
                </a:lnTo>
                <a:lnTo>
                  <a:pt x="405" y="638"/>
                </a:lnTo>
                <a:lnTo>
                  <a:pt x="418" y="638"/>
                </a:lnTo>
                <a:lnTo>
                  <a:pt x="431" y="638"/>
                </a:lnTo>
                <a:lnTo>
                  <a:pt x="445" y="635"/>
                </a:lnTo>
                <a:lnTo>
                  <a:pt x="458" y="633"/>
                </a:lnTo>
                <a:lnTo>
                  <a:pt x="471" y="633"/>
                </a:lnTo>
                <a:lnTo>
                  <a:pt x="482" y="635"/>
                </a:lnTo>
                <a:lnTo>
                  <a:pt x="495" y="640"/>
                </a:lnTo>
                <a:lnTo>
                  <a:pt x="516" y="646"/>
                </a:lnTo>
                <a:lnTo>
                  <a:pt x="536" y="653"/>
                </a:lnTo>
                <a:lnTo>
                  <a:pt x="554" y="658"/>
                </a:lnTo>
                <a:lnTo>
                  <a:pt x="573" y="666"/>
                </a:lnTo>
                <a:lnTo>
                  <a:pt x="593" y="671"/>
                </a:lnTo>
                <a:lnTo>
                  <a:pt x="612" y="673"/>
                </a:lnTo>
                <a:lnTo>
                  <a:pt x="632" y="671"/>
                </a:lnTo>
                <a:lnTo>
                  <a:pt x="654" y="666"/>
                </a:lnTo>
                <a:lnTo>
                  <a:pt x="669" y="660"/>
                </a:lnTo>
                <a:lnTo>
                  <a:pt x="683" y="657"/>
                </a:lnTo>
                <a:lnTo>
                  <a:pt x="700" y="655"/>
                </a:lnTo>
                <a:lnTo>
                  <a:pt x="715" y="651"/>
                </a:lnTo>
                <a:lnTo>
                  <a:pt x="731" y="649"/>
                </a:lnTo>
                <a:lnTo>
                  <a:pt x="744" y="644"/>
                </a:lnTo>
                <a:lnTo>
                  <a:pt x="757" y="637"/>
                </a:lnTo>
                <a:lnTo>
                  <a:pt x="768" y="628"/>
                </a:lnTo>
                <a:lnTo>
                  <a:pt x="848" y="606"/>
                </a:lnTo>
                <a:lnTo>
                  <a:pt x="848" y="606"/>
                </a:lnTo>
                <a:lnTo>
                  <a:pt x="846" y="606"/>
                </a:lnTo>
                <a:lnTo>
                  <a:pt x="846" y="606"/>
                </a:lnTo>
                <a:lnTo>
                  <a:pt x="844" y="604"/>
                </a:lnTo>
                <a:lnTo>
                  <a:pt x="844" y="604"/>
                </a:lnTo>
                <a:lnTo>
                  <a:pt x="842" y="602"/>
                </a:lnTo>
                <a:lnTo>
                  <a:pt x="842" y="602"/>
                </a:lnTo>
                <a:lnTo>
                  <a:pt x="842" y="600"/>
                </a:lnTo>
                <a:lnTo>
                  <a:pt x="842" y="598"/>
                </a:lnTo>
                <a:lnTo>
                  <a:pt x="842" y="597"/>
                </a:lnTo>
                <a:lnTo>
                  <a:pt x="844" y="597"/>
                </a:lnTo>
                <a:lnTo>
                  <a:pt x="846" y="595"/>
                </a:lnTo>
                <a:lnTo>
                  <a:pt x="846" y="593"/>
                </a:lnTo>
                <a:lnTo>
                  <a:pt x="848" y="593"/>
                </a:lnTo>
                <a:lnTo>
                  <a:pt x="850" y="591"/>
                </a:lnTo>
                <a:lnTo>
                  <a:pt x="853" y="591"/>
                </a:lnTo>
                <a:lnTo>
                  <a:pt x="881" y="580"/>
                </a:lnTo>
                <a:lnTo>
                  <a:pt x="881" y="580"/>
                </a:lnTo>
                <a:lnTo>
                  <a:pt x="883" y="579"/>
                </a:lnTo>
                <a:lnTo>
                  <a:pt x="883" y="579"/>
                </a:lnTo>
                <a:lnTo>
                  <a:pt x="885" y="577"/>
                </a:lnTo>
                <a:lnTo>
                  <a:pt x="885" y="577"/>
                </a:lnTo>
                <a:lnTo>
                  <a:pt x="887" y="577"/>
                </a:lnTo>
                <a:lnTo>
                  <a:pt x="887" y="575"/>
                </a:lnTo>
                <a:lnTo>
                  <a:pt x="888" y="575"/>
                </a:lnTo>
                <a:lnTo>
                  <a:pt x="892" y="571"/>
                </a:lnTo>
                <a:lnTo>
                  <a:pt x="898" y="568"/>
                </a:lnTo>
                <a:lnTo>
                  <a:pt x="903" y="564"/>
                </a:lnTo>
                <a:lnTo>
                  <a:pt x="909" y="562"/>
                </a:lnTo>
                <a:lnTo>
                  <a:pt x="914" y="559"/>
                </a:lnTo>
                <a:lnTo>
                  <a:pt x="918" y="553"/>
                </a:lnTo>
                <a:lnTo>
                  <a:pt x="922" y="548"/>
                </a:lnTo>
                <a:lnTo>
                  <a:pt x="923" y="540"/>
                </a:lnTo>
                <a:lnTo>
                  <a:pt x="923" y="537"/>
                </a:lnTo>
                <a:lnTo>
                  <a:pt x="923" y="535"/>
                </a:lnTo>
                <a:lnTo>
                  <a:pt x="923" y="533"/>
                </a:lnTo>
                <a:lnTo>
                  <a:pt x="922" y="531"/>
                </a:lnTo>
                <a:lnTo>
                  <a:pt x="922" y="530"/>
                </a:lnTo>
                <a:lnTo>
                  <a:pt x="922" y="528"/>
                </a:lnTo>
                <a:lnTo>
                  <a:pt x="922" y="526"/>
                </a:lnTo>
                <a:lnTo>
                  <a:pt x="922" y="524"/>
                </a:lnTo>
                <a:lnTo>
                  <a:pt x="927" y="524"/>
                </a:lnTo>
                <a:lnTo>
                  <a:pt x="933" y="526"/>
                </a:lnTo>
                <a:lnTo>
                  <a:pt x="938" y="528"/>
                </a:lnTo>
                <a:lnTo>
                  <a:pt x="944" y="530"/>
                </a:lnTo>
                <a:lnTo>
                  <a:pt x="949" y="531"/>
                </a:lnTo>
                <a:lnTo>
                  <a:pt x="955" y="531"/>
                </a:lnTo>
                <a:lnTo>
                  <a:pt x="959" y="531"/>
                </a:lnTo>
                <a:lnTo>
                  <a:pt x="964" y="528"/>
                </a:lnTo>
                <a:lnTo>
                  <a:pt x="966" y="526"/>
                </a:lnTo>
                <a:lnTo>
                  <a:pt x="968" y="526"/>
                </a:lnTo>
                <a:lnTo>
                  <a:pt x="970" y="524"/>
                </a:lnTo>
                <a:lnTo>
                  <a:pt x="971" y="524"/>
                </a:lnTo>
                <a:lnTo>
                  <a:pt x="971" y="522"/>
                </a:lnTo>
                <a:lnTo>
                  <a:pt x="973" y="522"/>
                </a:lnTo>
                <a:lnTo>
                  <a:pt x="973" y="520"/>
                </a:lnTo>
                <a:lnTo>
                  <a:pt x="975" y="520"/>
                </a:lnTo>
                <a:lnTo>
                  <a:pt x="975" y="520"/>
                </a:lnTo>
                <a:lnTo>
                  <a:pt x="977" y="520"/>
                </a:lnTo>
                <a:lnTo>
                  <a:pt x="977" y="520"/>
                </a:lnTo>
                <a:lnTo>
                  <a:pt x="977" y="519"/>
                </a:lnTo>
                <a:lnTo>
                  <a:pt x="979" y="519"/>
                </a:lnTo>
                <a:lnTo>
                  <a:pt x="979" y="519"/>
                </a:lnTo>
                <a:lnTo>
                  <a:pt x="979" y="519"/>
                </a:lnTo>
                <a:lnTo>
                  <a:pt x="979" y="517"/>
                </a:lnTo>
                <a:lnTo>
                  <a:pt x="983" y="511"/>
                </a:lnTo>
                <a:lnTo>
                  <a:pt x="984" y="504"/>
                </a:lnTo>
                <a:lnTo>
                  <a:pt x="988" y="497"/>
                </a:lnTo>
                <a:lnTo>
                  <a:pt x="990" y="491"/>
                </a:lnTo>
                <a:lnTo>
                  <a:pt x="992" y="484"/>
                </a:lnTo>
                <a:lnTo>
                  <a:pt x="994" y="477"/>
                </a:lnTo>
                <a:lnTo>
                  <a:pt x="994" y="471"/>
                </a:lnTo>
                <a:lnTo>
                  <a:pt x="992" y="464"/>
                </a:lnTo>
                <a:lnTo>
                  <a:pt x="988" y="461"/>
                </a:lnTo>
                <a:lnTo>
                  <a:pt x="984" y="455"/>
                </a:lnTo>
                <a:lnTo>
                  <a:pt x="981" y="451"/>
                </a:lnTo>
                <a:lnTo>
                  <a:pt x="977" y="448"/>
                </a:lnTo>
                <a:lnTo>
                  <a:pt x="973" y="444"/>
                </a:lnTo>
                <a:lnTo>
                  <a:pt x="970" y="441"/>
                </a:lnTo>
                <a:lnTo>
                  <a:pt x="968" y="435"/>
                </a:lnTo>
                <a:lnTo>
                  <a:pt x="966" y="430"/>
                </a:lnTo>
                <a:lnTo>
                  <a:pt x="966" y="430"/>
                </a:lnTo>
                <a:lnTo>
                  <a:pt x="968" y="430"/>
                </a:lnTo>
                <a:lnTo>
                  <a:pt x="968" y="428"/>
                </a:lnTo>
                <a:lnTo>
                  <a:pt x="968" y="428"/>
                </a:lnTo>
                <a:lnTo>
                  <a:pt x="970" y="426"/>
                </a:lnTo>
                <a:lnTo>
                  <a:pt x="970" y="426"/>
                </a:lnTo>
                <a:lnTo>
                  <a:pt x="970" y="424"/>
                </a:lnTo>
                <a:lnTo>
                  <a:pt x="971" y="424"/>
                </a:lnTo>
                <a:lnTo>
                  <a:pt x="970" y="424"/>
                </a:lnTo>
                <a:lnTo>
                  <a:pt x="970" y="424"/>
                </a:lnTo>
                <a:lnTo>
                  <a:pt x="970" y="424"/>
                </a:lnTo>
                <a:lnTo>
                  <a:pt x="970" y="424"/>
                </a:lnTo>
                <a:lnTo>
                  <a:pt x="968" y="424"/>
                </a:lnTo>
                <a:lnTo>
                  <a:pt x="968" y="422"/>
                </a:lnTo>
                <a:lnTo>
                  <a:pt x="968" y="422"/>
                </a:lnTo>
                <a:lnTo>
                  <a:pt x="966" y="422"/>
                </a:lnTo>
                <a:lnTo>
                  <a:pt x="973" y="410"/>
                </a:lnTo>
                <a:lnTo>
                  <a:pt x="977" y="395"/>
                </a:lnTo>
                <a:lnTo>
                  <a:pt x="983" y="381"/>
                </a:lnTo>
                <a:lnTo>
                  <a:pt x="988" y="364"/>
                </a:lnTo>
                <a:lnTo>
                  <a:pt x="994" y="350"/>
                </a:lnTo>
                <a:lnTo>
                  <a:pt x="1001" y="335"/>
                </a:lnTo>
                <a:lnTo>
                  <a:pt x="1008" y="323"/>
                </a:lnTo>
                <a:lnTo>
                  <a:pt x="1019" y="312"/>
                </a:lnTo>
                <a:lnTo>
                  <a:pt x="1047" y="299"/>
                </a:lnTo>
                <a:lnTo>
                  <a:pt x="1073" y="286"/>
                </a:lnTo>
                <a:lnTo>
                  <a:pt x="1099" y="272"/>
                </a:lnTo>
                <a:lnTo>
                  <a:pt x="1123" y="257"/>
                </a:lnTo>
                <a:lnTo>
                  <a:pt x="1147" y="241"/>
                </a:lnTo>
                <a:lnTo>
                  <a:pt x="1171" y="225"/>
                </a:lnTo>
                <a:lnTo>
                  <a:pt x="1195" y="208"/>
                </a:lnTo>
                <a:lnTo>
                  <a:pt x="1219" y="190"/>
                </a:lnTo>
                <a:lnTo>
                  <a:pt x="1228" y="183"/>
                </a:lnTo>
                <a:lnTo>
                  <a:pt x="1235" y="177"/>
                </a:lnTo>
                <a:lnTo>
                  <a:pt x="1243" y="172"/>
                </a:lnTo>
                <a:lnTo>
                  <a:pt x="1248" y="167"/>
                </a:lnTo>
                <a:lnTo>
                  <a:pt x="1254" y="161"/>
                </a:lnTo>
                <a:lnTo>
                  <a:pt x="1259" y="157"/>
                </a:lnTo>
                <a:lnTo>
                  <a:pt x="1265" y="150"/>
                </a:lnTo>
                <a:lnTo>
                  <a:pt x="1274" y="145"/>
                </a:lnTo>
                <a:lnTo>
                  <a:pt x="12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10680" y="2266920"/>
            <a:ext cx="231840" cy="239760"/>
          </a:xfrm>
          <a:custGeom>
            <a:avLst/>
            <a:gdLst/>
            <a:ahLst/>
            <a:rect l="l" t="t" r="r" b="b"/>
            <a:pathLst>
              <a:path w="146" h="151">
                <a:moveTo>
                  <a:pt x="144" y="2"/>
                </a:moveTo>
                <a:lnTo>
                  <a:pt x="0" y="129"/>
                </a:lnTo>
                <a:lnTo>
                  <a:pt x="6" y="147"/>
                </a:lnTo>
                <a:lnTo>
                  <a:pt x="6" y="149"/>
                </a:lnTo>
                <a:lnTo>
                  <a:pt x="6" y="149"/>
                </a:lnTo>
                <a:lnTo>
                  <a:pt x="6" y="149"/>
                </a:lnTo>
                <a:lnTo>
                  <a:pt x="6" y="149"/>
                </a:lnTo>
                <a:lnTo>
                  <a:pt x="6" y="151"/>
                </a:lnTo>
                <a:lnTo>
                  <a:pt x="8" y="151"/>
                </a:lnTo>
                <a:lnTo>
                  <a:pt x="8" y="151"/>
                </a:lnTo>
                <a:lnTo>
                  <a:pt x="10" y="151"/>
                </a:lnTo>
                <a:lnTo>
                  <a:pt x="26" y="133"/>
                </a:lnTo>
                <a:lnTo>
                  <a:pt x="43" y="115"/>
                </a:lnTo>
                <a:lnTo>
                  <a:pt x="61" y="96"/>
                </a:lnTo>
                <a:lnTo>
                  <a:pt x="82" y="78"/>
                </a:lnTo>
                <a:lnTo>
                  <a:pt x="100" y="62"/>
                </a:lnTo>
                <a:lnTo>
                  <a:pt x="117" y="42"/>
                </a:lnTo>
                <a:lnTo>
                  <a:pt x="133" y="22"/>
                </a:lnTo>
                <a:lnTo>
                  <a:pt x="146" y="0"/>
                </a:lnTo>
                <a:lnTo>
                  <a:pt x="146" y="0"/>
                </a:lnTo>
                <a:lnTo>
                  <a:pt x="146" y="0"/>
                </a:lnTo>
                <a:lnTo>
                  <a:pt x="146" y="2"/>
                </a:lnTo>
                <a:lnTo>
                  <a:pt x="144" y="2"/>
                </a:lnTo>
                <a:lnTo>
                  <a:pt x="144" y="2"/>
                </a:lnTo>
                <a:lnTo>
                  <a:pt x="144" y="2"/>
                </a:lnTo>
                <a:lnTo>
                  <a:pt x="144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16880" y="2403360"/>
            <a:ext cx="104760" cy="106560"/>
          </a:xfrm>
          <a:custGeom>
            <a:avLst/>
            <a:gdLst/>
            <a:ahLst/>
            <a:rect l="l" t="t" r="r" b="b"/>
            <a:pathLst>
              <a:path w="66" h="67">
                <a:moveTo>
                  <a:pt x="63" y="1"/>
                </a:moveTo>
                <a:lnTo>
                  <a:pt x="9" y="45"/>
                </a:lnTo>
                <a:lnTo>
                  <a:pt x="7" y="45"/>
                </a:lnTo>
                <a:lnTo>
                  <a:pt x="7" y="45"/>
                </a:lnTo>
                <a:lnTo>
                  <a:pt x="5" y="45"/>
                </a:lnTo>
                <a:lnTo>
                  <a:pt x="5" y="47"/>
                </a:lnTo>
                <a:lnTo>
                  <a:pt x="4" y="47"/>
                </a:lnTo>
                <a:lnTo>
                  <a:pt x="4" y="47"/>
                </a:lnTo>
                <a:lnTo>
                  <a:pt x="2" y="47"/>
                </a:lnTo>
                <a:lnTo>
                  <a:pt x="2" y="49"/>
                </a:lnTo>
                <a:lnTo>
                  <a:pt x="2" y="49"/>
                </a:lnTo>
                <a:lnTo>
                  <a:pt x="2" y="49"/>
                </a:lnTo>
                <a:lnTo>
                  <a:pt x="2" y="50"/>
                </a:lnTo>
                <a:lnTo>
                  <a:pt x="2" y="50"/>
                </a:lnTo>
                <a:lnTo>
                  <a:pt x="2" y="52"/>
                </a:lnTo>
                <a:lnTo>
                  <a:pt x="0" y="52"/>
                </a:lnTo>
                <a:lnTo>
                  <a:pt x="0" y="54"/>
                </a:lnTo>
                <a:lnTo>
                  <a:pt x="0" y="54"/>
                </a:lnTo>
                <a:lnTo>
                  <a:pt x="9" y="67"/>
                </a:lnTo>
                <a:lnTo>
                  <a:pt x="11" y="67"/>
                </a:lnTo>
                <a:lnTo>
                  <a:pt x="13" y="65"/>
                </a:lnTo>
                <a:lnTo>
                  <a:pt x="13" y="65"/>
                </a:lnTo>
                <a:lnTo>
                  <a:pt x="15" y="63"/>
                </a:lnTo>
                <a:lnTo>
                  <a:pt x="17" y="61"/>
                </a:lnTo>
                <a:lnTo>
                  <a:pt x="17" y="61"/>
                </a:lnTo>
                <a:lnTo>
                  <a:pt x="18" y="59"/>
                </a:lnTo>
                <a:lnTo>
                  <a:pt x="18" y="56"/>
                </a:lnTo>
                <a:lnTo>
                  <a:pt x="66" y="7"/>
                </a:lnTo>
                <a:lnTo>
                  <a:pt x="66" y="5"/>
                </a:lnTo>
                <a:lnTo>
                  <a:pt x="66" y="5"/>
                </a:lnTo>
                <a:lnTo>
                  <a:pt x="66" y="5"/>
                </a:lnTo>
                <a:lnTo>
                  <a:pt x="66" y="3"/>
                </a:lnTo>
                <a:lnTo>
                  <a:pt x="66" y="3"/>
                </a:lnTo>
                <a:lnTo>
                  <a:pt x="66" y="1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5" y="0"/>
                </a:lnTo>
                <a:lnTo>
                  <a:pt x="65" y="0"/>
                </a:lnTo>
                <a:lnTo>
                  <a:pt x="65" y="1"/>
                </a:lnTo>
                <a:lnTo>
                  <a:pt x="65" y="1"/>
                </a:lnTo>
                <a:lnTo>
                  <a:pt x="63" y="1"/>
                </a:lnTo>
                <a:lnTo>
                  <a:pt x="6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5600" y="2457360"/>
            <a:ext cx="828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0" y="11"/>
                </a:lnTo>
                <a:lnTo>
                  <a:pt x="0" y="11"/>
                </a:lnTo>
                <a:lnTo>
                  <a:pt x="1" y="9"/>
                </a:lnTo>
                <a:lnTo>
                  <a:pt x="1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1280" y="263052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0" y="5"/>
                </a:lnTo>
                <a:lnTo>
                  <a:pt x="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45560" y="2840040"/>
            <a:ext cx="61920" cy="84240"/>
          </a:xfrm>
          <a:custGeom>
            <a:avLst/>
            <a:gdLst/>
            <a:ahLst/>
            <a:rect l="l" t="t" r="r" b="b"/>
            <a:pathLst>
              <a:path w="39" h="53">
                <a:moveTo>
                  <a:pt x="13" y="0"/>
                </a:move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0" y="6"/>
                </a:lnTo>
                <a:lnTo>
                  <a:pt x="0" y="8"/>
                </a:lnTo>
                <a:lnTo>
                  <a:pt x="13" y="40"/>
                </a:lnTo>
                <a:lnTo>
                  <a:pt x="13" y="42"/>
                </a:lnTo>
                <a:lnTo>
                  <a:pt x="15" y="44"/>
                </a:lnTo>
                <a:lnTo>
                  <a:pt x="18" y="46"/>
                </a:lnTo>
                <a:lnTo>
                  <a:pt x="20" y="48"/>
                </a:lnTo>
                <a:lnTo>
                  <a:pt x="22" y="48"/>
                </a:lnTo>
                <a:lnTo>
                  <a:pt x="26" y="49"/>
                </a:lnTo>
                <a:lnTo>
                  <a:pt x="28" y="51"/>
                </a:lnTo>
                <a:lnTo>
                  <a:pt x="31" y="53"/>
                </a:lnTo>
                <a:lnTo>
                  <a:pt x="31" y="53"/>
                </a:lnTo>
                <a:lnTo>
                  <a:pt x="33" y="51"/>
                </a:lnTo>
                <a:lnTo>
                  <a:pt x="33" y="51"/>
                </a:lnTo>
                <a:lnTo>
                  <a:pt x="35" y="51"/>
                </a:lnTo>
                <a:lnTo>
                  <a:pt x="35" y="49"/>
                </a:lnTo>
                <a:lnTo>
                  <a:pt x="37" y="49"/>
                </a:lnTo>
                <a:lnTo>
                  <a:pt x="39" y="48"/>
                </a:lnTo>
                <a:lnTo>
                  <a:pt x="39" y="48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7" y="2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43880" y="2840040"/>
            <a:ext cx="260280" cy="193680"/>
          </a:xfrm>
          <a:custGeom>
            <a:avLst/>
            <a:gdLst/>
            <a:ahLst/>
            <a:rect l="l" t="t" r="r" b="b"/>
            <a:pathLst>
              <a:path w="164" h="122">
                <a:moveTo>
                  <a:pt x="7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2" y="19"/>
                </a:lnTo>
                <a:lnTo>
                  <a:pt x="42" y="29"/>
                </a:lnTo>
                <a:lnTo>
                  <a:pt x="61" y="40"/>
                </a:lnTo>
                <a:lnTo>
                  <a:pt x="79" y="53"/>
                </a:lnTo>
                <a:lnTo>
                  <a:pt x="96" y="68"/>
                </a:lnTo>
                <a:lnTo>
                  <a:pt x="114" y="82"/>
                </a:lnTo>
                <a:lnTo>
                  <a:pt x="131" y="97"/>
                </a:lnTo>
                <a:lnTo>
                  <a:pt x="147" y="115"/>
                </a:lnTo>
                <a:lnTo>
                  <a:pt x="147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49" y="113"/>
                </a:lnTo>
                <a:lnTo>
                  <a:pt x="151" y="113"/>
                </a:lnTo>
                <a:lnTo>
                  <a:pt x="151" y="111"/>
                </a:lnTo>
                <a:lnTo>
                  <a:pt x="153" y="111"/>
                </a:lnTo>
                <a:lnTo>
                  <a:pt x="155" y="113"/>
                </a:lnTo>
                <a:lnTo>
                  <a:pt x="157" y="113"/>
                </a:lnTo>
                <a:lnTo>
                  <a:pt x="159" y="115"/>
                </a:lnTo>
                <a:lnTo>
                  <a:pt x="160" y="117"/>
                </a:lnTo>
                <a:lnTo>
                  <a:pt x="160" y="118"/>
                </a:lnTo>
                <a:lnTo>
                  <a:pt x="162" y="120"/>
                </a:lnTo>
                <a:lnTo>
                  <a:pt x="164" y="122"/>
                </a:lnTo>
                <a:lnTo>
                  <a:pt x="157" y="97"/>
                </a:lnTo>
                <a:lnTo>
                  <a:pt x="157" y="95"/>
                </a:lnTo>
                <a:lnTo>
                  <a:pt x="157" y="95"/>
                </a:lnTo>
                <a:lnTo>
                  <a:pt x="157" y="93"/>
                </a:lnTo>
                <a:lnTo>
                  <a:pt x="157" y="93"/>
                </a:lnTo>
                <a:lnTo>
                  <a:pt x="157" y="91"/>
                </a:lnTo>
                <a:lnTo>
                  <a:pt x="157" y="91"/>
                </a:lnTo>
                <a:lnTo>
                  <a:pt x="157" y="89"/>
                </a:lnTo>
                <a:lnTo>
                  <a:pt x="157" y="88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99120" y="28782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0" y="0"/>
                </a:moveTo>
                <a:lnTo>
                  <a:pt x="5" y="7"/>
                </a:lnTo>
                <a:lnTo>
                  <a:pt x="3" y="11"/>
                </a:lnTo>
                <a:lnTo>
                  <a:pt x="2" y="15"/>
                </a:lnTo>
                <a:lnTo>
                  <a:pt x="2" y="18"/>
                </a:lnTo>
                <a:lnTo>
                  <a:pt x="0" y="20"/>
                </a:lnTo>
                <a:lnTo>
                  <a:pt x="0" y="25"/>
                </a:lnTo>
                <a:lnTo>
                  <a:pt x="2" y="29"/>
                </a:lnTo>
                <a:lnTo>
                  <a:pt x="2" y="33"/>
                </a:lnTo>
                <a:lnTo>
                  <a:pt x="3" y="36"/>
                </a:lnTo>
                <a:lnTo>
                  <a:pt x="5" y="38"/>
                </a:lnTo>
                <a:lnTo>
                  <a:pt x="9" y="40"/>
                </a:lnTo>
                <a:lnTo>
                  <a:pt x="11" y="42"/>
                </a:lnTo>
                <a:lnTo>
                  <a:pt x="13" y="44"/>
                </a:lnTo>
                <a:lnTo>
                  <a:pt x="13" y="45"/>
                </a:lnTo>
                <a:lnTo>
                  <a:pt x="14" y="47"/>
                </a:lnTo>
                <a:lnTo>
                  <a:pt x="16" y="49"/>
                </a:lnTo>
                <a:lnTo>
                  <a:pt x="18" y="49"/>
                </a:lnTo>
                <a:lnTo>
                  <a:pt x="18" y="49"/>
                </a:lnTo>
                <a:lnTo>
                  <a:pt x="20" y="47"/>
                </a:lnTo>
                <a:lnTo>
                  <a:pt x="20" y="47"/>
                </a:lnTo>
                <a:lnTo>
                  <a:pt x="20" y="45"/>
                </a:lnTo>
                <a:lnTo>
                  <a:pt x="20" y="45"/>
                </a:lnTo>
                <a:lnTo>
                  <a:pt x="22" y="44"/>
                </a:lnTo>
                <a:lnTo>
                  <a:pt x="22" y="44"/>
                </a:lnTo>
                <a:lnTo>
                  <a:pt x="22" y="42"/>
                </a:lnTo>
                <a:lnTo>
                  <a:pt x="24" y="42"/>
                </a:lnTo>
                <a:lnTo>
                  <a:pt x="24" y="42"/>
                </a:lnTo>
                <a:lnTo>
                  <a:pt x="24" y="40"/>
                </a:lnTo>
                <a:lnTo>
                  <a:pt x="26" y="40"/>
                </a:lnTo>
                <a:lnTo>
                  <a:pt x="26" y="40"/>
                </a:lnTo>
                <a:lnTo>
                  <a:pt x="27" y="40"/>
                </a:lnTo>
                <a:lnTo>
                  <a:pt x="27" y="40"/>
                </a:lnTo>
                <a:lnTo>
                  <a:pt x="29" y="38"/>
                </a:lnTo>
                <a:lnTo>
                  <a:pt x="31" y="40"/>
                </a:lnTo>
                <a:lnTo>
                  <a:pt x="33" y="40"/>
                </a:lnTo>
                <a:lnTo>
                  <a:pt x="35" y="40"/>
                </a:lnTo>
                <a:lnTo>
                  <a:pt x="37" y="42"/>
                </a:lnTo>
                <a:lnTo>
                  <a:pt x="38" y="44"/>
                </a:lnTo>
                <a:lnTo>
                  <a:pt x="40" y="45"/>
                </a:lnTo>
                <a:lnTo>
                  <a:pt x="42" y="47"/>
                </a:lnTo>
                <a:lnTo>
                  <a:pt x="44" y="49"/>
                </a:lnTo>
                <a:lnTo>
                  <a:pt x="46" y="49"/>
                </a:lnTo>
                <a:lnTo>
                  <a:pt x="48" y="47"/>
                </a:lnTo>
                <a:lnTo>
                  <a:pt x="50" y="47"/>
                </a:lnTo>
                <a:lnTo>
                  <a:pt x="51" y="45"/>
                </a:lnTo>
                <a:lnTo>
                  <a:pt x="53" y="44"/>
                </a:lnTo>
                <a:lnTo>
                  <a:pt x="55" y="42"/>
                </a:lnTo>
                <a:lnTo>
                  <a:pt x="55" y="38"/>
                </a:lnTo>
                <a:lnTo>
                  <a:pt x="57" y="36"/>
                </a:lnTo>
                <a:lnTo>
                  <a:pt x="37" y="5"/>
                </a:lnTo>
                <a:lnTo>
                  <a:pt x="37" y="5"/>
                </a:lnTo>
                <a:lnTo>
                  <a:pt x="37" y="5"/>
                </a:lnTo>
                <a:lnTo>
                  <a:pt x="35" y="5"/>
                </a:lnTo>
                <a:lnTo>
                  <a:pt x="35" y="5"/>
                </a:lnTo>
                <a:lnTo>
                  <a:pt x="35" y="5"/>
                </a:lnTo>
                <a:lnTo>
                  <a:pt x="33" y="5"/>
                </a:lnTo>
                <a:lnTo>
                  <a:pt x="33" y="5"/>
                </a:lnTo>
                <a:lnTo>
                  <a:pt x="31" y="5"/>
                </a:lnTo>
                <a:lnTo>
                  <a:pt x="29" y="5"/>
                </a:lnTo>
                <a:lnTo>
                  <a:pt x="29" y="4"/>
                </a:lnTo>
                <a:lnTo>
                  <a:pt x="27" y="4"/>
                </a:lnTo>
                <a:lnTo>
                  <a:pt x="26" y="2"/>
                </a:lnTo>
                <a:lnTo>
                  <a:pt x="26" y="2"/>
                </a:lnTo>
                <a:lnTo>
                  <a:pt x="24" y="0"/>
                </a:lnTo>
                <a:lnTo>
                  <a:pt x="22" y="0"/>
                </a:lnTo>
                <a:lnTo>
                  <a:pt x="20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74040" y="2948040"/>
            <a:ext cx="230040" cy="183960"/>
          </a:xfrm>
          <a:custGeom>
            <a:avLst/>
            <a:gdLst/>
            <a:ahLst/>
            <a:rect l="l" t="t" r="r" b="b"/>
            <a:pathLst>
              <a:path w="145" h="116">
                <a:moveTo>
                  <a:pt x="7" y="0"/>
                </a:moveTo>
                <a:lnTo>
                  <a:pt x="7" y="0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14" y="12"/>
                </a:lnTo>
                <a:lnTo>
                  <a:pt x="29" y="23"/>
                </a:lnTo>
                <a:lnTo>
                  <a:pt x="44" y="32"/>
                </a:lnTo>
                <a:lnTo>
                  <a:pt x="60" y="43"/>
                </a:lnTo>
                <a:lnTo>
                  <a:pt x="75" y="56"/>
                </a:lnTo>
                <a:lnTo>
                  <a:pt x="90" y="69"/>
                </a:lnTo>
                <a:lnTo>
                  <a:pt x="103" y="83"/>
                </a:lnTo>
                <a:lnTo>
                  <a:pt x="114" y="98"/>
                </a:lnTo>
                <a:lnTo>
                  <a:pt x="118" y="101"/>
                </a:lnTo>
                <a:lnTo>
                  <a:pt x="120" y="103"/>
                </a:lnTo>
                <a:lnTo>
                  <a:pt x="123" y="105"/>
                </a:lnTo>
                <a:lnTo>
                  <a:pt x="125" y="108"/>
                </a:lnTo>
                <a:lnTo>
                  <a:pt x="127" y="110"/>
                </a:lnTo>
                <a:lnTo>
                  <a:pt x="131" y="112"/>
                </a:lnTo>
                <a:lnTo>
                  <a:pt x="132" y="114"/>
                </a:lnTo>
                <a:lnTo>
                  <a:pt x="136" y="116"/>
                </a:lnTo>
                <a:lnTo>
                  <a:pt x="136" y="116"/>
                </a:lnTo>
                <a:lnTo>
                  <a:pt x="138" y="116"/>
                </a:lnTo>
                <a:lnTo>
                  <a:pt x="138" y="116"/>
                </a:lnTo>
                <a:lnTo>
                  <a:pt x="140" y="116"/>
                </a:lnTo>
                <a:lnTo>
                  <a:pt x="142" y="116"/>
                </a:lnTo>
                <a:lnTo>
                  <a:pt x="142" y="116"/>
                </a:lnTo>
                <a:lnTo>
                  <a:pt x="144" y="116"/>
                </a:lnTo>
                <a:lnTo>
                  <a:pt x="145" y="116"/>
                </a:lnTo>
                <a:lnTo>
                  <a:pt x="140" y="101"/>
                </a:lnTo>
                <a:lnTo>
                  <a:pt x="131" y="88"/>
                </a:lnTo>
                <a:lnTo>
                  <a:pt x="120" y="76"/>
                </a:lnTo>
                <a:lnTo>
                  <a:pt x="105" y="63"/>
                </a:lnTo>
                <a:lnTo>
                  <a:pt x="92" y="52"/>
                </a:lnTo>
                <a:lnTo>
                  <a:pt x="77" y="43"/>
                </a:lnTo>
                <a:lnTo>
                  <a:pt x="62" y="34"/>
                </a:lnTo>
                <a:lnTo>
                  <a:pt x="51" y="25"/>
                </a:lnTo>
                <a:lnTo>
                  <a:pt x="44" y="21"/>
                </a:lnTo>
                <a:lnTo>
                  <a:pt x="38" y="18"/>
                </a:lnTo>
                <a:lnTo>
                  <a:pt x="33" y="16"/>
                </a:lnTo>
                <a:lnTo>
                  <a:pt x="29" y="12"/>
                </a:lnTo>
                <a:lnTo>
                  <a:pt x="24" y="9"/>
                </a:lnTo>
                <a:lnTo>
                  <a:pt x="18" y="5"/>
                </a:lnTo>
                <a:lnTo>
                  <a:pt x="12" y="3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73800" y="2979720"/>
            <a:ext cx="200160" cy="155520"/>
          </a:xfrm>
          <a:custGeom>
            <a:avLst/>
            <a:gdLst/>
            <a:ahLst/>
            <a:rect l="l" t="t" r="r" b="b"/>
            <a:pathLst>
              <a:path w="126" h="98">
                <a:moveTo>
                  <a:pt x="102" y="0"/>
                </a:moveTo>
                <a:lnTo>
                  <a:pt x="91" y="1"/>
                </a:lnTo>
                <a:lnTo>
                  <a:pt x="80" y="5"/>
                </a:lnTo>
                <a:lnTo>
                  <a:pt x="70" y="10"/>
                </a:lnTo>
                <a:lnTo>
                  <a:pt x="61" y="18"/>
                </a:lnTo>
                <a:lnTo>
                  <a:pt x="52" y="25"/>
                </a:lnTo>
                <a:lnTo>
                  <a:pt x="43" y="32"/>
                </a:lnTo>
                <a:lnTo>
                  <a:pt x="33" y="41"/>
                </a:lnTo>
                <a:lnTo>
                  <a:pt x="24" y="49"/>
                </a:lnTo>
                <a:lnTo>
                  <a:pt x="24" y="49"/>
                </a:lnTo>
                <a:lnTo>
                  <a:pt x="24" y="49"/>
                </a:lnTo>
                <a:lnTo>
                  <a:pt x="22" y="50"/>
                </a:lnTo>
                <a:lnTo>
                  <a:pt x="22" y="50"/>
                </a:lnTo>
                <a:lnTo>
                  <a:pt x="22" y="52"/>
                </a:lnTo>
                <a:lnTo>
                  <a:pt x="22" y="54"/>
                </a:lnTo>
                <a:lnTo>
                  <a:pt x="21" y="54"/>
                </a:lnTo>
                <a:lnTo>
                  <a:pt x="21" y="56"/>
                </a:lnTo>
                <a:lnTo>
                  <a:pt x="19" y="58"/>
                </a:lnTo>
                <a:lnTo>
                  <a:pt x="19" y="58"/>
                </a:lnTo>
                <a:lnTo>
                  <a:pt x="17" y="59"/>
                </a:lnTo>
                <a:lnTo>
                  <a:pt x="15" y="59"/>
                </a:lnTo>
                <a:lnTo>
                  <a:pt x="15" y="59"/>
                </a:lnTo>
                <a:lnTo>
                  <a:pt x="13" y="59"/>
                </a:lnTo>
                <a:lnTo>
                  <a:pt x="11" y="59"/>
                </a:lnTo>
                <a:lnTo>
                  <a:pt x="11" y="61"/>
                </a:lnTo>
                <a:lnTo>
                  <a:pt x="0" y="74"/>
                </a:lnTo>
                <a:lnTo>
                  <a:pt x="0" y="74"/>
                </a:lnTo>
                <a:lnTo>
                  <a:pt x="0" y="74"/>
                </a:lnTo>
                <a:lnTo>
                  <a:pt x="0" y="76"/>
                </a:lnTo>
                <a:lnTo>
                  <a:pt x="0" y="76"/>
                </a:lnTo>
                <a:lnTo>
                  <a:pt x="0" y="78"/>
                </a:lnTo>
                <a:lnTo>
                  <a:pt x="0" y="78"/>
                </a:lnTo>
                <a:lnTo>
                  <a:pt x="0" y="79"/>
                </a:lnTo>
                <a:lnTo>
                  <a:pt x="2" y="79"/>
                </a:lnTo>
                <a:lnTo>
                  <a:pt x="15" y="94"/>
                </a:lnTo>
                <a:lnTo>
                  <a:pt x="24" y="98"/>
                </a:lnTo>
                <a:lnTo>
                  <a:pt x="32" y="98"/>
                </a:lnTo>
                <a:lnTo>
                  <a:pt x="41" y="98"/>
                </a:lnTo>
                <a:lnTo>
                  <a:pt x="48" y="96"/>
                </a:lnTo>
                <a:lnTo>
                  <a:pt x="56" y="94"/>
                </a:lnTo>
                <a:lnTo>
                  <a:pt x="63" y="88"/>
                </a:lnTo>
                <a:lnTo>
                  <a:pt x="69" y="85"/>
                </a:lnTo>
                <a:lnTo>
                  <a:pt x="74" y="79"/>
                </a:lnTo>
                <a:lnTo>
                  <a:pt x="74" y="79"/>
                </a:lnTo>
                <a:lnTo>
                  <a:pt x="74" y="78"/>
                </a:lnTo>
                <a:lnTo>
                  <a:pt x="74" y="78"/>
                </a:lnTo>
                <a:lnTo>
                  <a:pt x="74" y="76"/>
                </a:lnTo>
                <a:lnTo>
                  <a:pt x="72" y="76"/>
                </a:lnTo>
                <a:lnTo>
                  <a:pt x="72" y="76"/>
                </a:lnTo>
                <a:lnTo>
                  <a:pt x="70" y="76"/>
                </a:lnTo>
                <a:lnTo>
                  <a:pt x="70" y="76"/>
                </a:lnTo>
                <a:lnTo>
                  <a:pt x="59" y="56"/>
                </a:lnTo>
                <a:lnTo>
                  <a:pt x="59" y="56"/>
                </a:lnTo>
                <a:lnTo>
                  <a:pt x="59" y="54"/>
                </a:lnTo>
                <a:lnTo>
                  <a:pt x="59" y="54"/>
                </a:lnTo>
                <a:lnTo>
                  <a:pt x="59" y="52"/>
                </a:lnTo>
                <a:lnTo>
                  <a:pt x="59" y="50"/>
                </a:lnTo>
                <a:lnTo>
                  <a:pt x="61" y="50"/>
                </a:lnTo>
                <a:lnTo>
                  <a:pt x="61" y="49"/>
                </a:lnTo>
                <a:lnTo>
                  <a:pt x="63" y="49"/>
                </a:lnTo>
                <a:lnTo>
                  <a:pt x="63" y="47"/>
                </a:lnTo>
                <a:lnTo>
                  <a:pt x="65" y="47"/>
                </a:lnTo>
                <a:lnTo>
                  <a:pt x="67" y="47"/>
                </a:lnTo>
                <a:lnTo>
                  <a:pt x="69" y="45"/>
                </a:lnTo>
                <a:lnTo>
                  <a:pt x="70" y="45"/>
                </a:lnTo>
                <a:lnTo>
                  <a:pt x="72" y="45"/>
                </a:lnTo>
                <a:lnTo>
                  <a:pt x="74" y="45"/>
                </a:lnTo>
                <a:lnTo>
                  <a:pt x="76" y="45"/>
                </a:lnTo>
                <a:lnTo>
                  <a:pt x="76" y="47"/>
                </a:lnTo>
                <a:lnTo>
                  <a:pt x="78" y="47"/>
                </a:lnTo>
                <a:lnTo>
                  <a:pt x="78" y="47"/>
                </a:lnTo>
                <a:lnTo>
                  <a:pt x="78" y="49"/>
                </a:lnTo>
                <a:lnTo>
                  <a:pt x="78" y="49"/>
                </a:lnTo>
                <a:lnTo>
                  <a:pt x="80" y="50"/>
                </a:lnTo>
                <a:lnTo>
                  <a:pt x="80" y="50"/>
                </a:lnTo>
                <a:lnTo>
                  <a:pt x="81" y="50"/>
                </a:lnTo>
                <a:lnTo>
                  <a:pt x="83" y="50"/>
                </a:lnTo>
                <a:lnTo>
                  <a:pt x="83" y="50"/>
                </a:lnTo>
                <a:lnTo>
                  <a:pt x="85" y="50"/>
                </a:lnTo>
                <a:lnTo>
                  <a:pt x="85" y="50"/>
                </a:lnTo>
                <a:lnTo>
                  <a:pt x="87" y="50"/>
                </a:lnTo>
                <a:lnTo>
                  <a:pt x="87" y="50"/>
                </a:lnTo>
                <a:lnTo>
                  <a:pt x="89" y="50"/>
                </a:lnTo>
                <a:lnTo>
                  <a:pt x="91" y="50"/>
                </a:lnTo>
                <a:lnTo>
                  <a:pt x="93" y="50"/>
                </a:lnTo>
                <a:lnTo>
                  <a:pt x="93" y="50"/>
                </a:lnTo>
                <a:lnTo>
                  <a:pt x="94" y="49"/>
                </a:lnTo>
                <a:lnTo>
                  <a:pt x="94" y="47"/>
                </a:lnTo>
                <a:lnTo>
                  <a:pt x="96" y="45"/>
                </a:lnTo>
                <a:lnTo>
                  <a:pt x="96" y="43"/>
                </a:lnTo>
                <a:lnTo>
                  <a:pt x="98" y="41"/>
                </a:lnTo>
                <a:lnTo>
                  <a:pt x="98" y="39"/>
                </a:lnTo>
                <a:lnTo>
                  <a:pt x="126" y="18"/>
                </a:lnTo>
                <a:lnTo>
                  <a:pt x="126" y="16"/>
                </a:lnTo>
                <a:lnTo>
                  <a:pt x="124" y="16"/>
                </a:lnTo>
                <a:lnTo>
                  <a:pt x="124" y="14"/>
                </a:lnTo>
                <a:lnTo>
                  <a:pt x="124" y="14"/>
                </a:lnTo>
                <a:lnTo>
                  <a:pt x="124" y="12"/>
                </a:lnTo>
                <a:lnTo>
                  <a:pt x="124" y="10"/>
                </a:lnTo>
                <a:lnTo>
                  <a:pt x="124" y="10"/>
                </a:lnTo>
                <a:lnTo>
                  <a:pt x="124" y="9"/>
                </a:lnTo>
                <a:lnTo>
                  <a:pt x="122" y="9"/>
                </a:lnTo>
                <a:lnTo>
                  <a:pt x="122" y="9"/>
                </a:lnTo>
                <a:lnTo>
                  <a:pt x="122" y="7"/>
                </a:lnTo>
                <a:lnTo>
                  <a:pt x="122" y="7"/>
                </a:lnTo>
                <a:lnTo>
                  <a:pt x="120" y="7"/>
                </a:lnTo>
                <a:lnTo>
                  <a:pt x="120" y="7"/>
                </a:lnTo>
                <a:lnTo>
                  <a:pt x="120" y="5"/>
                </a:lnTo>
                <a:lnTo>
                  <a:pt x="118" y="5"/>
                </a:lnTo>
                <a:lnTo>
                  <a:pt x="102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12040" y="3065400"/>
            <a:ext cx="181080" cy="127080"/>
          </a:xfrm>
          <a:custGeom>
            <a:avLst/>
            <a:gdLst/>
            <a:ahLst/>
            <a:rect l="l" t="t" r="r" b="b"/>
            <a:pathLst>
              <a:path w="114" h="80">
                <a:moveTo>
                  <a:pt x="100" y="0"/>
                </a:moveTo>
                <a:lnTo>
                  <a:pt x="85" y="2"/>
                </a:lnTo>
                <a:lnTo>
                  <a:pt x="72" y="5"/>
                </a:lnTo>
                <a:lnTo>
                  <a:pt x="59" y="13"/>
                </a:lnTo>
                <a:lnTo>
                  <a:pt x="48" y="22"/>
                </a:lnTo>
                <a:lnTo>
                  <a:pt x="37" y="33"/>
                </a:lnTo>
                <a:lnTo>
                  <a:pt x="26" y="42"/>
                </a:lnTo>
                <a:lnTo>
                  <a:pt x="15" y="53"/>
                </a:lnTo>
                <a:lnTo>
                  <a:pt x="4" y="62"/>
                </a:lnTo>
                <a:lnTo>
                  <a:pt x="4" y="62"/>
                </a:lnTo>
                <a:lnTo>
                  <a:pt x="2" y="63"/>
                </a:lnTo>
                <a:lnTo>
                  <a:pt x="2" y="63"/>
                </a:lnTo>
                <a:lnTo>
                  <a:pt x="2" y="65"/>
                </a:lnTo>
                <a:lnTo>
                  <a:pt x="2" y="65"/>
                </a:lnTo>
                <a:lnTo>
                  <a:pt x="0" y="67"/>
                </a:lnTo>
                <a:lnTo>
                  <a:pt x="0" y="67"/>
                </a:lnTo>
                <a:lnTo>
                  <a:pt x="0" y="67"/>
                </a:lnTo>
                <a:lnTo>
                  <a:pt x="0" y="67"/>
                </a:lnTo>
                <a:lnTo>
                  <a:pt x="0" y="69"/>
                </a:lnTo>
                <a:lnTo>
                  <a:pt x="0" y="69"/>
                </a:lnTo>
                <a:lnTo>
                  <a:pt x="2" y="69"/>
                </a:lnTo>
                <a:lnTo>
                  <a:pt x="2" y="71"/>
                </a:lnTo>
                <a:lnTo>
                  <a:pt x="2" y="71"/>
                </a:lnTo>
                <a:lnTo>
                  <a:pt x="2" y="73"/>
                </a:lnTo>
                <a:lnTo>
                  <a:pt x="4" y="73"/>
                </a:lnTo>
                <a:lnTo>
                  <a:pt x="7" y="76"/>
                </a:lnTo>
                <a:lnTo>
                  <a:pt x="13" y="78"/>
                </a:lnTo>
                <a:lnTo>
                  <a:pt x="18" y="80"/>
                </a:lnTo>
                <a:lnTo>
                  <a:pt x="26" y="80"/>
                </a:lnTo>
                <a:lnTo>
                  <a:pt x="31" y="80"/>
                </a:lnTo>
                <a:lnTo>
                  <a:pt x="37" y="78"/>
                </a:lnTo>
                <a:lnTo>
                  <a:pt x="44" y="76"/>
                </a:lnTo>
                <a:lnTo>
                  <a:pt x="48" y="73"/>
                </a:lnTo>
                <a:lnTo>
                  <a:pt x="50" y="71"/>
                </a:lnTo>
                <a:lnTo>
                  <a:pt x="54" y="71"/>
                </a:lnTo>
                <a:lnTo>
                  <a:pt x="55" y="69"/>
                </a:lnTo>
                <a:lnTo>
                  <a:pt x="57" y="69"/>
                </a:lnTo>
                <a:lnTo>
                  <a:pt x="57" y="67"/>
                </a:lnTo>
                <a:lnTo>
                  <a:pt x="59" y="67"/>
                </a:lnTo>
                <a:lnTo>
                  <a:pt x="61" y="65"/>
                </a:lnTo>
                <a:lnTo>
                  <a:pt x="63" y="63"/>
                </a:lnTo>
                <a:lnTo>
                  <a:pt x="55" y="51"/>
                </a:lnTo>
                <a:lnTo>
                  <a:pt x="61" y="40"/>
                </a:lnTo>
                <a:lnTo>
                  <a:pt x="61" y="38"/>
                </a:lnTo>
                <a:lnTo>
                  <a:pt x="61" y="38"/>
                </a:lnTo>
                <a:lnTo>
                  <a:pt x="61" y="38"/>
                </a:lnTo>
                <a:lnTo>
                  <a:pt x="63" y="38"/>
                </a:lnTo>
                <a:lnTo>
                  <a:pt x="63" y="38"/>
                </a:lnTo>
                <a:lnTo>
                  <a:pt x="65" y="36"/>
                </a:lnTo>
                <a:lnTo>
                  <a:pt x="65" y="36"/>
                </a:lnTo>
                <a:lnTo>
                  <a:pt x="66" y="36"/>
                </a:lnTo>
                <a:lnTo>
                  <a:pt x="83" y="42"/>
                </a:lnTo>
                <a:lnTo>
                  <a:pt x="89" y="40"/>
                </a:lnTo>
                <a:lnTo>
                  <a:pt x="94" y="36"/>
                </a:lnTo>
                <a:lnTo>
                  <a:pt x="100" y="33"/>
                </a:lnTo>
                <a:lnTo>
                  <a:pt x="105" y="29"/>
                </a:lnTo>
                <a:lnTo>
                  <a:pt x="109" y="25"/>
                </a:lnTo>
                <a:lnTo>
                  <a:pt x="113" y="20"/>
                </a:lnTo>
                <a:lnTo>
                  <a:pt x="114" y="14"/>
                </a:lnTo>
                <a:lnTo>
                  <a:pt x="114" y="9"/>
                </a:lnTo>
                <a:lnTo>
                  <a:pt x="113" y="7"/>
                </a:lnTo>
                <a:lnTo>
                  <a:pt x="111" y="5"/>
                </a:lnTo>
                <a:lnTo>
                  <a:pt x="111" y="5"/>
                </a:lnTo>
                <a:lnTo>
                  <a:pt x="109" y="4"/>
                </a:lnTo>
                <a:lnTo>
                  <a:pt x="107" y="2"/>
                </a:lnTo>
                <a:lnTo>
                  <a:pt x="105" y="2"/>
                </a:lnTo>
                <a:lnTo>
                  <a:pt x="103" y="0"/>
                </a:lnTo>
                <a:lnTo>
                  <a:pt x="100" y="0"/>
                </a:lnTo>
                <a:close/>
              </a:path>
            </a:pathLst>
          </a:custGeom>
          <a:solidFill>
            <a:srgbClr val="aa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4073-C93A-4C28-A992-61FEA6FF58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838080" y="631800"/>
            <a:ext cx="7228080" cy="1219320"/>
            <a:chOff x="838080" y="631800"/>
            <a:chExt cx="7228080" cy="1219320"/>
          </a:xfrm>
        </p:grpSpPr>
        <p:sp>
          <p:nvSpPr>
            <p:cNvPr id="180" name=""/>
            <p:cNvSpPr/>
            <p:nvPr/>
          </p:nvSpPr>
          <p:spPr>
            <a:xfrm>
              <a:off x="838080" y="685800"/>
              <a:ext cx="228600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Step 1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riefly Describe Your Topic/Focus/ The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8120" y="631800"/>
              <a:ext cx="5018040" cy="1219320"/>
            </a:xfrm>
            <a:prstGeom prst="roundRect">
              <a:avLst>
                <a:gd name="adj" fmla="val 16667"/>
              </a:avLst>
            </a:prstGeom>
            <a:solidFill>
              <a:srgbClr val="ffb5a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Topic/Focus/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emporary media celebrates violence in ways that encourage violent behaviour in adolescents today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990720" y="1905120"/>
            <a:ext cx="7086600" cy="1708200"/>
            <a:chOff x="990720" y="1905120"/>
            <a:chExt cx="7086600" cy="1708200"/>
          </a:xfrm>
        </p:grpSpPr>
        <p:sp>
          <p:nvSpPr>
            <p:cNvPr id="183" name=""/>
            <p:cNvSpPr/>
            <p:nvPr/>
          </p:nvSpPr>
          <p:spPr>
            <a:xfrm>
              <a:off x="1768320" y="1905120"/>
              <a:ext cx="425520" cy="398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18160" y="2070000"/>
              <a:ext cx="1559160" cy="15433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Third Con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olesc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81520" y="2070000"/>
              <a:ext cx="1562040" cy="15433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econd Con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iol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8120" y="2070000"/>
              <a:ext cx="1558800" cy="15433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First Con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62480" y="2986200"/>
              <a:ext cx="593640" cy="4618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0760" y="2986200"/>
              <a:ext cx="591840" cy="46188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2514600"/>
              <a:ext cx="19810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Step 2.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Identify the Main Concep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990720" y="3733920"/>
            <a:ext cx="7086600" cy="2666880"/>
            <a:chOff x="990720" y="3733920"/>
            <a:chExt cx="7086600" cy="2666880"/>
          </a:xfrm>
        </p:grpSpPr>
        <p:sp>
          <p:nvSpPr>
            <p:cNvPr id="191" name=""/>
            <p:cNvSpPr/>
            <p:nvPr/>
          </p:nvSpPr>
          <p:spPr>
            <a:xfrm>
              <a:off x="1766880" y="3733920"/>
              <a:ext cx="426960" cy="398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8120" y="3832200"/>
              <a:ext cx="1558800" cy="2568600"/>
            </a:xfrm>
            <a:custGeom>
              <a:avLst/>
              <a:gdLst>
                <a:gd name="textAreaLeft" fmla="*/ 75960 w 1558800"/>
                <a:gd name="textAreaRight" fmla="*/ 1482840 w 1558800"/>
                <a:gd name="textAreaTop" fmla="*/ 75960 h 2568600"/>
                <a:gd name="textAreaBottom" fmla="*/ 2492640 h 2568600"/>
              </a:gdLst>
              <a:ahLst/>
              <a:rect l="textAreaLeft" t="textAreaTop" r="textAreaRight" b="textAreaBottom"/>
              <a:pathLst>
                <a:path w="21600" h="35589">
                  <a:moveTo>
                    <a:pt x="3600" y="0"/>
                  </a:moveTo>
                  <a:arcTo wR="3600" hR="3600" stAng="16200000" swAng="-5400000"/>
                  <a:lnTo>
                    <a:pt x="0" y="31989"/>
                  </a:lnTo>
                  <a:arcTo wR="3600" hR="3600" stAng="10800000" swAng="-5400000"/>
                  <a:lnTo>
                    <a:pt x="18000" y="355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ff85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rst Concept Related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lev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ideo g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v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41680" y="4876920"/>
              <a:ext cx="592200" cy="239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1520" y="3832200"/>
              <a:ext cx="1562040" cy="2568600"/>
            </a:xfrm>
            <a:custGeom>
              <a:avLst/>
              <a:gdLst>
                <a:gd name="textAreaLeft" fmla="*/ 75960 w 1562040"/>
                <a:gd name="textAreaRight" fmla="*/ 1486080 w 1562040"/>
                <a:gd name="textAreaTop" fmla="*/ 75960 h 2568600"/>
                <a:gd name="textAreaBottom" fmla="*/ 2492640 h 2568600"/>
              </a:gdLst>
              <a:ahLst/>
              <a:rect l="textAreaLeft" t="textAreaTop" r="textAreaRight" b="textAreaBottom"/>
              <a:pathLst>
                <a:path w="21600" h="35516">
                  <a:moveTo>
                    <a:pt x="3600" y="0"/>
                  </a:moveTo>
                  <a:arcTo wR="3600" hR="3600" stAng="16200000" swAng="-5400000"/>
                  <a:lnTo>
                    <a:pt x="0" y="31916"/>
                  </a:lnTo>
                  <a:arcTo wR="3600" hR="3600" stAng="10800000" swAng="-5400000"/>
                  <a:lnTo>
                    <a:pt x="18000" y="355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ff85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cond Concept Related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ut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75440" y="4876920"/>
              <a:ext cx="591840" cy="239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3360" y="5643720"/>
              <a:ext cx="591840" cy="236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18160" y="3832200"/>
              <a:ext cx="1559160" cy="2568600"/>
            </a:xfrm>
            <a:custGeom>
              <a:avLst/>
              <a:gdLst>
                <a:gd name="textAreaLeft" fmla="*/ 75960 w 1559160"/>
                <a:gd name="textAreaRight" fmla="*/ 1483200 w 1559160"/>
                <a:gd name="textAreaTop" fmla="*/ 75960 h 2568600"/>
                <a:gd name="textAreaBottom" fmla="*/ 2492640 h 2568600"/>
              </a:gdLst>
              <a:ahLst/>
              <a:rect l="textAreaLeft" t="textAreaTop" r="textAreaRight" b="textAreaBottom"/>
              <a:pathLst>
                <a:path w="21600" h="35581">
                  <a:moveTo>
                    <a:pt x="3600" y="0"/>
                  </a:moveTo>
                  <a:arcTo wR="3600" hR="3600" stAng="16200000" swAng="-5400000"/>
                  <a:lnTo>
                    <a:pt x="0" y="31981"/>
                  </a:lnTo>
                  <a:arcTo wR="3600" hR="3600" stAng="10800000" swAng="-5400000"/>
                  <a:lnTo>
                    <a:pt x="18000" y="355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ff85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ird Concept Related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ou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7280" y="4876920"/>
              <a:ext cx="594000" cy="239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42320" y="5643720"/>
              <a:ext cx="591840" cy="236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38440" y="5637240"/>
              <a:ext cx="592200" cy="239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41680" y="5481720"/>
              <a:ext cx="592200" cy="461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4960" y="5481720"/>
              <a:ext cx="592200" cy="46188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90720" y="4343400"/>
              <a:ext cx="19810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Step 3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Think Synonyms/ Related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8088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Effective Online Searching: Using Concepts to Develop Key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BC4C2-FCD2-4584-B5FC-401A9E8BF4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3505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Selecting </a:t>
            </a:r>
            <a:br>
              <a:rPr sz="2800"/>
            </a:br>
            <a:r>
              <a:rPr b="0" lang="en-CA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Resources: </a:t>
            </a:r>
            <a:br>
              <a:rPr sz="2800"/>
            </a:br>
            <a:r>
              <a:rPr b="0" lang="en-CA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A Sample </a:t>
            </a:r>
            <a:br>
              <a:rPr sz="2800"/>
            </a:br>
            <a:r>
              <a:rPr b="0" lang="en-CA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Flow Chart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Topic:  </a:t>
            </a: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Pierre Trudeau</a:t>
            </a:r>
            <a:br>
              <a:rPr sz="2000"/>
            </a:br>
            <a:br>
              <a:rPr sz="2000"/>
            </a:br>
            <a:r>
              <a:rPr b="0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Focus:</a:t>
            </a: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The Canadian </a:t>
            </a:r>
            <a:br>
              <a:rPr sz="2000"/>
            </a:b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           Charter of Rights</a:t>
            </a: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	</a:t>
            </a:r>
            <a:br>
              <a:rPr sz="2000"/>
            </a:br>
            <a:br>
              <a:rPr sz="2000"/>
            </a:b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	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984920" y="146160"/>
            <a:ext cx="2307960" cy="546120"/>
            <a:chOff x="4984920" y="146160"/>
            <a:chExt cx="2307960" cy="546120"/>
          </a:xfrm>
        </p:grpSpPr>
        <p:sp>
          <p:nvSpPr>
            <p:cNvPr id="207" name=""/>
            <p:cNvSpPr/>
            <p:nvPr/>
          </p:nvSpPr>
          <p:spPr>
            <a:xfrm>
              <a:off x="4984920" y="146160"/>
              <a:ext cx="2307960" cy="546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57640" y="155520"/>
              <a:ext cx="21636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rt Stag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udeau: Char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984920" y="692280"/>
            <a:ext cx="2307960" cy="1046160"/>
            <a:chOff x="4984920" y="692280"/>
            <a:chExt cx="2307960" cy="1046160"/>
          </a:xfrm>
        </p:grpSpPr>
        <p:sp>
          <p:nvSpPr>
            <p:cNvPr id="210" name=""/>
            <p:cNvSpPr/>
            <p:nvPr/>
          </p:nvSpPr>
          <p:spPr>
            <a:xfrm>
              <a:off x="4984920" y="1004760"/>
              <a:ext cx="2307960" cy="7336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57640" y="984240"/>
              <a:ext cx="21636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t an Over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line Canadian Encyclope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40520" y="69228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984920" y="1733400"/>
            <a:ext cx="2307960" cy="1190880"/>
            <a:chOff x="4984920" y="1733400"/>
            <a:chExt cx="2307960" cy="1190880"/>
          </a:xfrm>
        </p:grpSpPr>
        <p:sp>
          <p:nvSpPr>
            <p:cNvPr id="214" name=""/>
            <p:cNvSpPr/>
            <p:nvPr/>
          </p:nvSpPr>
          <p:spPr>
            <a:xfrm>
              <a:off x="4984920" y="2041560"/>
              <a:ext cx="2307960" cy="87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57640" y="2023920"/>
              <a:ext cx="216360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eck Primary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rter of Righ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udeau’s Memoir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40520" y="173340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992840" y="2913120"/>
            <a:ext cx="2309760" cy="1219320"/>
            <a:chOff x="4992840" y="2913120"/>
            <a:chExt cx="2309760" cy="1219320"/>
          </a:xfrm>
        </p:grpSpPr>
        <p:sp>
          <p:nvSpPr>
            <p:cNvPr id="218" name=""/>
            <p:cNvSpPr/>
            <p:nvPr/>
          </p:nvSpPr>
          <p:spPr>
            <a:xfrm>
              <a:off x="4992840" y="3244680"/>
              <a:ext cx="2309760" cy="8748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1560" y="3220920"/>
              <a:ext cx="2165400" cy="9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eck Secondary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udeau Biograph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cLean’s arti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40520" y="291312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106960" y="4103640"/>
            <a:ext cx="2021040" cy="1558800"/>
            <a:chOff x="5106960" y="4103640"/>
            <a:chExt cx="2021040" cy="1558800"/>
          </a:xfrm>
        </p:grpSpPr>
        <p:sp>
          <p:nvSpPr>
            <p:cNvPr id="222" name=""/>
            <p:cNvSpPr/>
            <p:nvPr/>
          </p:nvSpPr>
          <p:spPr>
            <a:xfrm>
              <a:off x="5106960" y="4387680"/>
              <a:ext cx="2021040" cy="1274760"/>
            </a:xfrm>
            <a:prstGeom prst="flowChartDecision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21320" y="4775040"/>
              <a:ext cx="115416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ou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4440" y="410364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541680" y="5618160"/>
            <a:ext cx="3751200" cy="1103400"/>
            <a:chOff x="3541680" y="5618160"/>
            <a:chExt cx="3751200" cy="1103400"/>
          </a:xfrm>
        </p:grpSpPr>
        <p:grpSp>
          <p:nvGrpSpPr>
            <p:cNvPr id="226" name=""/>
            <p:cNvGrpSpPr/>
            <p:nvPr/>
          </p:nvGrpSpPr>
          <p:grpSpPr>
            <a:xfrm>
              <a:off x="3541680" y="5618160"/>
              <a:ext cx="3751200" cy="1103400"/>
              <a:chOff x="3541680" y="5618160"/>
              <a:chExt cx="3751200" cy="1103400"/>
            </a:xfrm>
          </p:grpSpPr>
          <p:sp>
            <p:nvSpPr>
              <p:cNvPr id="227" name=""/>
              <p:cNvSpPr/>
              <p:nvPr/>
            </p:nvSpPr>
            <p:spPr>
              <a:xfrm>
                <a:off x="6097680" y="5678640"/>
                <a:ext cx="0" cy="30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84560" y="6087960"/>
                <a:ext cx="2308320" cy="633600"/>
              </a:xfrm>
              <a:prstGeom prst="roundRect">
                <a:avLst>
                  <a:gd name="adj" fmla="val 16667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57640" y="6062760"/>
                <a:ext cx="216396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omplete Stage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rudeau: Char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541680" y="561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541680" y="6380280"/>
                <a:ext cx="144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273640" y="5643720"/>
              <a:ext cx="6685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666880" y="4570560"/>
            <a:ext cx="2563920" cy="1023840"/>
            <a:chOff x="2666880" y="4570560"/>
            <a:chExt cx="2563920" cy="1023840"/>
          </a:xfrm>
        </p:grpSpPr>
        <p:sp>
          <p:nvSpPr>
            <p:cNvPr id="234" name=""/>
            <p:cNvSpPr/>
            <p:nvPr/>
          </p:nvSpPr>
          <p:spPr>
            <a:xfrm>
              <a:off x="2797200" y="4579920"/>
              <a:ext cx="1887480" cy="101448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6880" y="4570560"/>
              <a:ext cx="216540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nd more detai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BC Archives webs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60920" y="50259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11760" y="5165640"/>
              <a:ext cx="41904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40760" y="6369120"/>
            <a:ext cx="33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Toronto District School Board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9E78-A2C4-4BF5-B010-048BAAC817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2819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Selecting </a:t>
            </a:r>
            <a:br>
              <a:rPr sz="2800"/>
            </a:br>
            <a:r>
              <a:rPr b="0" lang="en-CA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Resources: </a:t>
            </a:r>
            <a:br>
              <a:rPr sz="2800"/>
            </a:br>
            <a:r>
              <a:rPr b="0" lang="en-CA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A Sample </a:t>
            </a:r>
            <a:br>
              <a:rPr sz="2800"/>
            </a:br>
            <a:r>
              <a:rPr b="0" lang="en-CA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Flow Chart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Topic:</a:t>
            </a: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	</a:t>
            </a: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Focus:</a:t>
            </a: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en-CA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	</a:t>
            </a:r>
            <a:endParaRPr b="1" lang="en-US" sz="2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235400" y="146160"/>
            <a:ext cx="2308320" cy="546120"/>
            <a:chOff x="4235400" y="146160"/>
            <a:chExt cx="2308320" cy="546120"/>
          </a:xfrm>
        </p:grpSpPr>
        <p:sp>
          <p:nvSpPr>
            <p:cNvPr id="241" name=""/>
            <p:cNvSpPr/>
            <p:nvPr/>
          </p:nvSpPr>
          <p:spPr>
            <a:xfrm>
              <a:off x="4235400" y="146160"/>
              <a:ext cx="2308320" cy="546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08480" y="155520"/>
              <a:ext cx="216396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rt Stag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235400" y="692280"/>
            <a:ext cx="2308320" cy="1046160"/>
            <a:chOff x="4235400" y="692280"/>
            <a:chExt cx="2308320" cy="1046160"/>
          </a:xfrm>
        </p:grpSpPr>
        <p:sp>
          <p:nvSpPr>
            <p:cNvPr id="244" name=""/>
            <p:cNvSpPr/>
            <p:nvPr/>
          </p:nvSpPr>
          <p:spPr>
            <a:xfrm>
              <a:off x="4235400" y="1004760"/>
              <a:ext cx="2308320" cy="73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08480" y="984240"/>
              <a:ext cx="2163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t an Over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91360" y="69228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235400" y="1733400"/>
            <a:ext cx="2308320" cy="1190880"/>
            <a:chOff x="4235400" y="1733400"/>
            <a:chExt cx="2308320" cy="1190880"/>
          </a:xfrm>
        </p:grpSpPr>
        <p:sp>
          <p:nvSpPr>
            <p:cNvPr id="248" name=""/>
            <p:cNvSpPr/>
            <p:nvPr/>
          </p:nvSpPr>
          <p:spPr>
            <a:xfrm>
              <a:off x="4235400" y="2041560"/>
              <a:ext cx="2308320" cy="87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08480" y="2023920"/>
              <a:ext cx="2163960" cy="9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eck Primary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91360" y="173340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243320" y="2913120"/>
            <a:ext cx="2309760" cy="1219320"/>
            <a:chOff x="4243320" y="2913120"/>
            <a:chExt cx="2309760" cy="1219320"/>
          </a:xfrm>
        </p:grpSpPr>
        <p:sp>
          <p:nvSpPr>
            <p:cNvPr id="252" name=""/>
            <p:cNvSpPr/>
            <p:nvPr/>
          </p:nvSpPr>
          <p:spPr>
            <a:xfrm>
              <a:off x="4243320" y="3244680"/>
              <a:ext cx="2309760" cy="87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62040" y="3220920"/>
              <a:ext cx="2165400" cy="9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eck Secondary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91000" y="291312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357800" y="4103640"/>
            <a:ext cx="2020680" cy="1558800"/>
            <a:chOff x="4357800" y="4103640"/>
            <a:chExt cx="2020680" cy="1558800"/>
          </a:xfrm>
        </p:grpSpPr>
        <p:sp>
          <p:nvSpPr>
            <p:cNvPr id="256" name=""/>
            <p:cNvSpPr/>
            <p:nvPr/>
          </p:nvSpPr>
          <p:spPr>
            <a:xfrm>
              <a:off x="4357800" y="4387680"/>
              <a:ext cx="2020680" cy="12747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71800" y="4775040"/>
              <a:ext cx="115380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ou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44920" y="410364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792520" y="5618160"/>
            <a:ext cx="3751200" cy="1103400"/>
            <a:chOff x="2792520" y="5618160"/>
            <a:chExt cx="3751200" cy="1103400"/>
          </a:xfrm>
        </p:grpSpPr>
        <p:grpSp>
          <p:nvGrpSpPr>
            <p:cNvPr id="260" name=""/>
            <p:cNvGrpSpPr/>
            <p:nvPr/>
          </p:nvGrpSpPr>
          <p:grpSpPr>
            <a:xfrm>
              <a:off x="2792520" y="5618160"/>
              <a:ext cx="3751200" cy="1103400"/>
              <a:chOff x="2792520" y="5618160"/>
              <a:chExt cx="3751200" cy="1103400"/>
            </a:xfrm>
          </p:grpSpPr>
          <p:sp>
            <p:nvSpPr>
              <p:cNvPr id="261" name=""/>
              <p:cNvSpPr/>
              <p:nvPr/>
            </p:nvSpPr>
            <p:spPr>
              <a:xfrm>
                <a:off x="5348520" y="5678640"/>
                <a:ext cx="0" cy="30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235400" y="6087960"/>
                <a:ext cx="2308320" cy="633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08480" y="6062760"/>
                <a:ext cx="216396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omplete Stage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92520" y="561816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792520" y="6380280"/>
                <a:ext cx="144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4524480" y="5643720"/>
              <a:ext cx="668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917720" y="4570560"/>
            <a:ext cx="2563920" cy="1023840"/>
            <a:chOff x="1917720" y="4570560"/>
            <a:chExt cx="2563920" cy="1023840"/>
          </a:xfrm>
        </p:grpSpPr>
        <p:sp>
          <p:nvSpPr>
            <p:cNvPr id="268" name=""/>
            <p:cNvSpPr/>
            <p:nvPr/>
          </p:nvSpPr>
          <p:spPr>
            <a:xfrm>
              <a:off x="2048040" y="4579920"/>
              <a:ext cx="1887480" cy="10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17720" y="4570560"/>
              <a:ext cx="216540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nd more detai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911760" y="50259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2600" y="5165640"/>
              <a:ext cx="4190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781680" y="685800"/>
            <a:ext cx="221004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ycloped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tion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na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zed Ref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1680" y="1905120"/>
            <a:ext cx="236232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grap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1680" y="3200400"/>
            <a:ext cx="228600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graph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al artic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iction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0760" y="6369120"/>
            <a:ext cx="33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Toronto District School Board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3048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A45D-047C-4D95-8EA3-CCE1CCF2A2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coring Chart: Stage 2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106668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read/viewed a variety of print, electronic, and media resources in my school librar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used the School Library Website to search for and find appropriate online resources.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used search directories to find appropriat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used search engines to find appropriat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used skimmed and scanned texts for appropriate informa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selected the best resources for my assignme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continued to plan my work and track my decision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collaborated with teacher-librarian, teachers, and peers to check my ideas so f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recorded the sources of information that I have select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organized my resources effective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135F2-28BB-407F-BFE1-F2481F2343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tage 2 Checklis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680" y="152280"/>
            <a:ext cx="2133720" cy="2001960"/>
            <a:chOff x="6781680" y="152280"/>
            <a:chExt cx="2133720" cy="2001960"/>
          </a:xfrm>
        </p:grpSpPr>
        <p:sp>
          <p:nvSpPr>
            <p:cNvPr id="47" name=""/>
            <p:cNvSpPr/>
            <p:nvPr/>
          </p:nvSpPr>
          <p:spPr>
            <a:xfrm>
              <a:off x="6781680" y="152280"/>
              <a:ext cx="2133720" cy="2001960"/>
            </a:xfrm>
            <a:prstGeom prst="ellipse">
              <a:avLst/>
            </a:prstGeom>
            <a:solidFill>
              <a:srgbClr val="ccecff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78600" y="1487520"/>
              <a:ext cx="6843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924680" y="1487520"/>
              <a:ext cx="914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labo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077240" y="770040"/>
              <a:ext cx="1544400" cy="1079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 2 Access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64280" y="606600"/>
              <a:ext cx="662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50240" y="606600"/>
              <a:ext cx="7621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85800" y="1143000"/>
            <a:ext cx="17683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9960" y="1916280"/>
            <a:ext cx="7940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lore a variety of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I understand the purposes of different resourc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consider a variety of resources: print, electronic, and hum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 give reasons for the resources I have chosen to u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computer to access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explored the School Library Website and relevant electronic databas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I understand why and how to use directories, search engines, and metasearch engi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keywords string together for best search resul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kinds of searches give me the best resul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C947-F5E6-4779-8566-E2A445874E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tage 2 Checklis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781680" y="152280"/>
            <a:ext cx="2133720" cy="2001960"/>
            <a:chOff x="6781680" y="152280"/>
            <a:chExt cx="2133720" cy="2001960"/>
          </a:xfrm>
        </p:grpSpPr>
        <p:sp>
          <p:nvSpPr>
            <p:cNvPr id="57" name=""/>
            <p:cNvSpPr/>
            <p:nvPr/>
          </p:nvSpPr>
          <p:spPr>
            <a:xfrm>
              <a:off x="6781680" y="152280"/>
              <a:ext cx="2133720" cy="2001960"/>
            </a:xfrm>
            <a:prstGeom prst="ellipse">
              <a:avLst/>
            </a:prstGeom>
            <a:solidFill>
              <a:srgbClr val="ccecff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78600" y="1487520"/>
              <a:ext cx="6843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924680" y="1487520"/>
              <a:ext cx="914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labo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77240" y="770040"/>
              <a:ext cx="1544400" cy="1079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 2 Access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64280" y="606600"/>
              <a:ext cx="662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50240" y="606600"/>
              <a:ext cx="7621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85800" y="1143000"/>
            <a:ext cx="17683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9960" y="1916280"/>
            <a:ext cx="7940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started to create my list of resourc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record citation details of the resources, including author, title, source, and page numb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her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saved or printed lists of resources, articles, or abstrac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collected the most appropriate resourc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D323-9143-4758-A877-47953FE403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tage 2 Checklis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781680" y="152280"/>
            <a:ext cx="2133720" cy="2001960"/>
            <a:chOff x="6781680" y="152280"/>
            <a:chExt cx="2133720" cy="2001960"/>
          </a:xfrm>
        </p:grpSpPr>
        <p:sp>
          <p:nvSpPr>
            <p:cNvPr id="67" name=""/>
            <p:cNvSpPr/>
            <p:nvPr/>
          </p:nvSpPr>
          <p:spPr>
            <a:xfrm>
              <a:off x="6781680" y="152280"/>
              <a:ext cx="2133720" cy="2001960"/>
            </a:xfrm>
            <a:prstGeom prst="ellipse">
              <a:avLst/>
            </a:prstGeom>
            <a:solidFill>
              <a:srgbClr val="ccecff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78600" y="1487520"/>
              <a:ext cx="6843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24680" y="1487520"/>
              <a:ext cx="914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labo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77240" y="770040"/>
              <a:ext cx="1544400" cy="1079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 2 Access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64280" y="606600"/>
              <a:ext cx="662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50240" y="606600"/>
              <a:ext cx="7621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85800" y="1143000"/>
            <a:ext cx="198108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lab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960" y="1916280"/>
            <a:ext cx="794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 findings and id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discuss the selection of resources with my peers and teacher/teacher-librari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ask my peers and teacher/teacher-librarian what other resources I might explo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 resources and research proc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had a conference with my teacher or teacher-librarian to explain my progress and choice of resourc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3B5CE-A0D2-4B07-A383-266DE5ADCA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tage 2 Checklis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781680" y="152280"/>
            <a:ext cx="2133720" cy="2001960"/>
            <a:chOff x="6781680" y="152280"/>
            <a:chExt cx="2133720" cy="2001960"/>
          </a:xfrm>
        </p:grpSpPr>
        <p:sp>
          <p:nvSpPr>
            <p:cNvPr id="77" name=""/>
            <p:cNvSpPr/>
            <p:nvPr/>
          </p:nvSpPr>
          <p:spPr>
            <a:xfrm>
              <a:off x="6781680" y="152280"/>
              <a:ext cx="2133720" cy="2001960"/>
            </a:xfrm>
            <a:prstGeom prst="ellipse">
              <a:avLst/>
            </a:prstGeom>
            <a:solidFill>
              <a:srgbClr val="ccecff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78600" y="1487520"/>
              <a:ext cx="6843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24680" y="1487520"/>
              <a:ext cx="914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labo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77240" y="770040"/>
              <a:ext cx="1544400" cy="1079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 2 Access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64280" y="606600"/>
              <a:ext cx="662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50240" y="606600"/>
              <a:ext cx="76212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85800" y="1143000"/>
            <a:ext cx="17683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9960" y="1916280"/>
            <a:ext cx="7940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 how to select general and specific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I understand how to begin with general resources and then move to specific 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the best and most suitable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scan and skim resources to get an overview of the inform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select primary and/or secondary sources for my top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find the best resources for my top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EE137-85C6-4B32-BD4C-876328DA7A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21960" y="101520"/>
            <a:ext cx="76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ocating Sources of Information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37160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RESOURCES TO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ce Materi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encyclopedias (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lier Encyclope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bject-specific encyclopedias (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nds and Peo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ctionaries and thesau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manacs and yearboo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lases and m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n-Fiction Boo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ction Boo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33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76920" y="3352680"/>
            <a:ext cx="2895480" cy="138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2ACB1-4096-4B14-AB3F-35AF71EF04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21960" y="101520"/>
            <a:ext cx="76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ocating Sources of Information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371600"/>
            <a:ext cx="5791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RESOURCES TO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iodicals and Newspap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nt periodical art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nt newspaper art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periodical databases        (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BSCO, Electric Libr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newspaper databases      (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rtual News Libr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alized online databases      (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gill on Lit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33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243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1884240" cy="221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FF579-3F9D-4CE2-8BAE-371F60E113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21960" y="101520"/>
            <a:ext cx="76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ocating Sources of Information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371600"/>
            <a:ext cx="5791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RESOURCES TO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 and Med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 and World Wide Web (School Library Websit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ideos and DVDs (see TDSB MediaNet video catalogu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Ds and audio ta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appl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vision and radio pro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33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243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768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PMSE001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2057400" cy="20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16F95-56D5-4F91-9E3E-3BC485FF33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21960" y="101520"/>
            <a:ext cx="76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ocating Sources of Information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–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Check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3716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RESOURCES TO 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ty Resour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mily, friends, and teach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, college, and university libra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ty services, directories, and organ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ment agen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de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 and industry sources (e.g., travel agenc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phone directories (white, blue, and yellow p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t galleries and museu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akers and experts (for presentations and interview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338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243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768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24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WMN001" descr=""/>
          <p:cNvPicPr/>
          <p:nvPr/>
        </p:nvPicPr>
        <p:blipFill>
          <a:blip r:embed="rId1"/>
          <a:stretch/>
        </p:blipFill>
        <p:spPr>
          <a:xfrm>
            <a:off x="6477120" y="990720"/>
            <a:ext cx="1981080" cy="176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00E9-4EB0-4A53-8B53-EECB752227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1:57:46Z</dcterms:created>
  <dc:creator>037763</dc:creator>
  <dc:description/>
  <dc:language>en-US</dc:language>
  <cp:lastModifiedBy>TDSB</cp:lastModifiedBy>
  <dcterms:modified xsi:type="dcterms:W3CDTF">2007-10-19T13:02:26Z</dcterms:modified>
  <cp:revision>21</cp:revision>
  <dc:subject/>
  <dc:title>The Power of Research</dc:title>
</cp:coreProperties>
</file>